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354B-5743-496B-A58E-6E94ECBC6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E0CB-34D0-401C-A75F-7EFEDBDF0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13FA-06D3-4C32-9CEA-4386FB1B4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A736-7A6F-4B18-BB0C-B291C19D4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F807-FF10-478B-82F5-C0D0C56D7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1AEE-5EB0-4FDE-89D6-9D78D30B1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57A5-CA12-4276-AE17-EA9BA65BF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B715-14F4-423E-9633-5B34BA84A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F1C8-0D59-40A9-9E64-B4A647FA5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E5A7-DBF6-4989-8842-91AC53778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0D05-7BB2-42DA-97A5-11357A135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B84D-AE5D-48F0-8EB7-C07457F26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2A87-050E-483B-8F47-1550ADCC0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6513-A28C-4063-A6DE-66324E5FB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1571-93C6-476F-9A4A-76AF34755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0215-025F-46D5-ACED-CB822CE63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DF5F-4149-4F2E-8AAD-EEBC7BC72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491E-786F-4DAA-ADA2-E949D9DCA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E4DF-AECD-4F87-9188-2E51BC8F5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CF1B-8B6A-4E07-BEFC-211DF0DEC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8A4E-C4F1-48C9-9968-E949AF999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4128-B295-4CD9-8EE0-BE8ED5088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70A8-963F-4BFC-9DC3-24AF9AA35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90720" y="1676160"/>
            <a:ext cx="7162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SE "RUNNING" SONGS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AKE IT ON THE R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AKE THE MONEY AND R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12680" y="4876920"/>
            <a:ext cx="7162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K  FLOY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28880" y="762120"/>
            <a:ext cx="7086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UN LIKE HE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YAN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UN TO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A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LONG R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PET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500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UNNIN' DOWN A DREA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AND ON THE R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N  HA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62120"/>
            <a:ext cx="7238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UNNIN' WITH THE DEVI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685800" y="4876920"/>
            <a:ext cx="7848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HA  AND  THE  VANDEL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OWHERE TO R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UN LIKE HE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SPRINGST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ORN TO R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O  SPEEDWA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28880" y="762120"/>
            <a:ext cx="7086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AKE IT ON THE R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TEVE  MILLER  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5800" y="76212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AKE THE MONEY AND R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UN TO Y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LONG R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UNNIN' DOWN A DREA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2396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AND ON THE R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UNNIN' WITH THE DEVI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OWHERE TO R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ORN TO R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32:26Z</dcterms:created>
  <dc:creator>Jennifer Budzinski</dc:creator>
  <dc:description/>
  <dc:language>en-US</dc:language>
  <cp:lastModifiedBy>Erich Friedman</cp:lastModifiedBy>
  <dcterms:modified xsi:type="dcterms:W3CDTF">2020-08-29T17:54:02Z</dcterms:modified>
  <cp:revision>330</cp:revision>
  <dc:subject/>
  <dc:title>Slide 1</dc:title>
</cp:coreProperties>
</file>