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514D-8CD8-4514-9B3F-EE68C9A63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2AF-DFE1-41A0-A482-4046B6875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9DFE-4F4F-46D8-BB1C-80FADF5F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3BA8-55D3-4161-BD71-CF37BC51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236A-BEB5-4C58-8913-5439CD404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B273-6EFA-4FC4-AF13-C80A3C9C5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817C-7056-4450-85DA-D43DE6A6C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99E5-1656-4351-8E09-82905C0F4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EB3F-3A3B-47A0-8C63-12517DF5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4D18-1738-497B-9953-BDF4F0CFE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2CD1-289C-43BC-9DEC-A5A72121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BAD8-4BF5-4CB8-85B5-878661C22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49FC-3C5C-4373-B761-2E36FB48D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DBC8-27AB-4E07-A287-B3DD678F9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FB1D-438B-47E9-A59D-75240B17C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AEE6-FDCA-4C9F-9BAD-F5693A260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19B7-45D2-4942-86E5-4C51544E9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278B-E26D-40DF-A567-9B630B97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8D3E-9B28-43AE-8051-6DD0F861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6F49-D17B-48FA-9BC3-04F959F3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33AA-029A-49E8-8417-1C9683E5E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6CDA-3AA4-4936-8DD5-8B432B5E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33B-C18A-47AD-93D2-E740A1E4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RUNNING" SONG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IT ON THE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MONEY AND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1268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LIKE HE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TO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50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DOWN A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D ON THE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  H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WITH THE DEV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8580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AND  THE  VANDE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WHERE TO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LIKE HE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ORN TO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O  SPEEDW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IT ON THE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EVE  MILLER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MONEY AND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TO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DOWN A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D ON THE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WITH THE DEV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WHERE TO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ORN TO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9T17:54:02Z</dcterms:modified>
  <cp:revision>330</cp:revision>
  <dc:subject/>
  <dc:title>Slide 1</dc:title>
</cp:coreProperties>
</file>