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A3DB-3EE0-4D0C-BCBA-DBB879A64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525E-B27C-4C05-A717-36452EEFE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0178B-08A0-4A12-8E1A-0D2B8F656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A154-6B63-4E0F-81BC-87AE7F0F6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D9F8E-F088-4B72-97CC-C9DF8E90E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F385-4A7E-439B-912E-69104A003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22E1-D43D-4E54-9FBF-B3D31576D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882E9-B8B3-45CB-9C76-B1205F5A2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C8DA-5F4B-4446-B4C3-14CFB36CA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AAB5C-ABD2-4576-ABF8-30724D035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217E-66EF-45AE-9C49-B41F75078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A1A4-D903-4845-8639-8A92D0AF7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7B80-C063-42A3-847F-C64421FDF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1952-91FA-4D1E-B0F9-D8FC764BF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11C5-4229-43C5-8E4B-ABE23FA81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8EB83-8DCA-4AEE-848D-71F2773EB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15D3-BC77-4131-A8A6-53F701E7C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CB33-DB60-49A1-92B3-B92CD629C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920A-8C2F-4912-A8D2-67F813E8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5BC69-1B77-43B5-A858-2CB2316FC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3FFD-3F64-475B-ADF1-6769FDDDE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56F6-D863-4FA2-97C0-2EFCE9704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A699-05A0-4B0B-91AB-F6074C59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RUNNING" SONG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IT ON THE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MONEY AND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12680" y="4876920"/>
            <a:ext cx="7162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INK  FLOY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LIKE HE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YAN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TO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EA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M  PE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76240" y="76500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DOWN A DREA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D ON THE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AN  HA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52560" y="762120"/>
            <a:ext cx="72388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WITH THE DEVI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685800" y="4876920"/>
            <a:ext cx="7848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HA  AND  THE  VANDE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WHERE TO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LIKE HE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SPRINGST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ORN TO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O  SPEEDW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IT ON THE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STEVE  MILLER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THE MONEY AND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 TO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LONG R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DOWN A DREA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D ON THE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UNNIN' WITH THE DEVI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NOWHERE TO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ORN TO R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9T17:54:02Z</dcterms:modified>
  <cp:revision>330</cp:revision>
  <dc:subject/>
  <dc:title>Slide 1</dc:title>
</cp:coreProperties>
</file>