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0F83-6641-4400-AB9A-EFEA823E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5CCA-E81B-4739-B752-3961A7E6B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BD02-13C1-4773-9078-D4AF3C32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670-8337-4087-8DD5-CD239EFB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DBFE-7322-4CD1-ADAA-5ED91355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93C-D2C6-42B7-9A2C-F79DFD6BB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98CA6-FA6A-49BF-94F7-209403466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C7E-727D-4CFD-8234-E27C974D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5AC8-8E01-447B-8A66-1E94A8C26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E2D2-0EEF-4FC6-8565-B5A389531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E1BF-FDFE-4082-9BAB-6056F6F13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67FD-D443-4A36-A00B-5BFB8C574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F2C9-145F-460C-B1F9-3CB7FCACC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86E-B077-41AD-A053-C2F2EBB78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1A5E-633C-4373-912D-178E22275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7693-9396-4BA3-B94B-75912C1E1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903-C83E-43DC-BE5E-3664C2BFB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4DDF-8B47-46B9-9329-C1BD5AFA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02D5-5C7F-4515-A2A3-C68D903F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8894-3838-4FF1-AF54-1262E5FC8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F955-2017-4BBD-A017-15859FB7F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5A89-B81B-4809-BB1B-24BAC030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DEBD-1F60-4B2D-9340-FD0CDEB8C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CAL SONG AND FILM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IS ALSO A MORGAN FREEMAN / ROBERT GUILLAUME FILM ABOUT A NEW JERSEY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EP BLUE SOMETHING SONG IS ALSO AN AUDREY HEPBURN AND GEORGE PEPPAR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SONG IS ALSO     A FILM ABOUT A PIG THAT WANTS TO BE A SHEEP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IS ALSO A TEENAGE SEX COMED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IN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CHIFFONS IS ALSO A MICHELLE PFEIFFER AND GEORGE CLOO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8484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MO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66680" y="76824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SEGER SONG IS ALSO A FILM STARRING GENE HACKMAN AS A PRIVAT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YLOR SWIFT SONG IS ALSO AN ALI MACGRAW AND RYAN O'NEAL ROMANTIC DRAMA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ÉJÀ  V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, NASH &amp; YOUNG SONG IS ALSO A DENZEL WASHINGTON TIME TRAVEL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X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IS ALSO A STEVE MARTIN AND DARYL HANNAH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SONG IS ALSO     A FILM ABOUT A PIG THAT WANTS TO BE A SHEEP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4360" y="762120"/>
            <a:ext cx="6515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SONG IS ALSO THE HIGHEST-GROSSING MOVIE OF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N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0160" y="762120"/>
            <a:ext cx="874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IS ALSO A MORGAN FREEMAN / ROBERT GUILLAUME FILM ABOUT A NEW JERSEY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AT  TIFFAN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EP BLUE SOMETHING SONG IS ALSO AN AUDREY HEPBURN AND GEORGE PEPPAR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 MCLEAN SONG IS ALSO A TEENAGE SEX COMED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CHIFFONS IS ALSO A MICHELLE PFEIFFER AND GEORGE CLOO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48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SEGER SONG IS ALSO A FILM STARRING GENE HACKMAN AS A PRIVAT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YLOR SWIFT SONG IS ALSO AN ALI MACGRAW AND RYAN O'NEAL ROMANTIC DRAMA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, NASH &amp; YOUNG SONG IS ALSO A DENZEL WASHINGTON TIME TRAVEL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IS ALSO A STEVE MARTIN AND DARYL HANNAH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Y PERRY SONG IS ALSO THE HIGHEST-GROSSING MOVIE OF THE 198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2-09-20T18:19:49Z</dcterms:modified>
  <cp:revision>338</cp:revision>
  <dc:subject/>
  <dc:title>Slide 1</dc:title>
</cp:coreProperties>
</file>