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74A-F633-4342-A0E0-93C9C028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7133-3490-46BB-AEE9-240DB3B9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300-01B2-4EB8-8971-3E9276B5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CEF-8BBF-43B7-AD83-799A3721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9A9-1DCF-487E-A3BD-EA5168C5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D96-EF00-4A91-BC05-556D6611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D84-D848-426B-8C7A-6B43F728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D21-B72A-40A1-807A-4C550186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AF71-3E29-4A66-BFBF-8D2783B6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A556-EEDB-4579-9FE0-B0F110E8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495-253A-420B-AA90-FE4D7BA4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C018-DD95-4400-941F-89BAB59D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A376-236D-4EBF-BE6F-CDFC0999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C1C-76C5-4269-9454-CE2B9BE9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2F7-FFC9-4E2F-A8B6-2BFE4369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70B6-AF8A-4A8B-B069-13AF5935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891-0985-4C45-BC6D-04BC01A5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8F9-49A5-4899-B486-619331BD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258E-02D8-4C1C-96AA-8D5D6EA8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293A-C55A-4752-B1B9-26701A39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095-63FF-4B9A-917D-F5524632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4EA-E65A-4E60-AC33-96D95DE0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52C-E745-46FD-9918-B94490BC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CAL SONG AND FILM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IS ALSO A MORGAN FREEMAN / ROBERT GUILLAUME FILM ABOUT A NEW JERSEY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EP BLUE SOMETHING SONG IS ALSO AN AUDREY HEPBURN AND GEORGE PEPPAR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SONG IS ALSO     A FILM ABOUT A PIG THAT WANTS TO BE A SHEEP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IS ALSO A TEENAGE SEX COMED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IN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CHIFFONS IS ALSO A MICHELLE PFEIFFER AND GEORGE CLOO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8484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66680" y="7682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SEGER SONG IS ALSO A FILM STARRING GENE HACKMAN AS A PRIVAT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YLOR SWIFT SONG IS ALSO AN ALI MACGRAW AND RYAN O'NEAL ROMANTIC DRAMA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À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, NASH &amp; YOUNG SONG IS ALSO A DENZEL WASHINGTON TIME TRAVEL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X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IS ALSO A STEVE MARTIN AND DARYL HANNAH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SONG IS ALSO     A FILM ABOUT A PIG THAT WANTS TO BE A SHEEP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4360" y="762120"/>
            <a:ext cx="651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SONG IS ALSO THE HIGHEST-GROSSING MOVIE OF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N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0160" y="762120"/>
            <a:ext cx="874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IS ALSO A MORGAN FREEMAN / ROBERT GUILLAUME FILM ABOUT A NEW JERSEY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AT  TIFFA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EP BLUE SOMETHING SONG IS ALSO AN AUDREY HEPBURN AND GEORGE PEPPAR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IS ALSO A TEENAGE SEX COMED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CHIFFONS IS ALSO A MICHELLE PFEIFFER AND GEORGE CLOO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48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SEGER SONG IS ALSO A FILM STARRING GENE HACKMAN AS A PRIVAT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YLOR SWIFT SONG IS ALSO AN ALI MACGRAW AND RYAN O'NEAL ROMANTIC DRAMA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, NASH &amp; YOUNG SONG IS ALSO A DENZEL WASHINGTON TIME TRAVEL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IS ALSO A STEVE MARTIN AND DARYL HANNAH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SONG IS ALSO THE HIGHEST-GROSSING MOVIE OF THE 19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9-20T18:19:49Z</dcterms:modified>
  <cp:revision>338</cp:revision>
  <dc:subject/>
  <dc:title>Slide 1</dc:title>
</cp:coreProperties>
</file>