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EDC1-A2FC-4965-B88F-4EC90CE43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0F7A-F2D6-49FE-80C4-B3A1FD8B6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684A-BE42-4745-85EB-1CC062E92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C74D-9586-4438-BD05-DE2736E24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44C2-BBA0-4EC0-9490-78EAC663B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3AB1-818C-493E-A853-C035AAB15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FE7B-7B29-4AA9-AB10-9D0756DBE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AAF9-F839-4D47-9220-418595A6D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0AE7-B764-4419-94E8-54E5FB88A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BE9B-BAA6-452E-9073-358A3736E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E9BB-CE7E-44AA-9CFC-BCD5C723B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398F-F845-4866-BAA4-BDDCCC9E7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04E2-2930-4F68-8F85-322C2A075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95DE-D7FF-4461-856E-07370B64B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680C-EBC4-43E6-8C24-65ACC6FBB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BB33-96A1-4C16-BA71-6B9164E45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0DF1-0B7F-4447-B292-AD2E345CC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978A-0AC0-40DE-B06B-F5A37372E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4641-A249-4369-A582-E12A27707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51BE-111A-40F1-87EE-AED03F9AE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68BD-CA77-46F5-B98E-429F5624D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A483-6F0E-4BED-86CD-2EDCB600F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81E5-F7BA-4CDD-A5EE-BE82FC7D5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52560" y="133344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SINGERS WHEN THEY WERE YOUNG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260440" y="1295280"/>
            <a:ext cx="462312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079800" y="1295280"/>
            <a:ext cx="2984400" cy="35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Y  WINE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025800" y="1295280"/>
            <a:ext cx="3092400" cy="368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SPRINGS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933640" y="1295280"/>
            <a:ext cx="3276720" cy="37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G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927520" y="1295280"/>
            <a:ext cx="32889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184560" y="1325520"/>
            <a:ext cx="277488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O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265480" y="1295280"/>
            <a:ext cx="46130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K  JA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158920" y="1312920"/>
            <a:ext cx="482616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HA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125880" y="1295280"/>
            <a:ext cx="2892240" cy="36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025800" y="1295280"/>
            <a:ext cx="3092400" cy="36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NO  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644920" y="1295280"/>
            <a:ext cx="38541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260440" y="1295280"/>
            <a:ext cx="4623120" cy="361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3079800" y="1295280"/>
            <a:ext cx="2984400" cy="358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933640" y="1295280"/>
            <a:ext cx="3276720" cy="37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927520" y="1295280"/>
            <a:ext cx="3288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184560" y="1325520"/>
            <a:ext cx="277488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265480" y="1295280"/>
            <a:ext cx="46130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58920" y="1312920"/>
            <a:ext cx="482616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125880" y="1295280"/>
            <a:ext cx="2892240" cy="36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644920" y="1295280"/>
            <a:ext cx="38541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9-20T18:15:35Z</dcterms:modified>
  <cp:revision>290</cp:revision>
  <dc:subject/>
  <dc:title>Slide 1</dc:title>
</cp:coreProperties>
</file>