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CDE4-CF69-4127-9C07-79D024FB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2E8B-5025-4D30-B86B-F813B1754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8F37-1E7A-4BE7-B07D-BE5C9AFAE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540-7DF3-4A4A-94FE-7A3269D37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F16-92F2-466A-B2EB-A58EF2D04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5B0E-E5A3-4E65-80E6-1332F460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D09F-A429-4C9A-A9CE-E921983D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1509-D642-4FF9-BA15-5255EF4E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B230-A6C3-4E53-BCCF-6D7359F3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AD2-7A53-4402-B922-F23F7802D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D525-64F9-483F-A128-F8CD6BE09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F8A9-F401-43A1-B32C-26BDAFEFC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96AE-4049-4C75-9862-CEE1BE29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0554-8FA9-40D7-AB52-2EF278FF6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F3A4-894E-4DC6-B2FA-F4F15BDE6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3B52-8EA2-4146-ACD4-701CF0A47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79A-79B9-4237-B63F-C3E0A4FC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B195-D169-425F-B44A-007AF0B10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62D7-6226-4945-AF73-2B817B83A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DBF5-92DD-4747-9E0D-371F88C2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BA51-08B5-40C1-B189-9E97C32BE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55F-F5D4-45CE-8D2A-586FF9E5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B7E1-956F-45F2-AA81-CCF28ABAC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133344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60440" y="1295280"/>
            <a:ext cx="462312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WINE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25800" y="1295280"/>
            <a:ext cx="3092400" cy="36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84560" y="1325520"/>
            <a:ext cx="277488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65480" y="1295280"/>
            <a:ext cx="461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58920" y="1312920"/>
            <a:ext cx="48261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H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25880" y="1295280"/>
            <a:ext cx="289224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25800" y="1295280"/>
            <a:ext cx="309240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NO  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60440" y="1295280"/>
            <a:ext cx="462312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84560" y="1325520"/>
            <a:ext cx="27748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65480" y="1295280"/>
            <a:ext cx="461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58920" y="1312920"/>
            <a:ext cx="482616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25880" y="1295280"/>
            <a:ext cx="289224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20T18:15:35Z</dcterms:modified>
  <cp:revision>290</cp:revision>
  <dc:subject/>
  <dc:title>Slide 1</dc:title>
</cp:coreProperties>
</file>