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A07B-B407-44E9-9740-BC2355F52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E457-F7D8-4228-8406-A9D349D34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47E1-B8CF-4B46-AF4F-C97360AA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BB32-47BF-4D9A-A8E3-0EFC9DC9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0F15-F334-4F5E-A500-B70DFC32D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FD87-3DEB-422F-B65A-AF7E7B9A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F45E-1270-477E-B898-B55210111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50D9-3164-4DD1-B086-BEFD8DBA1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A4C4-F217-4E04-8957-7702C9511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D50B-E7EB-4785-B7DB-34DC0CB24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65F3-1742-4300-B280-9EEBD3C1D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84E47-276F-497E-81D0-69CEE87C2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EEDE-442B-44CE-BD96-31B2D8318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E9B87-DD52-4D20-8B2B-BFC707956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3A40-8117-4668-BCC7-CE61320F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AB7B-FCDA-4E6A-8251-B5CFA4CE5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AB4C-D211-4F90-A5A7-A5095BF8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4EDF-12F7-4260-8628-4DC5A7FE7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9136-06BE-425B-A814-BB2C63A3A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256-1E96-4C00-A91F-BFF29EDF3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B9B3-DCC9-4E52-8080-F3EBB8BF1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E2AA-7AB5-4AD8-BE6F-90A52F1D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223FC-072A-46E5-B872-3BDA0D47E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NG SUBS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5440" y="761760"/>
            <a:ext cx="849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#1  SONG TITLE BECOMES A #1 EURYTHMICS SONG TITLE  WHEN PRECEDED BY "SWE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#1 SONG TITLE BECOMES A #1 SONNY AND CHER SONG TITLE  WHEN PRECEDED BY "I GO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3240" y="762120"/>
            <a:ext cx="7877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#1 SONG TITLE BECOMES A LADY GAGA #1 SONG TITLE WHEN FOLLOWED BY THE WORD "ROMA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51000" y="762120"/>
            <a:ext cx="8442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BEACH BOYS #1 SONG TITLE WHEN FOLLOWED BY "ME RHOND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2680" y="762120"/>
            <a:ext cx="8918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IVIA NEWTON JOHN #1 SONG TITLE BECOMES THE TITLE OF THE HIGHEST-CHARTING SONG BY STEPPENWOLF WHEN FOLLOWED BY "CARPET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90520" y="762120"/>
            <a:ext cx="8562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#1 SONG TITLE BECOMES THE TITLE OF THE HIGHEST-CHARTING SONG BY SUGARLOAF WHEN PRECEDED BY "GREEN-EY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54200" y="762120"/>
            <a:ext cx="7635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 RIDA #1 SONG TITLE BECOMES THE TITLE OF #1 SONG BY WAR WHEN FOLLOWED BY "RI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84080" y="762120"/>
            <a:ext cx="757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ELE #1 SONG    TITLE BECOMES A BEATLES #1 SONG TITLE WHEN FOLLOWED BY "GOODB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ANK  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9560" y="762120"/>
            <a:ext cx="8264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NIS MORISSETTE #1 SONG TITLE BECOMES A #1 ARIANA GRANDE SONG TITLE  WHEN FOLLOWED BY "NEX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4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CHAEL JACKSON #1 SONG TITLE BECOMES A LADY GAGA #1 SONG TITLE WHEN FOLLOWED BY THE WORD "ROMA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66760" y="762120"/>
            <a:ext cx="8610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#1 AVERAGE WHITE BAND SONG TITLE WHEN PRECEDED BY "BEST O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E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18960" y="762120"/>
            <a:ext cx="8506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EETWOOD MAC #1  SONG TITLE BECOMES A #1 EURYTHMICS SONG TITLE  WHEN PRECEDED BY "SWEE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68200" y="762120"/>
            <a:ext cx="860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YX #1 SONG TITLE BECOMES A #1 SONNY AND CHER SONG TITLE  WHEN PRECEDED BY "I GOT YOU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69720" y="761760"/>
            <a:ext cx="8404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BEACH BOYS #1 SONG TITLE WHEN FOLLOWED BY "ME RHOND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8000" y="762120"/>
            <a:ext cx="8926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LIVIA NEWTON JOHN #1 SONG TITLE BECOMES THE TITLE OF THE HIGHEST-CHARTING SONG BY STEPPENWOLF WHEN FOLLOWED BY "CARPET RID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2680" y="762120"/>
            <a:ext cx="83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ENNY ROGERS #1 SONG TITLE BECOMES THE TITLE OF THE HIGHEST-CHARTING SONG BY SUGARLOAF WHEN PRECEDED BY "GREEN-EY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 RIDA #1 SONG TITLE BECOMES THE TITLE OF #1 SONG BY WAR WHEN FOLLOWED BY "RI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2680" y="761760"/>
            <a:ext cx="7638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DELE #1 SONG    TITLE BECOMES A BEATLES #1 SONG TITLE WHEN FOLLOWED BY "GOODBY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2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ANIS MORISSETTE #1 SONG TITLE BECOMES A #1 ARIANA GRANDE SONG TITLE  WHEN FOLLOWED BY "NEX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67840" y="761760"/>
            <a:ext cx="8605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#1 SONG TITLE BECOMES A #1 AVERAGE WHITE BAND SONG TITLE WHEN PRECEDED BY "BEST OF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10-08T00:07:00Z</dcterms:modified>
  <cp:revision>402</cp:revision>
  <dc:subject/>
  <dc:title>Slide 1</dc:title>
</cp:coreProperties>
</file>