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EB02-B3BE-4A70-B9E7-AC9C4BAD9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2EBF-EE7E-4683-9AB0-66BC03024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C6DF-325C-402F-BE92-B2357D387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E287-2466-4597-BD0F-318C021E9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C6B2-C89E-40EE-A66E-ACA068D5A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7CED-BE1E-47F1-A895-9C68094F3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FAF9-D72F-4657-A4B1-6C5D7AE5F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FD3F-B84B-429D-B1FD-6FB0102D8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FB0B-D150-4865-B034-1C619BAB4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DB2A-14EE-446D-A808-5F68AD083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128B-0563-4970-8DBB-04578EEF6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D5ED-727A-48BC-A942-67C1490AB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8FCE-C59F-428B-9C01-E727F716B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576E-B18F-4FB0-8CB8-13D857C05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95AA-778F-4171-B86E-1C767E9E8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F6DE-2455-4E94-A2A8-9336F26F8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1641-8273-40F3-A5AF-A3FDF0E78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3630-1798-4620-92E9-364829445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61B5-3EDD-4B5C-80EE-C77852C4A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3D3B-69D6-4D65-ACD3-88AD08B66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9B5E-E099-486B-AF86-D0E38A10A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A581-8424-4444-9598-F7FB19BE8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5895-3B18-4E0F-A26E-3E3DB2734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SUB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5440" y="761760"/>
            <a:ext cx="849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EETWOOD MAC #1  SONG TITLE BECOMES A #1 EURYTHMICS SONG TITLE  WHEN PRECEDED BY "SWE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YX #1 SONG TITLE BECOMES A #1 SONNY AND CHER SONG TITLE  WHEN PRECEDED BY "I GOT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33240" y="762120"/>
            <a:ext cx="7877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AEL JACKSON #1 SONG TITLE BECOMES A LADY GAGA #1 SONG TITLE WHEN FOLLOWED BY THE WORD "ROMA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51000" y="762120"/>
            <a:ext cx="8442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#1 SONG TITLE BECOMES A BEACH BOYS #1 SONG TITLE WHEN FOLLOWED BY "ME RHOND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2680" y="762120"/>
            <a:ext cx="8918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LIVIA NEWTON JOHN #1 SONG TITLE BECOMES THE TITLE OF THE HIGHEST-CHARTING SONG BY STEPPENWOLF WHEN FOLLOWED BY "CARPET R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90520" y="762120"/>
            <a:ext cx="8562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NNY ROGERS #1 SONG TITLE BECOMES THE TITLE OF THE HIGHEST-CHARTING SONG BY SUGARLOAF WHEN PRECEDED BY "GREEN-EY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54200" y="762120"/>
            <a:ext cx="7635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 RIDA #1 SONG TITLE BECOMES THE TITLE OF #1 SONG BY WAR WHEN FOLLOWED BY "RI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84080" y="762120"/>
            <a:ext cx="7575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ELE #1 SONG    TITLE BECOMES A BEATLES #1 SONG TITLE WHEN FOLLOWED BY "GOODBY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ANK  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9560" y="762120"/>
            <a:ext cx="8264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NIS MORISSETTE #1 SONG TITLE BECOMES A #1 ARIANA GRANDE SONG TITLE  WHEN FOLLOWED BY "NEX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04960" y="762120"/>
            <a:ext cx="753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AEL JACKSON #1 SONG TITLE BECOMES A LADY GAGA #1 SONG TITLE WHEN FOLLOWED BY THE WORD "ROMA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66760" y="762120"/>
            <a:ext cx="8610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#1 SONG TITLE BECOMES A #1 AVERAGE WHITE BAND SONG TITLE WHEN PRECEDED BY "BEST O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18960" y="762120"/>
            <a:ext cx="8506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EETWOOD MAC #1  SONG TITLE BECOMES A #1 EURYTHMICS SONG TITLE  WHEN PRECEDED BY "SW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68200" y="762120"/>
            <a:ext cx="8607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YX #1 SONG TITLE BECOMES A #1 SONNY AND CHER SONG TITLE  WHEN PRECEDED BY "I GOT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69720" y="761760"/>
            <a:ext cx="8404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#1 SONG TITLE BECOMES A BEACH BOYS #1 SONG TITLE WHEN FOLLOWED BY "ME RHOND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8000" y="762120"/>
            <a:ext cx="892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LIVIA NEWTON JOHN #1 SONG TITLE BECOMES THE TITLE OF THE HIGHEST-CHARTING SONG BY STEPPENWOLF WHEN FOLLOWED BY "CARPET R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2680" y="762120"/>
            <a:ext cx="8377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NNY ROGERS #1 SONG TITLE BECOMES THE TITLE OF THE HIGHEST-CHARTING SONG BY SUGARLOAF WHEN PRECEDED BY "GREEN-EY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 RIDA #1 SONG TITLE BECOMES THE TITLE OF #1 SONG BY WAR WHEN FOLLOWED BY "RI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42680" y="761760"/>
            <a:ext cx="7638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ELE #1 SONG    TITLE BECOMES A BEATLES #1 SONG TITLE WHEN FOLLOWED BY "GOODBY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5920" y="761760"/>
            <a:ext cx="8372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NIS MORISSETTE #1 SONG TITLE BECOMES A #1 ARIANA GRANDE SONG TITLE  WHEN FOLLOWED BY "NEX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67840" y="761760"/>
            <a:ext cx="860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#1 SONG TITLE BECOMES A #1 AVERAGE WHITE BAND SONG TITLE WHEN PRECEDED BY "BEST O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10-08T00:07:00Z</dcterms:modified>
  <cp:revision>402</cp:revision>
  <dc:subject/>
  <dc:title>Slide 1</dc:title>
</cp:coreProperties>
</file>