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D47-18CE-4BED-AD09-D6CE2FF1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87E2-FB42-41FF-ACB1-B73E0E183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3614-FDC7-43C2-8B75-C9D4F13A7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8689-6CE9-47D0-890F-53C519C0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34A2-6DAF-4F38-ABB6-4B5FCD248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C262-C42F-43B7-A111-EE5ED8C2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1E6C-3DED-492E-B7E6-2DBC025CC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58E1-DD38-4F09-9333-C4F566DA6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DF2C-4467-47F9-82CB-E316455E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16B8-4EF6-4D35-AAED-68F21E396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0D55-0B1D-4145-BEA8-520EF209D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BE98-F4E2-49C2-A64C-8CCD94C64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E964-94F0-4B0D-9DAC-FB23964E4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429A-DC1D-4C4B-8916-8BDF9C79E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AC016-3D59-4F9E-B7E2-8261A6B6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A0DD-909B-4FA3-AE1B-1C5516E7F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7175-F8E9-43B4-BB8B-3CAB663F4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9D14-1B66-4FC2-9A33-2422F6936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B8C9-B817-4872-ABA0-E7535437E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679B-41E4-4EFE-9F32-47D9C8BBC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154D-CBB4-430B-B4B3-6E6361F73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A4B7-2001-4582-911E-869F973B3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B845-7592-4D34-89C8-45E2FE43D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6720" y="990360"/>
            <a:ext cx="8350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HIGHEST CHARTING SONG BY THESE MUSICAL ARTISTS WITH "DANCE" IN THE TIT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LLY PAR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LE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'S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3560" y="762120"/>
            <a:ext cx="7615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VID BOW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AFETY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5400" y="762120"/>
            <a:ext cx="7151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N WITHOUT HA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31920" y="4952880"/>
            <a:ext cx="8480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NA  DANCE  WITH  SOME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  TO  THE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31880" y="762120"/>
            <a:ext cx="76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Y AND THE FAMILY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  HALL 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NG CH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R  MAMA  DON'T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65240" y="762120"/>
            <a:ext cx="7012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GGINS AND MESS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952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SHE  WANTS  TO  DO  IS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82800" y="762120"/>
            <a:ext cx="71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 HEN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VID BOW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JANE'S  LAST  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6160" y="762120"/>
            <a:ext cx="7589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PETTY AND THE HEARTBREA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E  THE  LAST  DANCE  FOR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47880" y="762120"/>
            <a:ext cx="724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LLY PAR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  WITH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54160" y="762120"/>
            <a:ext cx="86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LE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N WITHOUT HA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LY AND THE FAMILY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NG CH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GGINS AND MESS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 HEN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2640" y="761760"/>
            <a:ext cx="757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PETTY AND THE HEARTBREA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05T12:19:04Z</dcterms:modified>
  <cp:revision>377</cp:revision>
  <dc:subject/>
  <dc:title>Slide 1</dc:title>
</cp:coreProperties>
</file>