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173A-A8B0-4C31-9CAA-BCBEB85A3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8FB0-1047-4488-80A4-59FDC4B47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E431-8CA6-4ABA-AC69-BA9E5371C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603B-22CC-4DDA-BD95-91F27DD8C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52C8-B9AD-4714-AA37-1694069EF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6A7A-22B6-4E36-AC82-B93DBE3C9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B1E2-F3E7-409B-A93C-8DCA86334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DBF7-E99F-480D-AEDE-BB3AC0151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47E6-0D79-45F2-ABEB-6656B8360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163F-B21D-4177-B343-4C2D997A5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422E-E7EF-46B9-ABB5-F1B349CE9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C761-0D71-4AE9-A55C-D525DB44D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DAF1-12C2-49BB-AEB9-0D63F9575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9B7D-365F-4DDF-9430-10CB35275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72D5-A1BC-44F6-8BF8-77C95A456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5601-CD27-45E4-ADF7-D7BB70C40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4BD0-BB27-4B78-B502-72DD65DDB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C233-6BD6-43FC-A68A-C12428A8E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FF44-219D-451A-866B-B26AD095A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CACB-F2CC-4B02-BF59-F63393F51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F19D-F185-4A3E-8F08-2BB0B2C4D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59AC-082F-47E7-B2AA-EF46AAB60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2F9E-A3DE-44BF-AB7B-1C462F938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6720" y="990360"/>
            <a:ext cx="83505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 HIGHEST CHARTING SONG BY THESE MUSICAL ARTISTS WITH "DANCE" IN THE TITL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LLY PAR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271440" y="762120"/>
            <a:ext cx="8601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LE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T'S  D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63560" y="762120"/>
            <a:ext cx="7615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VID BOW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AFETY  D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95400" y="762120"/>
            <a:ext cx="71517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N WITHOUT HA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31920" y="4952880"/>
            <a:ext cx="8480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WANNA  DANCE  WITH  SOMEBO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31920" y="762120"/>
            <a:ext cx="8480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TNEY HOUS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CE  TO  THE  MU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31880" y="762120"/>
            <a:ext cx="768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LY AND THE FAMILY ST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CE  HALL  D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NG CHU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R  MAMA  DON'T  D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065240" y="762120"/>
            <a:ext cx="7012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GGINS AND MESSI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304920" y="495288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  SHE  WANTS  TO  DO  IS  D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82800" y="762120"/>
            <a:ext cx="71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N HENL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44120" y="762120"/>
            <a:ext cx="7653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VID BOW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Y  JANE'S  LAST  D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76160" y="762120"/>
            <a:ext cx="7589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M PETTY AND THE HEARTBREAK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VE  THE  LAST  DANCE  FOR 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47880" y="762120"/>
            <a:ext cx="7248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LLY PAR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CE  WITH 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54160" y="762120"/>
            <a:ext cx="8634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LE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33040" y="761760"/>
            <a:ext cx="747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N WITHOUT HA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30120" y="762120"/>
            <a:ext cx="848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TNEY HOUS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03440" y="762120"/>
            <a:ext cx="7737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LY AND THE FAMILY ST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73000" y="761760"/>
            <a:ext cx="7398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NG CHU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95400" y="761760"/>
            <a:ext cx="7153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GGINS AND MESSI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66960" y="761760"/>
            <a:ext cx="7210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N HENL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82640" y="761760"/>
            <a:ext cx="757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M PETTY AND THE HEARTBREAK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2-11-05T12:19:04Z</dcterms:modified>
  <cp:revision>377</cp:revision>
  <dc:subject/>
  <dc:title>Slide 1</dc:title>
</cp:coreProperties>
</file>