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0BBA-CA03-467D-BA32-0D874AA74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6132-AAFA-43B3-82E3-A4BFBB4D5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AC5B-F658-4FF5-80E9-4AEACE80F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4836-D92C-4B66-9F1A-27A590A48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F252-42E2-4417-8219-8CA09FAB2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340C-26E0-4A04-806D-83B8CFFD7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C74E-CA0E-4A04-B16E-186CC7406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C312-1EDA-474D-B5DE-BC3C78538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E2EA-EC7F-4407-A49A-96E58CF2B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F39C-6AD2-4CEB-A6CB-27794BDCE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09912-8250-45A1-A7FB-0C1D837D5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72B2-6F0A-4759-B397-0DF58199B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2E5A-1444-4663-8D30-1B562C56C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1351-1545-4FF1-AB91-EDF6C7579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266F-BA42-4C14-AE07-3DCAFA539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AF71-6F05-4AFC-95BB-614BC9CBA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FFE1-53C2-4871-9B84-A42F62AC6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E5C4-62AF-4CC4-88EC-6920B7AF5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ED98-0386-4548-BAEE-9F6D3AE1D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4C5F-EDC4-45FC-8259-F5058BCCC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EEA1-529F-47F6-B804-22438D0BF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8601-098A-419F-A0CA-604C9543A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99A6-A030-4D08-AAC1-9E54BED25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14400" y="990360"/>
            <a:ext cx="7315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SANG THESE SONGS ABOUT NIGH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ECAUSE THE 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LOVE A RAINY 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C / D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295280" y="762120"/>
            <a:ext cx="6553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OU SHOOK ME ALL NIGHT LO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OUR  SEAS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638360" y="765000"/>
            <a:ext cx="586728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ECEMBER 1963    (OH WHAT A NIGHT)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SE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523880" y="762120"/>
            <a:ext cx="609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IGHT MOV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EA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8120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NIGHT BEFO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EA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NE OF THESE NIGH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  SINAT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93800"/>
            <a:ext cx="78487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TRANGERS IN THE 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TON  JOH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ATURDAY NIGHT'S ALRIGHT FOR FIGHT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OU SHOOK ME ALL NIGHT LO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REY  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UNGLASSES AT 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TI  SM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257480" y="762120"/>
            <a:ext cx="6629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ECAUSE THE 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DIE  RABBI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62120" y="762120"/>
            <a:ext cx="76197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LOVE A RAINY 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600200" y="761760"/>
            <a:ext cx="5943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ECEMBER 1963    (OH WHAT A NIGHT)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714680" y="762120"/>
            <a:ext cx="5715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IGHT MOV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NIGHT BEFO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52280" y="761760"/>
            <a:ext cx="883944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NE OF THESE NIGHT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TRANGERS IN THE 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ATURDAY NIGHT'S ALRIGHT FOR FIGHT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UNGLASSES AT 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30T01:51:30Z</dcterms:created>
  <dc:creator>Jennifer Budzinski</dc:creator>
  <dc:description/>
  <dc:language>en-US</dc:language>
  <cp:lastModifiedBy>Erich Friedman</cp:lastModifiedBy>
  <dcterms:modified xsi:type="dcterms:W3CDTF">2020-08-29T17:55:18Z</dcterms:modified>
  <cp:revision>341</cp:revision>
  <dc:subject/>
  <dc:title>Slide 1</dc:title>
</cp:coreProperties>
</file>