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677F9-D7FB-4EC5-8D4A-0A37EFE3B1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6D1B0-055E-4572-AA35-92684309DB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E9C6C-F59B-406A-9713-C2FC3BCF8C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B7CCF-D89A-48F7-99EF-E6E76A0E00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B00CC-29B6-4115-9ABD-83954376C9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C769D-0127-4520-90FB-3D5007E9CD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16DF2-3BB7-498E-A3CF-0578227898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F0DB9-2340-498A-9623-FBEC9BD47F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50BC5-1896-4251-9DA9-0AD23370DF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D5A34-B845-4122-8DE6-BD76992B9C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BC080-7180-4084-9530-3BF733BC6B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05D1C-7F5D-4B35-A698-E9BAD4D1EA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18864-9F07-4893-BC98-B9CECB1458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1BD8D-434F-468A-AC8E-68ACACC93C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288A6-B288-4AA9-A44A-7E0B61AA88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08836-4A0A-4C46-BB66-83787028E4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D8491-2C71-4D82-BB03-09865D518A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AED31-9B4E-4134-9DF9-73EDA76C80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CBCC7-2C0C-4F19-9CD6-68AB34C512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2C575-EFFD-471E-B11A-2E267B0B84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68285-0614-44DA-916F-9799F61CD0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5A480-522D-4A06-A45E-2FB71D993B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193FD-6B94-4DF8-8FAA-5877CF22E0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914400" y="990360"/>
            <a:ext cx="73152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O SANG THESE SONGS ABOUT NIGHT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228600" y="76176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BECAUSE THE NIGHT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914400" y="762120"/>
            <a:ext cx="73152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I LOVE A RAINY NIGHT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C / D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1295280" y="762120"/>
            <a:ext cx="655344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YOU SHOOK ME ALL NIGHT LONG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FOUR  SEAS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1638360" y="765000"/>
            <a:ext cx="586728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DECEMBER 1963    (OH WHAT A NIGHT)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53352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OB  SEG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1523880" y="762120"/>
            <a:ext cx="60962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NIGHT MOVE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76920"/>
            <a:ext cx="84582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BEAT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876240" y="781200"/>
            <a:ext cx="73915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THE NIGHT BEFOR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914400" y="4876920"/>
            <a:ext cx="73915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EAG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304920" y="762120"/>
            <a:ext cx="85341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ONE OF THESE NIGHT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RANK  SINATR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647640" y="793800"/>
            <a:ext cx="784872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STRANGERS IN THE NIGHT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LTON  JOH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914400" y="762120"/>
            <a:ext cx="73152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SATURDAY NIGHT'S ALRIGHT FOR FIGHTING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1257120" y="762120"/>
            <a:ext cx="6629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YOU SHOOK ME ALL NIGHT LONG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457200" y="4876920"/>
            <a:ext cx="8229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REY  HA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800280" y="762120"/>
            <a:ext cx="75438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SUNGLASSES AT NIGHT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0" y="4876920"/>
            <a:ext cx="9144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ATTI  SMI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1257480" y="762120"/>
            <a:ext cx="66294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BECAUSE THE NIGHT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DDIE  RABBIT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762120" y="762120"/>
            <a:ext cx="76197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I LOVE A RAINY NIGHT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1600200" y="761760"/>
            <a:ext cx="5943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DECEMBER 1963    (OH WHAT A NIGHT)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1714680" y="762120"/>
            <a:ext cx="5715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NIGHT MOVE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723960" y="762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THE NIGHT BEFOR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152280" y="761760"/>
            <a:ext cx="8839440" cy="201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ONE OF THESE NIGHT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723960" y="761760"/>
            <a:ext cx="76960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STRANGERS IN THE NIGHT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876240" y="761760"/>
            <a:ext cx="73915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SATURDAY NIGHT'S ALRIGHT FOR FIGHTING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SUNGLASSES AT NIGHT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30T01:51:30Z</dcterms:created>
  <dc:creator>Jennifer Budzinski</dc:creator>
  <dc:description/>
  <dc:language>en-US</dc:language>
  <cp:lastModifiedBy>Erich Friedman</cp:lastModifiedBy>
  <dcterms:modified xsi:type="dcterms:W3CDTF">2020-08-29T17:55:18Z</dcterms:modified>
  <cp:revision>341</cp:revision>
  <dc:subject/>
  <dc:title>Slide 1</dc:title>
</cp:coreProperties>
</file>