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39D5-892F-46FE-85BC-82265C2FE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A4A0-EC31-4B23-8265-90BE9B426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8742-2840-40D8-86DB-DFC0C265C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D5F9-4473-4A48-A2DD-2D50DC70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7A49-8F97-47C3-BDE0-76AFF793A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2273-EE4E-418D-B383-7CA894E69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E315-7546-4A8F-BFCF-97AD73D23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E842-45DA-4537-9464-2A081CC79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89FF-AAEA-4C59-A196-6A0AF05AB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AA72-572A-465F-B99E-6CB734BD9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D3DB-F5F1-45BB-BA9E-81C64FEA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0B19-5236-47F3-9C20-8742B128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D3FC-21D0-4B7B-AF78-5A491460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6DB5-6852-4602-AE6D-067512130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7B98-8575-436A-A6D1-67D2C871E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8231-2FC9-4EFC-92A5-5FA1ACA11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820E-9F44-40AE-80E9-FD2DE2D17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9954-6E89-45E6-A82D-09FA7F35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C15E-32A3-49AB-ACE3-00ABB105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7191-C89A-4D65-80A3-5FD7628E9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54CA-F070-419F-85DA-756859630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4D51-B70E-4E0D-9691-2EDD4C648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E630-4AC5-4560-B9E8-E40282F7C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NIGH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CAUSE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LOVE A RAIN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 / 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95280" y="762120"/>
            <a:ext cx="6553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SHOOK ME ALL NIGHT L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UR  SEA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38360" y="765000"/>
            <a:ext cx="58672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CEMBER 1963    (OH WHAT A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 MO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812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NIGHT BEFO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OF THESE N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9380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RANGERS IN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'S ALRIGHT FOR FIGH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SHOOK ME ALL NIGHT L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EY  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GLASSES AT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I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CAUSE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RABB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LOVE A RAIN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CEMBER 1963    (OH WHAT A NIGHT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 MO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NIGHT BEFO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OF THESE N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RANGERS IN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'S ALRIGHT FOR FIGH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GLASSES AT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0T01:51:30Z</dcterms:created>
  <dc:creator>Jennifer Budzinski</dc:creator>
  <dc:description/>
  <dc:language>en-US</dc:language>
  <cp:lastModifiedBy>Erich Friedman</cp:lastModifiedBy>
  <dcterms:modified xsi:type="dcterms:W3CDTF">2020-08-29T17:55:18Z</dcterms:modified>
  <cp:revision>341</cp:revision>
  <dc:subject/>
  <dc:title>Slide 1</dc:title>
</cp:coreProperties>
</file>