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6CC2-06B4-49FA-9EEF-FC20315D8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7DD2-76A2-4C37-9A93-090ACFB16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C1C5-BC53-4011-B595-C6DFAB819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61A3-5791-48AB-8263-6D22077EC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5FDB-80E1-425E-A5E1-7E2B75E3F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3A36-9B67-480A-A572-38533079A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1D01-A592-4DE4-BE03-9FF936EC4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3B5E-761D-476F-A3EC-F56361EC3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3863-D1E9-4DD2-9B4D-CDACEC797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C8E3-3FB0-4A83-A01E-8D2D961BF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E479-B4BF-47FF-B958-8AE7012D0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6A09-229C-439F-958C-44D37280D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905F-04AE-4A9F-9A93-9E41E075D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2C7D-39E4-4F2C-BBDA-381199604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BA52-C295-4EE5-B7BC-C20863963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E67C-05A9-442B-B0B3-B95F450DA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C1AC-AFEC-4AC9-9E74-568CEF42B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45BA-F2B8-4109-BFBD-AA28F53A2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C49F-D2D7-4FD0-8899-303DBC33C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5562-D1B0-428D-818D-FF2EA7E07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2C9D-A077-4499-AAEF-751360EAF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DDEC-BA30-413B-96B2-2967118FC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6092-0E15-4942-ACB3-E4A7314CC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990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"YELLOW" SON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FIELD OF YELLOW DAIS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MOON WAS YELLOW (AND THE NIGHT WAS YOUNG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D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ELL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790640" y="762120"/>
            <a:ext cx="556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YELLOW BRICK RO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3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OV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ELLOW YELL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276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ELLOW SUBMARINE"? (WHICH BEATLE SANG THIS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AN  HY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SY BITSY TEENIE WEENIE YELLOW POLKADOT BIKIN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ZAP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23880" y="762120"/>
            <a:ext cx="6096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EAT THE YELLOW SN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IG YELLOW TAX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ELL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ORLANDO  AND  D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IE A YELLOW RIBBON ROUND THE OLE OAK TR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FIELD OF YELLOW DAIS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SIN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MOON WAS YELLOW (AND THE NIGHT WAS YOUNG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YELLOW BRICK RO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ELLOW YELL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ELLOW SUBMARINE"? (WHICH BEATLE SANG THIS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SY BITSY TEENIE WEENIE YELLOW POLKADOT BIKIN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562040" y="761760"/>
            <a:ext cx="601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EAT THE YELLOW SN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IG YELLOW TAX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IE A YELLOW RIBBON ROUND THE OLE OAK TR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2T17:36:44Z</dcterms:created>
  <dc:creator>Jennifer Budzinski</dc:creator>
  <dc:description/>
  <dc:language>en-US</dc:language>
  <cp:lastModifiedBy>Erich Friedman</cp:lastModifiedBy>
  <dcterms:modified xsi:type="dcterms:W3CDTF">2020-08-29T17:56:39Z</dcterms:modified>
  <cp:revision>350</cp:revision>
  <dc:subject/>
  <dc:title>Slide 1</dc:title>
</cp:coreProperties>
</file>