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CF41-A803-40DF-8A2F-7C5EB2920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E440-EE02-471A-B21F-294328C76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830A-5FDA-4BAC-86D4-7332B478A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A69D-3709-441D-9D15-D40D99815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DF9A-3226-497D-BC7B-1A0A6720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1264-5963-447E-B454-7E3F890B0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E8DD-6D65-4B16-860E-73ACF18E1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6A7A-3C6C-4DC7-A586-9C99656D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167F-7897-48EC-A97F-F87F05E8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0193-CA40-46C7-B691-98A1D2207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AADF-FB20-43AA-BE5C-384E7C6CF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20A1-4275-4780-87BF-9F2FB1D86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CB15-7C85-4847-B6E1-E10E9CBB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84FC-40C6-472E-9850-7149A566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7258-5BB6-4AAD-B17D-12403F2CF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35BB-21A4-4A68-A878-0BF96BCA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FECB-04BD-4AEC-BA90-9E50657A0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331-CABC-4E5F-9CB0-8347FCEAD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11E4-5860-4474-9B92-01751ED4D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F104-DE4A-43F3-8881-1EDECC370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B69B-E2BC-40C3-8F2B-022B16DB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1916-C422-43CB-9F45-E4011E740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0486-C017-4875-99B2-B0A187C54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YELLOW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FIELD OF YELLOW DAIS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OON WAS YELLOW (AND THE NIGHT WAS YOUNG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90640" y="762120"/>
            <a:ext cx="55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YELLOW BRICK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O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LOW 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 SUBMARINE"? (WHICH BEATLE SANG THIS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H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SY BITSY TEENIE WEENIE YELLOW POLKADOT BIKIN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ZAP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3880" y="762120"/>
            <a:ext cx="6096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EAT THE YELLOW S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YELLOW 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ORLANDO  AND  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E A YELLOW RIBBON ROUND THE OLE OAK T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FIELD OF YELLOW DAIS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OON WAS YELLOW (AND THE NIGHT WAS YOUNG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YELLOW BRICK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LOW 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LLOW SUBMARINE"? (WHICH BEATLE SANG THIS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SY BITSY TEENIE WEENIE YELLOW POLKADOT BIKIN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EAT THE YELLOW S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YELLOW 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IE A YELLOW RIBBON ROUND THE OLE OAK T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17:36:44Z</dcterms:created>
  <dc:creator>Jennifer Budzinski</dc:creator>
  <dc:description/>
  <dc:language>en-US</dc:language>
  <cp:lastModifiedBy>Erich Friedman</cp:lastModifiedBy>
  <dcterms:modified xsi:type="dcterms:W3CDTF">2020-08-29T17:56:39Z</dcterms:modified>
  <cp:revision>350</cp:revision>
  <dc:subject/>
  <dc:title>Slide 1</dc:title>
</cp:coreProperties>
</file>