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0CC-5B20-4719-9247-8484D27D9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C748-E688-4371-AF1E-DA8BE318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3172-AE34-4DE1-A061-E21D2769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7EB6-20AE-4C62-B1D0-AE31E0DD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C220-87C8-4C43-A1C9-D543D3A6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86CF-E58E-4CBF-9F36-D018ABC40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1BE2-EA91-4269-BA8D-2B91199A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441F-3283-4F97-9A1B-7D49CDB27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0886-A2F4-4A17-A44C-0000B0694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0425-DF03-41E1-8A0A-F35F1B00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9E79-2715-4A89-AE4C-32C4566FE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1E15-9A8D-43FF-A227-E7AF37F7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CA61-02D0-4B99-A9A0-59FEF455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FB1-874B-4305-AF46-764565598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BC3D-0F28-4BD7-A725-A2383E916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D45D-5BC7-4CA8-A0E4-70DD0D0BA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9C75-392F-4A7D-9DF1-A96DB33BB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65EA-6CA3-40B1-91C5-4C3EA9CB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1510-8876-49F2-90A2-E3ABC2451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1C78-FBE1-47CA-B5BE-29B669E25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096F-56CB-43D2-BDFF-E4EDC09ED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48D7-BD58-4E84-BF51-9194F7E2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7BB-E96B-46D4-9A52-B8B33DF8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HOM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 GREEN GRASS OF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FLETCHER MEMORIAL HOME", "BRING THE BOYS BACK HOME", &amp; "NOBOD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TR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LONG WA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'S LEAVING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92000"/>
            <a:ext cx="60199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COUNTRY RO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000 LIGHT YEARS FROM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5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62040" y="762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TAKE YOU HOM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 GREEN GRASS OF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FLETCHER MEMORIAL HOME", "BRING THE BOYS BACK HOME", &amp; "NOBOD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LONG WA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'S LEAVING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COUNTRY ROA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000 LIGHT YEARS FROM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TAKE YOU HOM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16:22Z</dcterms:created>
  <dc:creator>Jennifer Budzinski</dc:creator>
  <dc:description/>
  <dc:language>en-US</dc:language>
  <cp:lastModifiedBy>Erich Friedman</cp:lastModifiedBy>
  <dcterms:modified xsi:type="dcterms:W3CDTF">2020-08-29T17:57:52Z</dcterms:modified>
  <cp:revision>331</cp:revision>
  <dc:subject/>
  <dc:title>Slide 1</dc:title>
</cp:coreProperties>
</file>