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CA86-B1D0-4568-85E0-401891F7E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5D77-6203-4A9C-A740-8E629B116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F954-97D8-4214-8513-39BECE204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D3C1-20DE-4195-93CA-8526482B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1312-D6A1-4979-8BE5-C3DB531B7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E7D4-F10A-412E-B2CE-05425CFCE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0AC7-9983-4CC4-97B2-77262CA6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6322-AF77-43F1-B696-F3FBD275E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0403-2D36-4E6C-99A7-F9626BD2A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E67F-F4C8-48CC-8D02-A5903F5F2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6F1F-4711-4ECE-B93F-70CD88C7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C83F-9ACD-4EAD-840B-92B0CB55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391C-9983-4D19-970D-21B7FA23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F66-2754-48BA-8B7F-9D4B5CBF21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A262-1673-4B58-ABDE-2F5BD7149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AC14-BAA3-467D-B154-135E8DA2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C3C7-60B1-4BA5-BCA5-AA98208E5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3347-CF5B-40EA-89D1-D069F227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84C-67D4-48B6-800E-492E6AC81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D30E-DDFF-4478-B831-E5C0A90C5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DE06-26E7-4E61-8571-507964F35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EB3-6C3A-4162-B4BB-EE556270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5D8E-B7E6-4B5D-824E-DC28F55C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HOM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92000"/>
            <a:ext cx="60199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5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62040" y="762120"/>
            <a:ext cx="6019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REEN GREEN GRASS OF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FLETCHER MEMORIAL HOME", "BRING THE BOYS BACK HOME", &amp; "NOBOD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LONG WAY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E'S LEAV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ME HOME COUNTRY ROA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2000 LIGHT YEARS FROM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LET ME TAKE YOU HOME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1:16:22Z</dcterms:created>
  <dc:creator>Jennifer Budzinski</dc:creator>
  <dc:description/>
  <dc:language>en-US</dc:language>
  <cp:lastModifiedBy>Erich Friedman</cp:lastModifiedBy>
  <dcterms:modified xsi:type="dcterms:W3CDTF">2020-08-29T17:57:52Z</dcterms:modified>
  <cp:revision>331</cp:revision>
  <dc:subject/>
  <dc:title>Slide 1</dc:title>
</cp:coreProperties>
</file>