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4122-EB48-479A-BCE7-44B2ADB19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26F2-0A77-44A4-8C40-2D374660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DC8-3E67-4A76-81E0-431212C9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3D9F-BD82-4F87-B2FF-0A4F7043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DFC1-136F-4CB0-B6FF-3163D4AC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23D-5B7A-4070-88BC-E56E24E8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FAD-21D6-4686-A86D-68E22EBF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570C-C7E2-40C7-8CFF-D012A6027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7B30-866E-4E54-BAF6-7E8ACA85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3FC3-74F7-4B50-AB1D-373DFC57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850B-E1C7-42D7-A1AC-E12931ED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8E1-D4EB-406F-B3A8-6FAA141A8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A255-723E-451A-8296-26D6C80AF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86DC-72D7-4CD5-8CFD-268E1F20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D27-91CF-42EC-825B-01438E70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3ADC-4F49-4367-9B92-7C06648DB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6873-454B-4102-B384-628944814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DAD9-27B3-4AFC-BA76-0A6D8A02F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0FE3-DFE2-4067-98DC-84EB2F0E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1275-66A3-4C62-9978-6AAC984BE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B0D2-1C76-4A9E-8F16-4012D652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CCC2-ECD2-437A-B453-76B5AF532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4302-DCC4-40A5-9FD0-88F44D27E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HOM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 GREEN GRASS OF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FLETCHER MEMORIAL HOME", "BRING THE BOYS BACK HOME", &amp; "NOBOD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TR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LONG WA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'S LEAVING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92000"/>
            <a:ext cx="60199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000 LIGHT YEARS FROM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5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TAKE YOU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 GREEN GRASS OF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FLETCHER MEMORIAL HOME", "BRING THE BOYS BACK HOME", &amp; "NOBOD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LONG WA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'S LEAVING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COUNTRY ROA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000 LIGHT YEARS FROM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TAKE YOU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16:22Z</dcterms:created>
  <dc:creator>Jennifer Budzinski</dc:creator>
  <dc:description/>
  <dc:language>en-US</dc:language>
  <cp:lastModifiedBy>Erich Friedman</cp:lastModifiedBy>
  <dcterms:modified xsi:type="dcterms:W3CDTF">2020-08-29T17:57:52Z</dcterms:modified>
  <cp:revision>331</cp:revision>
  <dc:subject/>
  <dc:title>Slide 1</dc:title>
</cp:coreProperties>
</file>