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1B0-E84C-485F-B255-EB3F38EED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5298-DA2B-46CB-935C-D7B8930C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BB40-0BB2-424E-AAC0-D959D8CF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C044-A94E-4D6B-BA81-C5382B7D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D5CA-FA44-4D78-A4DF-5E9B9D04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44E5-D3E4-4953-B919-A58E636AB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F6E6-E513-40E7-A234-EFE71FCC4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020-E16F-4CDC-AF70-1FE8C93A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8F79-A48D-4D26-A09D-EED4513B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E6F3-5EC2-4DE8-8ACF-9D779071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4AE2-6E7C-4B79-B8F2-D3315E94B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EF69-2A4E-496C-B868-D640E0C4E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736A-10C8-4F5C-B8E8-A36D80EB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2819-7E4C-4AC3-9DAF-6F367363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9A2A-6823-4658-B25C-F16B25DE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A8D-379B-4083-9925-164C5324B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387-51FB-4CBA-B5CD-BE8EAB6F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DE1D-4C02-4487-8E67-1DDC8890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A37-3E31-4F7C-8995-C91F6A976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0A53-795A-4458-AC02-541CE91F1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A66A-CB29-433E-97A3-A28BEFEA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5228-DA53-498E-96CB-4702F1DB1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D2B1-57E1-4751-B571-6E2A0C32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STREETS AND ROA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IN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Y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LECTRIC AVEN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RY  RAFF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KER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ENNY 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L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VENUE HEARTACH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IGHWAY 61 REVISI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&amp;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86080" y="762120"/>
            <a:ext cx="6172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5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REET BRIDGE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UND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LECTRIC AVEN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  "KING"  C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UTE 66"? (THE ORIGI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IN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KER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ENNY 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VENUE HEARTACH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IGHWAY 61 REVISI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5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REET BRIDGE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UNDER RO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UTE 66"? (THE ORIGIN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22:47:07Z</dcterms:created>
  <dc:creator>Jennifer Budzinski</dc:creator>
  <dc:description/>
  <dc:language>en-US</dc:language>
  <cp:lastModifiedBy>Erich Friedman</cp:lastModifiedBy>
  <dcterms:modified xsi:type="dcterms:W3CDTF">2020-08-29T17:58:47Z</dcterms:modified>
  <cp:revision>336</cp:revision>
  <dc:subject/>
  <dc:title>Slide 1</dc:title>
</cp:coreProperties>
</file>