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0B8DD-F711-46C1-9D0E-D4EC7487C9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85968-23FB-48A2-B0FA-5114075A4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07B1A-5B12-4D95-A75D-CA7EA5AE51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D7D3E-CA85-4E87-8473-7F8FBFFB30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06315-97E7-4FA6-9EED-937440832D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78ECB-8458-494A-9F92-AD17E01331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E5F76-C5D0-48C0-9543-CA753C40A2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A4BAC-267F-4F48-BD2C-BA6F7DD8B5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62031-3E30-416F-A024-266B37EA37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503C5-CA12-40DF-9CC2-4B966A0D77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006E0-FD55-409E-AA75-BDA2E2F531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38409-74B4-4B1E-8EE4-6345B0BFBC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3E5D1-F568-41AB-AD69-E6E2AB785A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0C05D-6D0D-4A2D-9851-15D4DD8F26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91FAC-9A1A-4BA3-BED6-CB6ECE7E0B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74B5C-7265-4173-9ED7-617E0CA9DE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AFAEA-A317-4498-894A-244DC86D86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D296C-BDE1-43FB-8E13-0776505674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0B446-B96B-4708-8E0C-2E7DD2D30F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C01D6-F961-487A-A7EC-41214FB88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6E7AD-BC9C-4B5E-AB9A-0808765964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11B22-8613-455A-AA17-9206990301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BE5D9-A958-4E34-B992-F800F30BF1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914400" y="68580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O SANG THESE SONGS ABOUT STREETS AND ROAD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228600" y="76176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MAINSTREE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914400" y="762120"/>
            <a:ext cx="7315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VENTURA HIGHWA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DDY  GR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38080" y="762120"/>
            <a:ext cx="74678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ELECTRIC AVENU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RRY  RAFFER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BAKER STREE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EAT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523880" y="762120"/>
            <a:ext cx="6096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PENNY LA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WALLFLOW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6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VENUE HEARTACH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914400" y="4876920"/>
            <a:ext cx="7391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B  DY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304920" y="762120"/>
            <a:ext cx="85341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HIGHWAY 61 REVISITE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MON  &amp;  GARFUNK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486080" y="762120"/>
            <a:ext cx="61722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59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STREET BRIDGE SO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UCE  SPRINGST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14400" y="762120"/>
            <a:ext cx="7315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UNDER ROA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ELECTRIC AVENU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T  "KING"  CO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00280" y="762120"/>
            <a:ext cx="7543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ROUTE 66"? (THE ORIGINA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0" y="4876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B  SE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257480" y="762120"/>
            <a:ext cx="6629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MAINSTREE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MER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762120" y="762120"/>
            <a:ext cx="76197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VENTURA HIGHWA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BAKER STREE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714680" y="762120"/>
            <a:ext cx="5715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PENNY LA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6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VENUE HEARTACH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52280" y="762120"/>
            <a:ext cx="88394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HIGHWAY 61 REVISITE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485720" y="761760"/>
            <a:ext cx="6172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59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STREET BRIDGE SONG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UNDER ROA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ROUTE 66"? (THE ORIGINAL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22:47:07Z</dcterms:created>
  <dc:creator>Jennifer Budzinski</dc:creator>
  <dc:description/>
  <dc:language>en-US</dc:language>
  <cp:lastModifiedBy>Erich Friedman</cp:lastModifiedBy>
  <dcterms:modified xsi:type="dcterms:W3CDTF">2020-08-29T17:58:47Z</dcterms:modified>
  <cp:revision>336</cp:revision>
  <dc:subject/>
  <dc:title>Slide 1</dc:title>
</cp:coreProperties>
</file>