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A545-9733-4A05-9FF5-0B5FB75FF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C17E-5B9C-43A3-8150-FEF2FA61E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22B6-DA1F-48B9-A1CB-124BAB4BB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6C63-BC99-4C7C-8917-878E993EA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40BD-2A71-4D98-9F4C-0FA803AED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41D4-F845-4A5D-A13F-6DCBA8748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9E7E-739C-4BB0-B229-6E7A58820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8A82-0941-4115-9EB1-514EA9710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2A0E-0FA9-491D-8903-D2046CEB1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1FE4-E01C-4151-B7F5-2C707EA5D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9E69-950E-4E2C-9C93-6EC140735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AD87-A144-4578-A2C3-E9B100077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A08E-0184-47EF-A64F-5471E285C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5440-D17A-44D1-9A20-66BD56F2C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64EF-ED99-47B2-BB45-5D935489C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9E31-F73A-4D24-8A16-136A8B936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4DFE-B5F0-468F-AD1B-C0FB2B3BC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344E-5FA7-4A5D-B1C2-4ECE12400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E67D-7B25-4D0B-AC0E-4AD8C5AD6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00D4-F67A-4AD7-B06E-081058DF7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B349-2EFD-4A7C-95DE-D97758EBB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33E5-A512-40A9-98C4-482E52ECF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C426-B310-4BEF-ACDA-6E01EFF73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38080" y="990360"/>
            <a:ext cx="7467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SONGS ABOUT STAT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828800" y="76176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SSACHUSET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EBRASK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YNYRD  SKYNY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WEET HOME ALABAM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Y  JO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43080" y="762120"/>
            <a:ext cx="84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EW YORK STATE OF M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DIAM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KENTUCKY WO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SBY,  STILLS,  NASH  &amp;  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HI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MAS  AND  THE  PAP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ALIFORNIA  DREAMIN' 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698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  CHAR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EORGIA ON MY M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JACKSON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ING BACK TO INDIA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WEET HOME ALABAM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9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VIS  PRES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UE HAWAI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E  G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95280" y="762120"/>
            <a:ext cx="6553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SSACHUSET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SPRINGST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90720" y="76212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EBRASK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EW YORK STATE OF M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KENTUCKY WO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HI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ALIFORNIA  DREAMIN' 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EORGIA ON MY M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ING BACK TO INDIAN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UE HAWAI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9T09:07:18Z</dcterms:created>
  <dc:creator>Jennifer Budzinski</dc:creator>
  <dc:description/>
  <dc:language>en-US</dc:language>
  <cp:lastModifiedBy>Erich Friedman</cp:lastModifiedBy>
  <dcterms:modified xsi:type="dcterms:W3CDTF">2020-08-29T17:59:56Z</dcterms:modified>
  <cp:revision>358</cp:revision>
  <dc:subject/>
  <dc:title>Slide 1</dc:title>
</cp:coreProperties>
</file>