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2F02-8403-4A75-8EA7-F693D54B5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CDA6-7570-487C-B828-F860A01C3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51AE-4A7F-4DD2-A743-8ADE7BBD1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51C4-B827-4AD3-B960-8DBD73CF0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1471-F885-4A79-88EF-701133B84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F389-3717-46CA-81DA-63E5C6AE9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B5AE-7E2E-4B8B-BB96-2EBD8E34D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54DD-771A-4DBC-8E86-0DDE2528A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C759-3245-4B69-99BE-6FA819178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1BA0-1D36-4713-9FA4-5F4D90503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F764-B198-4E30-BF6F-222F693B2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371B-6004-4FE2-8208-A6D7980D9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C4D4-F895-4714-8500-1449F4ABC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D144-E029-42DB-BE12-FF1901ED2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550C-26D7-4CF0-8072-0383B2FB7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32C8-668E-4070-AEA5-004F0D12E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5B52-226C-48EF-A358-07F92E607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A70C-0B74-4B1A-919C-67BF2B9AA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A191-7C25-4F93-89A9-281E6A798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5658-6F2D-4D18-AA1A-A5F06B506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1C09-2997-452C-8A8D-A924426CA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D879-7AEA-442C-895D-3B9B5D85A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5E03-0297-4CAF-A601-BBEC730F2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38080" y="990360"/>
            <a:ext cx="7467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SANG THESE SONGS ABOUT STATE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828800" y="76176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ASSACHUSETT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990720" y="762120"/>
            <a:ext cx="7162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EBRASK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YNYRD  SKYNY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WEET HOME ALABAM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Y  JO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43080" y="762120"/>
            <a:ext cx="8458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EW YORK STATE OF MI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IL  DIAM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19320" y="76212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KENTUCKY WO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OSBY,  STILLS,  NASH  &amp;  YO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HI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MAS  AND  THE  PAP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ALIFORNIA  DREAMIN' 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698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Y  CHAR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EORGIA ON MY MI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JACKSON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ING BACK TO INDIAN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WEET HOME ALABAM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98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VIS  PRES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LUE HAWAI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EE  GE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295280" y="762120"/>
            <a:ext cx="6553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ASSACHUSET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CE  SPRINGST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90720" y="762120"/>
            <a:ext cx="7162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EBRASK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EW YORK STATE OF MI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19320" y="76212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KENTUCKY WO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HI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ALIFORNIA  DREAMIN' 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EORGIA ON MY MI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ING BACK TO INDIAN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LUE HAWAII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9T09:07:18Z</dcterms:created>
  <dc:creator>Jennifer Budzinski</dc:creator>
  <dc:description/>
  <dc:language>en-US</dc:language>
  <cp:lastModifiedBy>Erich Friedman</cp:lastModifiedBy>
  <dcterms:modified xsi:type="dcterms:W3CDTF">2020-08-29T17:59:56Z</dcterms:modified>
  <cp:revision>358</cp:revision>
  <dc:subject/>
  <dc:title>Slide 1</dc:title>
</cp:coreProperties>
</file>