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CBDB1-E74A-4C34-A11A-1742D63FF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769B3-1771-4758-8916-5B6348900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8EF74-620F-4AD3-9118-EAF093F8E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BE313-ABB4-4B5E-8538-7C2C8D4B2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4FD0D-479C-4098-B1EF-3F725EB50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6E76F-FD89-4BEA-9E6A-CC34B5261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AE5F-F249-45E1-B21F-EBBD19B33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B3A15-E387-4F8F-827B-13CC02AE7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ABD36-475B-4001-904F-D17ED5333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77B7C-A971-4015-9D61-B56F451E9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B35A6-8B94-47C2-817D-6C6A874E5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B6720-1BC7-4DF2-ABC8-05DE96E94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9BE02-841D-46B0-97CB-70A7BF700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5AB99-1054-49EE-9F43-5B69509AA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2E7F3-DA5B-41DD-B078-BD8C09CD5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574C5-C6B8-4184-A0D8-149F56619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A946F-4254-47E1-8A01-D5C907BC8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8FFA2-B96F-4065-A9B5-ABE3CE956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1987-6BA0-45C9-B2D1-CEC0B2801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E5012-CB34-4C21-8D85-93E118101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8D1C7-D3BF-4DD7-A087-1FF49D414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C2C01-8EF6-4B51-9998-4B60270F6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4C06D-5953-4D2C-AB5D-9D3CF5283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38080" y="990360"/>
            <a:ext cx="74678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O SANG THESE SONGS ABOUT STATE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828800" y="76176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MASSACHUSETT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990720" y="762120"/>
            <a:ext cx="7162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NEBRASK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YNYRD  SKYNY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57200" y="762120"/>
            <a:ext cx="8229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WEET HOME ALABAM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Y  JO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343080" y="762120"/>
            <a:ext cx="8458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NEW YORK STATE OF MI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IL  DIAM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219320" y="762120"/>
            <a:ext cx="6705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KENTUCKY WOM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OSBY,  STILLS,  NASH  &amp;  YO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OHI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MAS  AND  THE  PAP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10484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CALIFORNIA  DREAMIN' 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698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Y  CHAR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62120"/>
            <a:ext cx="8229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EORGIA ON MY MI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JACKSON 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38080" y="762120"/>
            <a:ext cx="7467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OING BACK TO INDIAN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WEET HOME ALABAM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98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VIS  PRES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LUE HAWAII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EE  GE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295280" y="762120"/>
            <a:ext cx="65534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MASSACHUSETT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UCE  SPRINGST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90720" y="762120"/>
            <a:ext cx="71625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NEBRASK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NEW YORK STATE OF MI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219320" y="762120"/>
            <a:ext cx="6705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KENTUCKY WOM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OHI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CALIFORNIA  DREAMIN' 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EORGIA ON MY MI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OING BACK TO INDIAN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LUE HAWAII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9T09:07:18Z</dcterms:created>
  <dc:creator>Jennifer Budzinski</dc:creator>
  <dc:description/>
  <dc:language>en-US</dc:language>
  <cp:lastModifiedBy>Erich Friedman</cp:lastModifiedBy>
  <dcterms:modified xsi:type="dcterms:W3CDTF">2020-08-29T17:59:56Z</dcterms:modified>
  <cp:revision>358</cp:revision>
  <dc:subject/>
  <dc:title>Slide 1</dc:title>
</cp:coreProperties>
</file>