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EE74-630E-4B44-94A9-2CDA38C01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AC69-1BDD-487B-B4FD-C82F0A468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4F11-1D91-4057-89C2-96A464A24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D9AC-919C-49C7-9C96-1455BD2E6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D287-6C9D-4164-811B-281E245F6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E2C7-BB58-4D01-93B1-EBC2756DD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21CA-5B0B-4923-93C6-0C7769EA5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5326-F25A-4C95-A419-0922C44DA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A349-E0E9-46F8-971D-987C6D2BF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3048-D5A8-4A1D-B1FC-52CED4FC4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7515-CDAA-47B1-B447-C7B459513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E748-E866-470C-9544-D2DB17EED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FA44-D60C-4D9F-9E31-831D449D4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1419-4914-4FEE-82DF-42AD4A2FF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1E0A-C8C1-4058-AD50-2E5833191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C691-48BB-4616-94CB-E03A5E504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A957-1764-437D-A106-3A8FE2422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53D5-06A3-4FF3-9A6C-A90B7356B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0C0D-3B16-41ED-A5C2-816A16BD3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4E3E-A618-47FC-A42C-412D3C80C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0E89-99D3-4AD6-A575-9AA130D39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66CC-B743-4797-AA04-CBE09B58E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8A7B-E15B-44EA-BA4A-5FBA0A663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57120" y="1523880"/>
            <a:ext cx="6629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I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2 ELEMENTS ON THE PERIODIC TABLE ARE LIQUID AT ROOM TEMPERA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AND HEAVIEST INTERNAL ORGAN OF THE HUMAN B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BIL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ORD "EON" CAN MEAN AN INDEFINITE TIME.  BUT IN SCIENCE IT MEANS HOW MANY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.3  MIN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LONG DOES IT TAKE LIGHT TO GET FROM THE SUN TO EARTH?  8.3 SECONDS,  8.3 MINUTES, OR 8.3 HOU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181160" y="4876920"/>
            <a:ext cx="6781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HEMICAL FORMULA FOR TABLE SAL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98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0  DEGRE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TEMPERATURE ARE CELSIUS AND FAHRENHEIT TEMPERATURE SCALES EQUAL TO EACH 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YPOGLYCE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DICAL TERM FOR LOW BLOOD SUG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81160" y="487692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4  M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WIND SPEED DOES A TROPICAL STORM TURN INTO A HURRICA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VERAGE HUMAN BODY CONTAINS HOW MANY PINTS OF BLOOD?  6, 8, OR 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ORD "EON" CAN MEAN AN INDEFINITE TIME.  BUT IN SCIENCE IT MEANS HOW MANY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MELE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90720" y="762120"/>
            <a:ext cx="7162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NIMAL HAS THE LONGEST TONGUE, AS A PERCENTAGE OF ITS TOTAL LENG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CURY  &amp;  BROMIN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2 ELEMENTS ON THE PERIODIC TABLE ARE LIQUID AT ROOM TEMPERA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AND HEAVIEST INTERNAL ORGAN OF THE HUMAN B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LONG DOES IT TAKE LIGHT TO GET FROM THE SUN TO EARTH?  8.3 SECONDS,  8.3 MINUTES, OR 8.3 HOU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HEMICAL FORMULA FOR TABLE SAL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TEMPERATURE ARE CELSIUS AND FAHRENHEIT TEMPERATURE SCALES EQUAL TO EACH O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DICAL TERM FOR LOW BLOOD SUG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WIND SPEED DOES A TROPICAL STORM TURN INTO A HURRICA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VERAGE HUMAN BODY CONTAINS HOW MANY PINTS OF BLOOD?  6, 8, OR 1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NIMAL HAS THE LONGEST TONGUE, AS A PERCENTAGE OF ITS TOTAL LENG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9T16:34:44Z</dcterms:created>
  <dc:creator>Jennifer Budzinski</dc:creator>
  <dc:description/>
  <dc:language>en-US</dc:language>
  <cp:lastModifiedBy>Erich Friedman</cp:lastModifiedBy>
  <dcterms:modified xsi:type="dcterms:W3CDTF">2020-09-05T12:35:08Z</dcterms:modified>
  <cp:revision>368</cp:revision>
  <dc:subject/>
  <dc:title>Slide 1</dc:title>
</cp:coreProperties>
</file>