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CEFD-1371-4A9C-B84D-7D4713616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9236-AE97-4330-8273-0E61CBD5A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B292-8696-468E-9179-FE7221AB7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B6A3-D07F-49EA-B19F-DECAB5AC0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CD9B-7CFE-4010-92A1-1812452D2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8019-6CA2-41C1-95E4-9354CC27A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CE2D-805B-4E63-9434-0E4566B30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C08A-5735-4BA9-B865-87BC11A40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0EBB-4C1D-4F5B-BB8D-B50558D68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C75D-72D7-41BA-91CA-18453ACD0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4528-E90F-4CAA-8B02-8D3700B4A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6A75-B64C-402D-BA48-A3525F2AD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4C63-8F12-4A70-8AFB-2DE5C84CC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1188-4050-4D81-9CB1-B2A2E0BDC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1B58-7DCF-4C8E-B591-E307AA19B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5033-4940-40FA-A0B1-091DD95B8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C754-98C5-4D2E-8E4A-928D21AF9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587D-AA02-425C-A71B-CC06A14C8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CBE2-9B8C-405F-8346-84ECAA942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0538-21FD-4619-A94F-9E73EAD4E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C0B4-827E-469F-ABC1-09F92BBC9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EA96-8209-42E6-B2E4-C79166B98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71EF-C882-445F-9F61-AC5050CCC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57120" y="1523880"/>
            <a:ext cx="6629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2 ELEMENTS ON THE PERIODIC TABLE ARE LIQUID AT ROOM TEMPER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AND HEAVIEST INTERNAL ORGAN OF THE HUMAN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"EON" CAN MEAN AN INDEFINITE TIME.  BUT IN SCIENCE IT MEANS HOW MANY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.3 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DOES IT TAKE LIGHT TO GET FROM THE SUN TO EARTH?  8.3 SECONDS,  8.3 MINUTES, OR 8.3 HOU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181160" y="4876920"/>
            <a:ext cx="6781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HEMICAL FORMULA FOR TABLE SA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98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  DEGR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TEMPERATURE ARE CELSIUS AND FAHRENHEIT TEMPERATURE SCALES EQUAL TO EACH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POGLYC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DICAL TERM FOR LOW BLOOD SUG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81160" y="48769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4  M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WIND SPEED DOES A TROPICAL STORM TURN INTO A HURRIC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VERAGE HUMAN BODY CONTAINS HOW MANY PINTS OF BLOOD?  6, 8, OR 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"EON" CAN MEAN AN INDEFINITE TIME.  BUT IN SCIENCE IT MEANS HOW MANY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ME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NIMAL HAS THE LONGEST TONGUE, AS A PERCENTAGE OF ITS TOTAL LENG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URY  &amp;  BROMIN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2 ELEMENTS ON THE PERIODIC TABLE ARE LIQUID AT ROOM TEMPER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AND HEAVIEST INTERNAL ORGAN OF THE HUMAN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DOES IT TAKE LIGHT TO GET FROM THE SUN TO EARTH?  8.3 SECONDS,  8.3 MINUTES, OR 8.3 HOU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HEMICAL FORMULA FOR TABLE SA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TEMPERATURE ARE CELSIUS AND FAHRENHEIT TEMPERATURE SCALES EQUAL TO EACH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DICAL TERM FOR LOW BLOOD SUG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WIND SPEED DOES A TROPICAL STORM TURN INTO A HURRIC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VERAGE HUMAN BODY CONTAINS HOW MANY PINTS OF BLOOD?  6, 8, OR 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NIMAL HAS THE LONGEST TONGUE, AS A PERCENTAGE OF ITS TOTAL LENG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16:34:44Z</dcterms:created>
  <dc:creator>Jennifer Budzinski</dc:creator>
  <dc:description/>
  <dc:language>en-US</dc:language>
  <cp:lastModifiedBy>Erich Friedman</cp:lastModifiedBy>
  <dcterms:modified xsi:type="dcterms:W3CDTF">2020-09-05T12:35:08Z</dcterms:modified>
  <cp:revision>368</cp:revision>
  <dc:subject/>
  <dc:title>Slide 1</dc:title>
</cp:coreProperties>
</file>