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A376-DC0F-4464-A54A-000473EE6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8A3A-B1CF-46A1-9DDF-DEC423CEE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4967-AF1C-46E1-9E9E-7C5EE49DB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04A1-DF17-4157-BFC9-CCA469931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88CC-ABA5-4654-9CB4-F0712C009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5B9A-C5F0-4986-BC0F-BA75767D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DFBE-EEE0-42D8-ACBB-B163A3B68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4ED4-91F2-4585-A2D1-63E12381B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E2C7-195A-4169-8B2A-9F4564B6A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36DE-04D9-4372-B23A-2D31D4504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773A-059A-42BF-BB89-A6ED7818D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218E-0854-4F5A-9321-77624A733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E9EB-A036-4205-930C-1A370B042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586C-E8CA-4E24-A8F4-366C2FB7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4EB8-B473-43B7-BD03-41BDF3198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190B-60B5-4E5F-A4A2-87E94AC46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6F32-E1AC-4C52-A205-D7BC8E99A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7256-28E9-4073-95CA-ABD1C1BBD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9CE4-D4FC-4E64-824E-B7FBA7E7E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3E9F-9A1C-45FD-A97A-6EADCB7C0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E6A6-968A-4BAC-97FC-7B8E68800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FD1C-CE45-434B-BC29-0217BB976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8FB4-7FF0-46BE-8EB7-20C896D6A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1523880"/>
            <a:ext cx="6629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ELEMENTS ON THE PERIODIC TABLE ARE LIQUID AT ROOM TEMP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ND HEAVIEST INTERNAL ORGAN OF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EON" CAN MEAN AN INDEFINITE TIME.  BUT IN SCIENCE IT MEANS HOW MANY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.3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LIGHT TO GET FROM THE SUN TO EARTH?  8.3 SECONDS,  8.3 MINUTES, OR 8.3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HEMICAL FORMULA FOR TABLE S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  DEG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ARE CELSIUS AND FAHRENHEIT TEMPERATURE SCALES EQUAL TO EACH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YPOGLYCE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LOW BLOOD SUG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4 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WIND SPEED DOES A TROPICAL STORM TURN INTO A HURRIC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HUMAN BODY CONTAINS HOW MANY PINTS OF BLOOD?  6, 8, OR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ORD "EON" CAN MEAN AN INDEFINITE TIME.  BUT IN SCIENCE IT MEANS HOW MANY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ME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IMAL HAS THE LONGEST TONGUE, AS A PERCENTAGE OF ITS TOTAL LENG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  &amp;  BROMIN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2 ELEMENTS ON THE PERIODIC TABLE ARE LIQUID AT ROOM TEMP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AND HEAVIEST INTERNAL ORGAN OF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DOES IT TAKE LIGHT TO GET FROM THE SUN TO EARTH?  8.3 SECONDS,  8.3 MINUTES, OR 8.3 HOU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HEMICAL FORMULA FOR TABLE SA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ARE CELSIUS AND FAHRENHEIT TEMPERATURE SCALES EQUAL TO EACH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DICAL TERM FOR LOW BLOOD SUG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WIND SPEED DOES A TROPICAL STORM TURN INTO A HURRIC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VERAGE HUMAN BODY CONTAINS HOW MANY PINTS OF BLOOD?  6, 8, OR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NIMAL HAS THE LONGEST TONGUE, AS A PERCENTAGE OF ITS TOTAL LENG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9T16:34:44Z</dcterms:created>
  <dc:creator>Jennifer Budzinski</dc:creator>
  <dc:description/>
  <dc:language>en-US</dc:language>
  <cp:lastModifiedBy>Erich Friedman</cp:lastModifiedBy>
  <dcterms:modified xsi:type="dcterms:W3CDTF">2020-09-05T12:35:08Z</dcterms:modified>
  <cp:revision>368</cp:revision>
  <dc:subject/>
  <dc:title>Slide 1</dc:title>
</cp:coreProperties>
</file>