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075A-D111-4AED-B724-8017CB2E1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5BA6D-92F2-4DAE-B56D-1A56A8E8F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F976-343F-4024-A5A0-8BA7F2F2D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8570-C8CB-4A6B-8F63-89F7DF20E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CEB3-CC80-4C46-96AD-D2F32E95C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497F-1216-4567-BB89-DDDE35DE2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84F6-FD58-44EC-8BAE-EB0433EB2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27B1-1BB1-46E5-97EA-D5567EFD8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A3BE-6410-4EC6-AF81-22FEEC999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922D-A9A5-442A-89A8-F978925FE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0FFC-979F-469C-92F3-375AFAE8D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79FD-A9BC-4B95-B566-77BE5C0D3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D0F6-0821-417C-8A27-6D53606DB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DF3B-9497-4AE9-860D-A906E4C8E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3202-1752-4BE6-848A-27EAB1A90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E832-0AB8-4DE6-A462-7A0C5218A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47CC-A38B-446B-828E-F0E548765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F5DD-EA28-459E-985C-2A5B6CFC5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5269-DAF3-4912-AD01-00ECA4531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6CE9-3D48-4A78-BFBA-46E73FC8F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0A01-8C27-43C0-8E42-E6789EA11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D936-89C1-48C4-8DEC-0264B8BDD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5DB0-48C7-4C4E-BAAD-0AC0FA6DF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FTEN DOES HALLEY'S COMET PASS EARTH?  EVERY 76, 86, OR 9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ONS DOES THE AVERAGE CUMULUS CLOUD WEIGH?  5, 50, OR 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NCIENT  GREE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IRST THOUGHT OF THE IDEA OF THE ATOM?  THE ANCIENT GREEKS, GALILEO GALILEI, OR NIELS BOH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,000 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EARTHQUAKE THAT MEASURES 6 ON THE RICHTER SCALE IS HOW MANY TIMES STRONGER THAN    ONE THAT MEASURES 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AN  DOPP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3080" y="74916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AT A WAVE'S FREQUENCY CHANGES WHEN THE SOURCE AND THE OBSERVER ARE IN MOTION RELATIVE TO ONE AN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V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HOD OF HEAT TRANSFER BEST DESCRIBES A HEAT LAMP?  CONDUCTION, CONVECTION, RADIATION,   OR CONDENS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EMO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IS USED TO MEASURE WIND SPE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SSANDRO  VO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THE FIRST BATTERY?  BENJAMIN FRANKLIN, NIKOLA TESLA, OR ALESSANDRO VOLT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  ME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FOUNDER OF GENETICS?  GREGOR MENDEL, FRANCIS CRICK, OR ERNEST RUTHERFOR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IRST THOUGHT OF THE IDEA OF THE ATOM?  THE ANCIENT GREEKS, GALILEO GALILEI, OR NIELS BOH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61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 MANY NEW SPECIES ARE DISCOVERED EACH YEAR?  200, 2000, OR 20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6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FTEN DOES HALLEY'S COMET PASS EARTH?  EVERY 76, 86, OR 96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ONS DOES THE AVERAGE CUMULUS CLOUD WEIGH?  5, 50, OR 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EARTHQUAKE THAT MEASURES 6 ON THE RICHTER SCALE IS HOW MANY TIMES STRONGER THAN    ONE THAT MEASURES 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SCOVERED THAT A WAVE'S FREQUENCY CHANGES WHEN THE SOURCE AND THE OBSERVER ARE IN MOTION RELATIVE TO ONE AN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HOD OF HEAT TRANSFER BEST DESCRIBES A HEAT LAMP?  CONDUCTION, CONVECTION, RADIATION,   OR CONDENS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IS USED TO MEASURE WIND SPE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NVENTED THE FIRST BATTERY?  BENJAMIN FRANKLIN, NIKOLA TESLA, OR ALESSANDRO VOLTA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FOUNDER OF GENETICS?  GREGOR MENDEL, FRANCIS CRICK, OR ERNEST RUTHERFOR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 MANY NEW SPECIES ARE DISCOVERED EACH YEAR?  200, 2000, OR 20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22:17:01Z</dcterms:created>
  <dc:creator>Jennifer Budzinski</dc:creator>
  <dc:description/>
  <dc:language>en-US</dc:language>
  <cp:lastModifiedBy>Erich Friedman</cp:lastModifiedBy>
  <dcterms:modified xsi:type="dcterms:W3CDTF">2020-09-05T12:35:38Z</dcterms:modified>
  <cp:revision>328</cp:revision>
  <dc:subject/>
  <dc:title>Slide 1</dc:title>
</cp:coreProperties>
</file>