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EA5A-FF72-4820-85A1-95ECE1C9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60A2-5500-4D65-AFAD-C73EBBED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6A44-C8C8-4E69-B007-B90FE213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BBC0-011D-4D47-9F69-B3557A9B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A68D-4B97-4F81-B96B-F1D09902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46B3-5FFA-41FF-8B71-CCEEB4EF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8F11-FD90-4C1B-BC26-A209631F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B2CE-FAB9-4971-8496-6A080D04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B269-9A9E-459E-91EC-2161EE918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AF0C-25AC-4F63-9088-F825EA924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E48-2BC9-497A-A572-38F189F3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3011-E06C-4F4F-92C3-3CF117A6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215-655D-4ACB-A5B9-AB1FF642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790D-8D79-4310-BF59-A3863A423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7C52-71CC-4B80-AAE5-62646D713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A4A8-5C56-4F28-A0AE-E20E7AC19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0D01-8CF2-4773-B6EA-1CFCE8B05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B4C3-4BEA-4840-945D-013E04CF7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0316-12E2-4907-9C78-4D9CEE0DE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DC9-3CAF-4296-A103-9A983061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2782-996C-4A7B-9DA7-8D8215BC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1834-2429-4A16-BD1B-B3B57CB2D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5E0-22ED-44E2-82E0-4F3640FD6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FTEN DOES HALLEY'S COMET PASS EARTH?  EVERY 76, 86, OR 9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ONS DOES THE AVERAGE CUMULUS CLOUD WEIGH?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CIENT  GRE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THOUGHT OF THE IDEA OF THE ATOM?  THE ANCIENT GREEKS, GALILEO GALILEI, OR NIELS BOH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ARTHQUAKE THAT MEASURES 6 ON THE RICHTER SCALE IS HOW MANY TIMES STRONGER THAN    ONE THAT MEASURES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DOP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4916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AT A WAVE'S FREQUENCY CHANGES WHEN THE SOURCE AND THE OBSERVER ARE IN MOTION RELATIVE TO ONE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 OF HEAT TRANSFER BEST DESCRIBES A HEAT LAMP?  CONDUCTION, CONVECTION, RADIATION,   OR CONDENS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E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MEASURE WIND SP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SSANDRO  V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FIRST BATTERY?  BENJAMIN FRANKLIN, NIKOLA TESLA, OR ALESSANDRO VOL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  M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NETICS?  GREGOR MENDEL, FRANCIS CRICK, OR ERNEST RUTHERFO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THOUGHT OF THE IDEA OF THE ATOM?  THE ANCIENT GREEKS, GALILEO GALILEI, OR NIELS BOH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1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 MANY NEW SPECIES ARE DISCOVERED EACH YEAR?  200, 2000, OR 20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FTEN DOES HALLEY'S COMET PASS EARTH?  EVERY 76, 86, OR 9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ONS DOES THE AVERAGE CUMULUS CLOUD WEIGH?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ARTHQUAKE THAT MEASURES 6 ON THE RICHTER SCALE IS HOW MANY TIMES STRONGER THAN    ONE THAT MEASURES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AT A WAVE'S FREQUENCY CHANGES WHEN THE SOURCE AND THE OBSERVER ARE IN MOTION RELATIVE TO ONE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 OF HEAT TRANSFER BEST DESCRIBES A HEAT LAMP?  CONDUCTION, CONVECTION, RADIATION,   OR CONDENS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MEASURE WIND SP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FIRST BATTERY?  BENJAMIN FRANKLIN, NIKOLA TESLA, OR ALESSANDRO VOLT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NETICS?  GREGOR MENDEL, FRANCIS CRICK, OR ERNEST RUTHERFOR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 MANY NEW SPECIES ARE DISCOVERED EACH YEAR?  200, 2000, OR 20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17:01Z</dcterms:created>
  <dc:creator>Jennifer Budzinski</dc:creator>
  <dc:description/>
  <dc:language>en-US</dc:language>
  <cp:lastModifiedBy>Erich Friedman</cp:lastModifiedBy>
  <dcterms:modified xsi:type="dcterms:W3CDTF">2020-09-05T12:35:38Z</dcterms:modified>
  <cp:revision>328</cp:revision>
  <dc:subject/>
  <dc:title>Slide 1</dc:title>
</cp:coreProperties>
</file>