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CF9D-737A-462E-A47C-970FC706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D655-31EE-44E7-B259-F30C53F7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1833-5471-47E3-AB0B-ED2D79D2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5782-511C-476B-946F-7E19FFC6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B218-1F34-4BF6-A953-BFA40FD4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6A0C-2FEC-4079-A06B-A5D4A289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1D6-0D09-425B-A36B-B2FEBA9B3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EF3-12AF-4DBE-8EB9-80DF2B513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C87B-9653-4901-A478-829E70D3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79A-5449-47DE-80FD-97198847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754-CC7F-488B-A1CD-6FBB0963B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2421-F3C6-41DB-A9C3-34890BFC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B6D-7098-4C39-BB36-A3080AF4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BBB5-8884-481A-80E7-68780AB4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65A8-E48C-4EA3-B2CD-085925F6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3225-053B-4D35-9173-C1B0A5B4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8F1C-D951-47B6-BE34-D7CC6FEEF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D4C-2B75-4A67-8607-A12D21ACB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FD7-6230-4BE9-BDAC-62F847C7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26E6-6DFF-4512-B61A-97C388B5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F00E-07E6-4908-A7DC-5407D7E4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DC5D-22C6-47F5-9E0F-F56FC53A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28C2-24E9-4319-B865-EC28DC76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FTEN DOES HALLEY'S COMET PASS EARTH?  EVERY 76, 86, OR 9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ONS DOES THE AVERAGE CUMULUS CLOUD WEIGH?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CIENT  GRE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THOUGHT OF THE IDEA OF THE ATOM?  THE ANCIENT GREEKS, GALILEO GALILEI, OR NIELS BOH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ARTHQUAKE THAT MEASURES 6 ON THE RICHTER SCALE IS HOW MANY TIMES STRONGER THAN    ONE THAT MEASURES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4916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AT A WAVE'S FREQUENCY CHANGES WHEN THE SOURCE AND THE OBSERVER ARE IN MOTION RELATIVE TO ONE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 OF HEAT TRANSFER BEST DESCRIBES A HEAT LAMP?  CONDUCTION, CONVECTION, RADIATION,   OR CONDENS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E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MEASURE WIND SP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SSANDRO  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FIRST BATTERY?  BENJAMIN FRANKLIN, NIKOLA TESLA, OR ALESSANDRO VOL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  M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NETICS?  GREGOR MENDEL, FRANCIS CRICK, OR ERNEST RUTHERFO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THOUGHT OF THE IDEA OF THE ATOM?  THE ANCIENT GREEKS, GALILEO GALILEI, OR NIELS BOH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1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 MANY NEW SPECIES ARE DISCOVERED EACH YEAR?  200, 2000, OR 2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FTEN DOES HALLEY'S COMET PASS EARTH?  EVERY 76, 86, OR 9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ONS DOES THE AVERAGE CUMULUS CLOUD WEIGH?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ARTHQUAKE THAT MEASURES 6 ON THE RICHTER SCALE IS HOW MANY TIMES STRONGER THAN    ONE THAT MEASURES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AT A WAVE'S FREQUENCY CHANGES WHEN THE SOURCE AND THE OBSERVER ARE IN MOTION RELATIVE TO ONE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 OF HEAT TRANSFER BEST DESCRIBES A HEAT LAMP?  CONDUCTION, CONVECTION, RADIATION,   OR CONDENS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MEASURE WIND SP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FIRST BATTERY?  BENJAMIN FRANKLIN, NIKOLA TESLA, OR ALESSANDRO VOLT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NETICS?  GREGOR MENDEL, FRANCIS CRICK, OR ERNEST RUTHERFOR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 MANY NEW SPECIES ARE DISCOVERED EACH YEAR?  200, 2000, OR 20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17:01Z</dcterms:created>
  <dc:creator>Jennifer Budzinski</dc:creator>
  <dc:description/>
  <dc:language>en-US</dc:language>
  <cp:lastModifiedBy>Erich Friedman</cp:lastModifiedBy>
  <dcterms:modified xsi:type="dcterms:W3CDTF">2020-09-05T12:35:38Z</dcterms:modified>
  <cp:revision>328</cp:revision>
  <dc:subject/>
  <dc:title>Slide 1</dc:title>
</cp:coreProperties>
</file>