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F97D-3692-4C24-9496-43C53B7CA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6BAA-F4F2-497B-83D2-32DFCF14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65B7-CC17-4954-A1BD-A43F7CFE0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323-2F60-4CD6-9785-98571F434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054C-7A15-4C26-A995-B3EF348D4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861F-3E8C-4C8F-AC15-E17BAC7D1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3B36-772B-4F78-A51F-23F7C29AA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99B1-0EFF-46E8-8432-3F18563CD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40D-E5CB-4C36-AD4D-9F328F51A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810C-E228-4DF9-87E0-F1B85CB9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5A7B-BDB7-415F-A003-15F1F4E26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8A40-20C2-4F45-8AD2-76684DB4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CCE6-C500-497D-9289-46FB89B3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B5D8-B3E2-423E-83BA-8B810FC0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DD3F-F330-46FD-86F6-CF7B2B85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37A8-0EBE-4179-BCF2-A7E6AAB60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3EB9-A4A9-4D11-B682-65C825DF9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9077-8B03-4FE6-AAA0-8A2AB6E4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0A76-B4B2-4620-9340-AD31E847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3674-52FE-4DA6-AF9B-9E5A9C78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548D-CCD3-41B6-A386-4F89901A0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6420-2896-45BD-9710-807DB8DF2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C0F2-10D1-4518-A826-5F76FD54B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3344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 FORMUL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ULA IS KNOWN AS OHM'S L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1447920" y="762120"/>
            <a:ext cx="6248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1/u + 1/v = 1/f   USUALLY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SPONSIBLE FOR THE FORMULA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EAL  GAS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QUATION PV=n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419720"/>
            <a:ext cx="83059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ISENBERG  UNCERTAINTY  PRINCI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ORMULA ∆x</a:t>
            </a:r>
            <a:r>
              <a:rPr b="0" lang="en-US" sz="4000" spc="-1" strike="noStrike" baseline="-5000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∆p ≥ h/2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ATIONAL  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G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CU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LERK  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QUATION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2576520" y="193680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IOD  OF  A  PEND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2π√(L/g) CALCU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TON'S  SECOND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=ma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RESPONSIBLE FOR THE FORMULA E=mc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RÖDINGER'S  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33520" y="72396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IS FORM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2514600" y="1925640"/>
            <a:ext cx="4075200" cy="28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0" y="441972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=IR                                               (VOLTAGE = CURRENT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.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ISTA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257480" y="723960"/>
            <a:ext cx="662940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ULA IS KNOWN AS OHM'S L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S 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447920" y="762120"/>
            <a:ext cx="6248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1/u + 1/v = 1/f   USUALLY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EQUATION PV=n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ORMULA ∆x</a:t>
            </a:r>
            <a:r>
              <a:rPr b="0" lang="en-US" sz="4000" spc="-1" strike="noStrike" baseline="-5000">
                <a:solidFill>
                  <a:srgbClr val="ffffff"/>
                </a:solidFill>
                <a:latin typeface="Arial"/>
              </a:rPr>
              <a:t>•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∆p ≥ h/2n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G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/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CU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QUATION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576520" y="205740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ORMULA 2π√(L/g) CALCU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=ma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THIS FORMU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327400" y="2057400"/>
            <a:ext cx="44877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3:28:23Z</dcterms:created>
  <dc:creator>Jennifer Budzinski</dc:creator>
  <dc:description/>
  <dc:language>en-US</dc:language>
  <cp:lastModifiedBy>Erich Friedman</cp:lastModifiedBy>
  <dcterms:modified xsi:type="dcterms:W3CDTF">2020-09-05T12:37:45Z</dcterms:modified>
  <cp:revision>337</cp:revision>
  <dc:subject/>
  <dc:title>Slide 1</dc:title>
</cp:coreProperties>
</file>