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B52E-1C51-4DC0-B330-DBC9D3C5A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EF1D-7AA8-447D-B88C-DD03B3FC3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0D92-0950-4BA7-9181-BD0707A85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BB1E-5921-4533-A301-3F699701A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5D5D-31BE-4C8A-956C-B9523FF77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8BA2-E5DC-4332-8DA3-5BDAC821A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C015-F820-4BDD-950D-EE81A0BEE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ABBA-7E5C-48C1-B1DC-5295D2E50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7DAB-2D79-42A8-B381-634F53094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5588-F01A-4069-83B5-85FA362C2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63A9-2651-43CE-A545-EA8E481BB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EA28-74F4-4B4E-A1D9-AAF77C789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6E8D-7DC8-45BE-B2C1-C8D75DFEF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DC5F-9AFF-4C88-A6C9-CF9843F6A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3EB2-3990-45DF-9BB0-49D64C4A7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C203-9338-4B05-8FF0-12BEEDD05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CE2F-33EC-4DB6-AEC8-2BD0079A4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9F5E-12EB-4C97-8DEB-8AD42237B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30AB-E152-44D6-AE85-821FDE4D1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3C44-AF0B-40B8-A9AD-BB5BFD7A1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5BF3-F28B-4844-857E-49F5A988C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648E-329B-423A-B4A6-106432485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58A7-9A6D-4F01-971B-B644CC2DE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33344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CE FORMUL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1123920" y="761760"/>
            <a:ext cx="6896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ULA IS KNOWN AS OHM'S LA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1447920" y="762120"/>
            <a:ext cx="6248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ULA 1/u + 1/v = 1/f   USUALLY CALL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ERT  EI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RESPONSIBLE FOR THE FORMULA E=mc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DEAL  GAS 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04840" y="762120"/>
            <a:ext cx="6934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EQUATION PV=n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419720"/>
            <a:ext cx="83059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ISENBERG  UNCERTAINTY  PRINCI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ORMULA ∆x</a:t>
            </a:r>
            <a:r>
              <a:rPr b="0" lang="en-US" sz="4000" spc="-1" strike="noStrike" baseline="-5000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∆p ≥ h/2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VITATIONAL  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ORMULA G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ALCUL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CLERK  MAX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EQUATIONS ARE TH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2576520" y="1936800"/>
            <a:ext cx="399096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IOD  OF  A  PEND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1066680" y="762120"/>
            <a:ext cx="7010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ORMULA 2π√(L/g) CALCUL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TON'S  SECOND 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ULA F=ma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RESPONSIBLE FOR THE FORMULA E=mc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HRÖDINGER'S 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533520" y="72396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THIS FORM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"/>
          <p:cNvPicPr/>
          <p:nvPr/>
        </p:nvPicPr>
        <p:blipFill>
          <a:blip r:embed="rId1"/>
          <a:stretch/>
        </p:blipFill>
        <p:spPr>
          <a:xfrm>
            <a:off x="2514600" y="1925640"/>
            <a:ext cx="4075200" cy="283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0" y="441972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=IR                                               (VOLTAGE = CURRENT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.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SISTA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257480" y="723960"/>
            <a:ext cx="6629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ULA IS KNOWN AS OHM'S LA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NS 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1447920" y="762120"/>
            <a:ext cx="6248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ULA 1/u + 1/v = 1/f   USUALLY CALL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EQUATION PV=n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ORMULA ∆x</a:t>
            </a:r>
            <a:r>
              <a:rPr b="0" lang="en-US" sz="4000" spc="-1" strike="noStrike" baseline="-5000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∆p ≥ h/2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ORMULA G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ALCUL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EQUATIONS ARE THE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576520" y="2057400"/>
            <a:ext cx="3990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ORMULA 2π√(L/g) CALCUL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ULA F=ma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THIS FORMU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327400" y="2057400"/>
            <a:ext cx="44877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1T13:28:23Z</dcterms:created>
  <dc:creator>Jennifer Budzinski</dc:creator>
  <dc:description/>
  <dc:language>en-US</dc:language>
  <cp:lastModifiedBy>Erich Friedman</cp:lastModifiedBy>
  <dcterms:modified xsi:type="dcterms:W3CDTF">2020-09-05T12:37:45Z</dcterms:modified>
  <cp:revision>337</cp:revision>
  <dc:subject/>
  <dc:title>Slide 1</dc:title>
</cp:coreProperties>
</file>