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87AF-3356-4296-82F5-A35156FFA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DD63-5E04-427D-870B-F4A91459D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22CB-A6B7-4E3B-9058-65542C842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0811-E758-4740-B4BC-3550DE738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7D8C-D363-40F4-9CE3-EC4F51213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FEAC-954A-4B1A-A779-0F70D2FD1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2269-EFD9-4901-A4D0-BD3817D04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0849-B1BD-40CE-9F57-4B0ED5C92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5AE4-CFB0-4CD3-ACF4-ECF3ACFFD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CE126-CA27-459C-AE56-92D85E268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7C24-478C-4725-BCAB-67FD98A91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1D81-EF53-4EF2-8256-16147CE0D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24BD-1FC2-4CE0-AB5B-782623C5B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4D51-0951-49B2-9F68-A350D5321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42A1-4421-42FE-8FD0-CE640B34F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2E72-02B2-4D6A-8DAC-80996BFEB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B216-7E21-4C69-9A19-95409D611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351C-8A26-42DF-A44D-9D7D2F407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C19F-8E9F-412B-BBBA-F15C956C5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1CF7-FE29-4B0F-9491-A6E553C87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5992-E7BD-4617-9C22-2C461E321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E31B-22AE-4EA2-B3F4-D85833013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E714-121A-424B-AD59-FD8EA0B64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SCIENTI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87984-004-5ADE9ACA.jpg"/>
          <p:cNvPicPr/>
          <p:nvPr/>
        </p:nvPicPr>
        <p:blipFill>
          <a:blip r:embed="rId1"/>
          <a:stretch/>
        </p:blipFill>
        <p:spPr>
          <a:xfrm>
            <a:off x="3048120" y="1295280"/>
            <a:ext cx="30477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file-20180102-26163-d9wlms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9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BERT  EI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VSGZHGib_400x400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335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SAAC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isaac-newton-56458980-H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403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GOOD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RobinHolland_JaneGoodallPortrait.png"/>
          <p:cNvPicPr/>
          <p:nvPr/>
        </p:nvPicPr>
        <p:blipFill>
          <a:blip r:embed="rId1"/>
          <a:stretch/>
        </p:blipFill>
        <p:spPr>
          <a:xfrm>
            <a:off x="2286000" y="1295280"/>
            <a:ext cx="46623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CU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10-things-you-need-to-know-about-marie-curie-on-her-150th-birthday-136422702192003901-171107102018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405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darwin_c_2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HAW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ap_16264652581537.jpg"/>
          <p:cNvPicPr/>
          <p:nvPr/>
        </p:nvPicPr>
        <p:blipFill>
          <a:blip r:embed="rId1"/>
          <a:stretch/>
        </p:blipFill>
        <p:spPr>
          <a:xfrm>
            <a:off x="1143000" y="1371600"/>
            <a:ext cx="69944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  PASTE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louis-pasteur-9434402-1-402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VSGZHGib_400x400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ILEO  GALILE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galileo-AB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862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STO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87984-004-5ADE9ACA.jpg"/>
          <p:cNvPicPr/>
          <p:nvPr/>
        </p:nvPicPr>
        <p:blipFill>
          <a:blip r:embed="rId1"/>
          <a:stretch/>
        </p:blipFill>
        <p:spPr>
          <a:xfrm>
            <a:off x="3048120" y="1295280"/>
            <a:ext cx="30477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305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KOLA  TES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file-20180102-26163-d9wlms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isaac-newton-56458980-H.jpg"/>
          <p:cNvPicPr/>
          <p:nvPr/>
        </p:nvPicPr>
        <p:blipFill>
          <a:blip r:embed="rId1"/>
          <a:stretch/>
        </p:blipFill>
        <p:spPr>
          <a:xfrm>
            <a:off x="2438280" y="1295280"/>
            <a:ext cx="41403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RobinHolland_JaneGoodallPortrait.png"/>
          <p:cNvPicPr/>
          <p:nvPr/>
        </p:nvPicPr>
        <p:blipFill>
          <a:blip r:embed="rId1"/>
          <a:stretch/>
        </p:blipFill>
        <p:spPr>
          <a:xfrm>
            <a:off x="2286000" y="1295280"/>
            <a:ext cx="46623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10-things-you-need-to-know-about-marie-curie-on-her-150th-birthday-136422702192003901-171107102018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40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darwin_c_2.jpg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ap_16264652581537.jpg"/>
          <p:cNvPicPr/>
          <p:nvPr/>
        </p:nvPicPr>
        <p:blipFill>
          <a:blip r:embed="rId1"/>
          <a:stretch/>
        </p:blipFill>
        <p:spPr>
          <a:xfrm>
            <a:off x="1143000" y="1371600"/>
            <a:ext cx="69944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louis-pasteur-9434402-1-402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galileo-AB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862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4T17:09:45Z</dcterms:created>
  <dc:creator>Jennifer Budzinski</dc:creator>
  <dc:description/>
  <dc:language>en-US</dc:language>
  <cp:lastModifiedBy>Erich Friedman</cp:lastModifiedBy>
  <dcterms:modified xsi:type="dcterms:W3CDTF">2020-09-04T15:45:09Z</dcterms:modified>
  <cp:revision>286</cp:revision>
  <dc:subject/>
  <dc:title>Slide 1</dc:title>
</cp:coreProperties>
</file>