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9723-E64A-4DCE-B9F7-3D8E17C00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D9F8-E6B8-42FE-96E4-2D78159F5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E546-6515-481A-9406-903ADAD3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B539-7A51-495C-BBF0-6C8EC56D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DBC-2759-4143-8EA3-68DDAD73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CF27-D611-4EE2-A028-F828813C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D14C-7A3B-406D-86AD-9631C77DD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7FE1-29A9-4883-8FDF-6F7ABCCA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1237-F0BA-40E2-86D8-84720CA01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BD88-503D-476E-8F47-27C720D7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18C-FBF9-4879-B72F-EB53F1FC8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473D-BF6D-4990-8091-96D8717D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E237-C718-4804-A2FC-CDB575031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59DB-912F-40A3-ABE4-83F44436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A65D-D55D-4535-A6D5-3AF3F213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9E4-DE3D-44DD-8DA2-F26109E9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2E0F-5306-48E2-B62C-F4BA777E7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EEC-F5CC-4D37-9AC5-9A30642C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207E-7DB5-451B-B9AD-3F2297E5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45B-F871-4545-B4EC-4937F31C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E797-A5F0-4FF9-9BF1-9E1A3E63C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246-F486-4E88-B2B4-5A35C8FD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7FC2-637F-4B55-B1A1-66557EF5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SCIENT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87984-004-5ADE9ACA.jpg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file-20180102-26163-d9wlms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VSGZHGib_400x400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isaac-newton-56458980-H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40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OO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obinHolland_JaneGoodallPortrait.png"/>
          <p:cNvPicPr/>
          <p:nvPr/>
        </p:nvPicPr>
        <p:blipFill>
          <a:blip r:embed="rId1"/>
          <a:stretch/>
        </p:blipFill>
        <p:spPr>
          <a:xfrm>
            <a:off x="2286000" y="1295280"/>
            <a:ext cx="46623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10-things-you-need-to-know-about-marie-curie-on-her-150th-birthday-136422702192003901-171107102018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40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darwin_c_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HAW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p_16264652581537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94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PAS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louis-pasteur-9434402-1-402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VSGZHGib_400x400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alileo-A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862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STO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87984-004-5ADE9ACA.jpg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OLA  TE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file-20180102-26163-d9wlms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isaac-newton-56458980-H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40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RobinHolland_JaneGoodallPortrait.png"/>
          <p:cNvPicPr/>
          <p:nvPr/>
        </p:nvPicPr>
        <p:blipFill>
          <a:blip r:embed="rId1"/>
          <a:stretch/>
        </p:blipFill>
        <p:spPr>
          <a:xfrm>
            <a:off x="2286000" y="1295280"/>
            <a:ext cx="46623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10-things-you-need-to-know-about-marie-curie-on-her-150th-birthday-136422702192003901-171107102018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40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darwin_c_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p_16264652581537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94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louis-pasteur-9434402-1-402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lileo-A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86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7:09:45Z</dcterms:created>
  <dc:creator>Jennifer Budzinski</dc:creator>
  <dc:description/>
  <dc:language>en-US</dc:language>
  <cp:lastModifiedBy>Erich Friedman</cp:lastModifiedBy>
  <dcterms:modified xsi:type="dcterms:W3CDTF">2020-09-04T15:45:09Z</dcterms:modified>
  <cp:revision>286</cp:revision>
  <dc:subject/>
  <dc:title>Slide 1</dc:title>
</cp:coreProperties>
</file>