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1395-3FB3-40A2-8DB6-4DC1DF4BD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309B-F390-4C5B-AA71-14E8326F0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5879-1536-48C9-A890-3B2A9528E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DDB5-864C-47F5-8BCD-ACF2DAED1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AB69-C495-46EF-A7C3-0FB07ADC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A1E1-3BD3-4437-975C-7BEE44EA2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2333-4DBE-4380-971B-E3E64D8F8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6A20-6210-43B0-B74B-230E94189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AF41-27CE-43F6-AE1B-A7AB243E8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106D-89D1-498A-ADCF-A0558804F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DE3F-D325-4C14-A667-8B259316B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FC1D-6E2C-43F8-B6E9-FC8F99ECD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95C8-E5D6-4931-AD6F-B8D7564A4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47D6-419E-4C06-909C-BC85095D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7A2D-85E6-4BB4-8E9C-06A5FD967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0A7E-B574-476A-9C3B-CA0003F24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B512-B54D-402B-81DA-80C8378E8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51E9-8039-4384-A700-308A28321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9807-80E4-483C-87F1-3CCEE8550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1293-6BEF-43D7-B142-2900E4D0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0C4E-1E6B-4635-A8E9-97F2B25D5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014D-F3DF-42B0-B1F5-2C6C7C210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0FE1-0FBB-48DB-BBF4-6017D437B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SCIENTI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87984-004-5ADE9ACA.jpg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file-20180102-26163-d9wlms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VSGZHGib_400x400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isaac-newton-56458980-H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403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GOOD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RobinHolland_JaneGoodallPortrait.png"/>
          <p:cNvPicPr/>
          <p:nvPr/>
        </p:nvPicPr>
        <p:blipFill>
          <a:blip r:embed="rId1"/>
          <a:stretch/>
        </p:blipFill>
        <p:spPr>
          <a:xfrm>
            <a:off x="2286000" y="1295280"/>
            <a:ext cx="46623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10-things-you-need-to-know-about-marie-curie-on-her-150th-birthday-136422702192003901-171107102018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40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darwin_c_2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HAW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ap_16264652581537.jpg"/>
          <p:cNvPicPr/>
          <p:nvPr/>
        </p:nvPicPr>
        <p:blipFill>
          <a:blip r:embed="rId1"/>
          <a:stretch/>
        </p:blipFill>
        <p:spPr>
          <a:xfrm>
            <a:off x="1143000" y="1371600"/>
            <a:ext cx="69944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PAST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louis-pasteur-9434402-1-402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VSGZHGib_400x400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ILEO  GALI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galileo-AB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862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STO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87984-004-5ADE9ACA.jpg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KOLA  TES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file-20180102-26163-d9wlms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isaac-newton-56458980-H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40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RobinHolland_JaneGoodallPortrait.png"/>
          <p:cNvPicPr/>
          <p:nvPr/>
        </p:nvPicPr>
        <p:blipFill>
          <a:blip r:embed="rId1"/>
          <a:stretch/>
        </p:blipFill>
        <p:spPr>
          <a:xfrm>
            <a:off x="2286000" y="1295280"/>
            <a:ext cx="46623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10-things-you-need-to-know-about-marie-curie-on-her-150th-birthday-136422702192003901-171107102018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40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darwin_c_2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ap_16264652581537.jpg"/>
          <p:cNvPicPr/>
          <p:nvPr/>
        </p:nvPicPr>
        <p:blipFill>
          <a:blip r:embed="rId1"/>
          <a:stretch/>
        </p:blipFill>
        <p:spPr>
          <a:xfrm>
            <a:off x="1143000" y="1371600"/>
            <a:ext cx="6994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louis-pasteur-9434402-1-402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galileo-AB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862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4T17:09:45Z</dcterms:created>
  <dc:creator>Jennifer Budzinski</dc:creator>
  <dc:description/>
  <dc:language>en-US</dc:language>
  <cp:lastModifiedBy>Erich Friedman</cp:lastModifiedBy>
  <dcterms:modified xsi:type="dcterms:W3CDTF">2020-09-04T15:45:09Z</dcterms:modified>
  <cp:revision>286</cp:revision>
  <dc:subject/>
  <dc:title>Slide 1</dc:title>
</cp:coreProperties>
</file>