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2AC9-2380-43C1-B506-AD9C24DEB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67DA-B14A-40DE-8059-6B24789F2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3914-D26F-4B77-BEEE-1DED0E58C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A106-833A-4892-BA8E-9B0C1B826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32F1-4159-48EC-8819-8C5646B48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A54C-4B27-4878-9D7E-C06F29F1A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BA63-ADC1-49C8-9101-F4F068AAB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B052-1EAA-4482-8C4A-87B72A57C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F7BB-B5B8-4CEB-B6C1-159E2C3B3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601B-22F4-44B1-9027-B082F7676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EBD1-94D8-4364-8920-E49AA17B9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4954-F1E0-446D-B6BA-0E34E5C5B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5A25-3C9B-4C43-BC01-0A7E07932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2755-F61C-4B82-8017-DE8294DA6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E797-B825-4EF2-BF00-A8E51DCDC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D2ED-888E-4EEE-91AF-90BD3175D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EEFE-C202-4130-8F59-45A8BC160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D47F-E23A-4737-AC7C-080FB9E66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D429-DCE9-47C8-BFE0-BAB563403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D316-5E85-4859-A324-9F67260E1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BDCF-5EC5-4CE0-BDDC-99BB2E4C9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2F9F-C594-47C1-8949-813C6F936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9890-EBC6-421D-859F-0B363DDA6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866960" y="159984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 TIME TRAVELER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3628492-hiro-nakamura-season-2-masi-oka-268494_704_396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27720" cy="37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d9d6c01ee2bee5078641e79ca2c6f072.jpg"/>
          <p:cNvPicPr/>
          <p:nvPr/>
        </p:nvPicPr>
        <p:blipFill>
          <a:blip r:embed="rId1"/>
          <a:stretch/>
        </p:blipFill>
        <p:spPr>
          <a:xfrm>
            <a:off x="2209680" y="1295280"/>
            <a:ext cx="4775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MAN  AND  PEAB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ShermanPeabody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WIE  AND  BRIAN  GRI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FG818STILL3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021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IP  J.  FRY  ("FUTURAMA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fry_660.jpg"/>
          <p:cNvPicPr/>
          <p:nvPr/>
        </p:nvPicPr>
        <p:blipFill>
          <a:blip r:embed="rId1"/>
          <a:stretch/>
        </p:blipFill>
        <p:spPr>
          <a:xfrm>
            <a:off x="3809880" y="1219320"/>
            <a:ext cx="15271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K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buck_rogers_nb_11_-_h_2017.jpg"/>
          <p:cNvPicPr/>
          <p:nvPr/>
        </p:nvPicPr>
        <p:blipFill>
          <a:blip r:embed="rId1"/>
          <a:stretch/>
        </p:blipFill>
        <p:spPr>
          <a:xfrm>
            <a:off x="1371600" y="1295280"/>
            <a:ext cx="6350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AND  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2015bill_ted_press_250515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76880" cy="354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1257480" y="4421160"/>
            <a:ext cx="6781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.  EMMETT  BROWN  ("BACK  TO  THE  FUTURE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Emmett_Brown_2.jpg"/>
          <p:cNvPicPr/>
          <p:nvPr/>
        </p:nvPicPr>
        <p:blipFill>
          <a:blip r:embed="rId1"/>
          <a:stretch/>
        </p:blipFill>
        <p:spPr>
          <a:xfrm>
            <a:off x="3009960" y="121752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46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CTOR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doctor-who-suit2-1016255.jpg"/>
          <p:cNvPicPr/>
          <p:nvPr/>
        </p:nvPicPr>
        <p:blipFill>
          <a:blip r:embed="rId1"/>
          <a:stretch/>
        </p:blipFill>
        <p:spPr>
          <a:xfrm>
            <a:off x="2057400" y="1295280"/>
            <a:ext cx="4876920" cy="35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ShermanPeabody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RMIN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landscape-1494343891-terminator.jpg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6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RO  NAKAMURA  ("HEROES"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3628492-hiro-nakamura-season-2-masi-oka-268494_704_396.jpg"/>
          <p:cNvPicPr/>
          <p:nvPr/>
        </p:nvPicPr>
        <p:blipFill>
          <a:blip r:embed="rId1"/>
          <a:stretch/>
        </p:blipFill>
        <p:spPr>
          <a:xfrm>
            <a:off x="1562040" y="1292400"/>
            <a:ext cx="6019920" cy="352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IN  P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d9d6c01ee2bee5078641e79ca2c6f072.jpg"/>
          <p:cNvPicPr/>
          <p:nvPr/>
        </p:nvPicPr>
        <p:blipFill>
          <a:blip r:embed="rId1"/>
          <a:stretch/>
        </p:blipFill>
        <p:spPr>
          <a:xfrm>
            <a:off x="2209680" y="1295280"/>
            <a:ext cx="4775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FG818STILL3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021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fry_660.jpg"/>
          <p:cNvPicPr/>
          <p:nvPr/>
        </p:nvPicPr>
        <p:blipFill>
          <a:blip r:embed="rId1"/>
          <a:stretch/>
        </p:blipFill>
        <p:spPr>
          <a:xfrm>
            <a:off x="3809880" y="1219320"/>
            <a:ext cx="15271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buck_rogers_nb_11_-_h_2017.jpg"/>
          <p:cNvPicPr/>
          <p:nvPr/>
        </p:nvPicPr>
        <p:blipFill>
          <a:blip r:embed="rId1"/>
          <a:stretch/>
        </p:blipFill>
        <p:spPr>
          <a:xfrm>
            <a:off x="1371600" y="1295280"/>
            <a:ext cx="63500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2015bill_ted_press_250515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76880" cy="35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4" descr="Emmett_Brown_2.jpg"/>
          <p:cNvPicPr/>
          <p:nvPr/>
        </p:nvPicPr>
        <p:blipFill>
          <a:blip r:embed="rId1"/>
          <a:stretch/>
        </p:blipFill>
        <p:spPr>
          <a:xfrm>
            <a:off x="2819520" y="1219320"/>
            <a:ext cx="37335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doctor-who-suit2-1016255.jpg"/>
          <p:cNvPicPr/>
          <p:nvPr/>
        </p:nvPicPr>
        <p:blipFill>
          <a:blip r:embed="rId1"/>
          <a:stretch/>
        </p:blipFill>
        <p:spPr>
          <a:xfrm>
            <a:off x="2057400" y="1295280"/>
            <a:ext cx="487692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landscape-1494343891-terminator.jpg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01:41:07Z</dcterms:created>
  <dc:creator>Jennifer Budzinski</dc:creator>
  <dc:description/>
  <dc:language>en-US</dc:language>
  <cp:lastModifiedBy>Erich Friedman</cp:lastModifiedBy>
  <dcterms:modified xsi:type="dcterms:W3CDTF">2020-09-05T12:38:45Z</dcterms:modified>
  <cp:revision>293</cp:revision>
  <dc:subject/>
  <dc:title>Slide 1</dc:title>
</cp:coreProperties>
</file>