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D042-DAE3-4E1E-BC51-FF2C0C83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243B-B53E-4048-AA8F-EA2E3F07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8DE-CB4E-4434-AC27-FC1291CB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0B95-9961-4068-98BD-8F9FD5A2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F4B-8CFC-49F7-8900-806EB262B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9E1-1F35-496F-805E-6B2B1A5C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34B5-A444-4B8A-83F1-20E74876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9D57-4272-41F7-BAFF-0759E599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CE9-9A4D-42A8-B215-2CF3C951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ACB-1455-4CA8-8E3B-AE5D1482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635-B976-4C3C-AFC7-91164FDE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8235-897D-445A-BA34-FDCD151E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4BC4-A094-4BDA-8C7D-C3B39A74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5F0C-EDA9-4853-B3A3-CD983ED3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70B-314C-4645-AE2B-317DCE75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305-67A8-4FD4-9E70-215385F6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AE3-893D-4822-915C-BADE5AC44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DF1-885E-491B-A593-25DA9A68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1AC-82AB-4DA7-BC3E-A24AA0D3E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740-34B7-4C81-9B16-CF93649C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91A3-8A86-4885-888D-8BD31AFE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5C37-F47E-4250-B63E-E8DB43F3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13F0-727F-4606-BD9B-85552373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66960" y="159984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 TIME TRAVEL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27720" cy="37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MAN  AND  PEA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WIE  AND  BRIAN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J.  FRY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AND  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57480" y="442116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EMMETT  BROWN  ("BACK  TO  THE  FUTUR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Emmett_Brown_2.jpg"/>
          <p:cNvPicPr/>
          <p:nvPr/>
        </p:nvPicPr>
        <p:blipFill>
          <a:blip r:embed="rId1"/>
          <a:stretch/>
        </p:blipFill>
        <p:spPr>
          <a:xfrm>
            <a:off x="3009960" y="12175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RO  NAKAMURA  ("HEROES"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562040" y="1292400"/>
            <a:ext cx="601992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Emmett_Brown_2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1:41:07Z</dcterms:created>
  <dc:creator>Jennifer Budzinski</dc:creator>
  <dc:description/>
  <dc:language>en-US</dc:language>
  <cp:lastModifiedBy>Erich Friedman</cp:lastModifiedBy>
  <dcterms:modified xsi:type="dcterms:W3CDTF">2020-09-05T12:38:45Z</dcterms:modified>
  <cp:revision>293</cp:revision>
  <dc:subject/>
  <dc:title>Slide 1</dc:title>
</cp:coreProperties>
</file>