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19D6-7AE0-4B35-99E2-BDADDD239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3864-A7A6-4B00-A1AF-72EDE3060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B93B-E92C-4F9B-B772-A6CA7DEB1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52F-33BD-459C-9ED2-C88781A7E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1AE5-DC41-4732-837A-B4C47DB8D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F898-B3D0-4CE2-87F5-33BAFE821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A1A7-E39F-4987-8539-8103DF140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E6DD-A4E5-40CB-93CB-72EF8E037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22FB-4D8E-402A-B265-31E84ADB7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00F9-52E7-4982-B5FF-64EBB3E9B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51F1-270A-4CDE-9AB8-736D1273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CA3D-CEC3-4997-9419-1CF926F03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B202-6EFF-4940-AE39-8095FEEF1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1760-AA16-48E1-A50D-EFCE48497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6D29-4882-45C4-A48A-EAC29D1F2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E2C7-F77E-4B88-8832-82D278C10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6F63-3FA2-4F2B-8700-026433E9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3F25-A0B0-454C-A8F6-E07C766FB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5910-92E0-4490-81B9-4D237C614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157D-CBE1-4B10-AA42-EFB2BA11E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CC27-3A07-4293-903D-6304A155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904F-CA98-4B4C-8870-E2173DBDD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E3C3-4399-41CE-B188-00A1BC20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866960" y="159984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 TIME TRAVELER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3628492-hiro-nakamura-season-2-masi-oka-268494_704_396.jpg"/>
          <p:cNvPicPr/>
          <p:nvPr/>
        </p:nvPicPr>
        <p:blipFill>
          <a:blip r:embed="rId1"/>
          <a:stretch/>
        </p:blipFill>
        <p:spPr>
          <a:xfrm>
            <a:off x="1447920" y="1295280"/>
            <a:ext cx="6327720" cy="370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d9d6c01ee2bee5078641e79ca2c6f072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RMAN  AND  PEABO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hermanPeabody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WIE  AND  BRIAN  GRI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FG818STILL3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021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IP  J.  FRY  ("FUTURAMA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fry_660.jpg"/>
          <p:cNvPicPr/>
          <p:nvPr/>
        </p:nvPicPr>
        <p:blipFill>
          <a:blip r:embed="rId1"/>
          <a:stretch/>
        </p:blipFill>
        <p:spPr>
          <a:xfrm>
            <a:off x="3809880" y="1219320"/>
            <a:ext cx="1527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CK  RO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buck_rogers_nb_11_-_h_2017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AND  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2015bill_ted_press_250515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76880" cy="354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1257480" y="4421160"/>
            <a:ext cx="6781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.  EMMETT  BROWN  ("BACK  TO  THE  FUTURE"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Emmett_Brown_2.jpg"/>
          <p:cNvPicPr/>
          <p:nvPr/>
        </p:nvPicPr>
        <p:blipFill>
          <a:blip r:embed="rId1"/>
          <a:stretch/>
        </p:blipFill>
        <p:spPr>
          <a:xfrm>
            <a:off x="3009960" y="121752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46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TOR  W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doctor-who-suit2-1016255.jpg"/>
          <p:cNvPicPr/>
          <p:nvPr/>
        </p:nvPicPr>
        <p:blipFill>
          <a:blip r:embed="rId1"/>
          <a:stretch/>
        </p:blipFill>
        <p:spPr>
          <a:xfrm>
            <a:off x="2057400" y="1295280"/>
            <a:ext cx="487692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ShermanPeabody.jpg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landscape-1494343891-terminator.jpg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61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RO  NAKAMURA  ("HEROES"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3628492-hiro-nakamura-season-2-masi-oka-268494_704_396.jpg"/>
          <p:cNvPicPr/>
          <p:nvPr/>
        </p:nvPicPr>
        <p:blipFill>
          <a:blip r:embed="rId1"/>
          <a:stretch/>
        </p:blipFill>
        <p:spPr>
          <a:xfrm>
            <a:off x="1562040" y="1292400"/>
            <a:ext cx="6019920" cy="352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IN  P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d9d6c01ee2bee5078641e79ca2c6f072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FG818STILL3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021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fry_660.jpg"/>
          <p:cNvPicPr/>
          <p:nvPr/>
        </p:nvPicPr>
        <p:blipFill>
          <a:blip r:embed="rId1"/>
          <a:stretch/>
        </p:blipFill>
        <p:spPr>
          <a:xfrm>
            <a:off x="3809880" y="1219320"/>
            <a:ext cx="1527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uck_rogers_nb_11_-_h_2017.jpg"/>
          <p:cNvPicPr/>
          <p:nvPr/>
        </p:nvPicPr>
        <p:blipFill>
          <a:blip r:embed="rId1"/>
          <a:stretch/>
        </p:blipFill>
        <p:spPr>
          <a:xfrm>
            <a:off x="1371600" y="1295280"/>
            <a:ext cx="6350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2015bill_ted_press_250515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76880" cy="354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4" descr="Emmett_Brown_2.jpg"/>
          <p:cNvPicPr/>
          <p:nvPr/>
        </p:nvPicPr>
        <p:blipFill>
          <a:blip r:embed="rId1"/>
          <a:stretch/>
        </p:blipFill>
        <p:spPr>
          <a:xfrm>
            <a:off x="2819520" y="1219320"/>
            <a:ext cx="373356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octor-who-suit2-1016255.jpg"/>
          <p:cNvPicPr/>
          <p:nvPr/>
        </p:nvPicPr>
        <p:blipFill>
          <a:blip r:embed="rId1"/>
          <a:stretch/>
        </p:blipFill>
        <p:spPr>
          <a:xfrm>
            <a:off x="2057400" y="1295280"/>
            <a:ext cx="487692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landscape-1494343891-terminator.jpg"/>
          <p:cNvPicPr/>
          <p:nvPr/>
        </p:nvPicPr>
        <p:blipFill>
          <a:blip r:embed="rId1"/>
          <a:stretch/>
        </p:blipFill>
        <p:spPr>
          <a:xfrm>
            <a:off x="1143000" y="1295280"/>
            <a:ext cx="7010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1:41:07Z</dcterms:created>
  <dc:creator>Jennifer Budzinski</dc:creator>
  <dc:description/>
  <dc:language>en-US</dc:language>
  <cp:lastModifiedBy>Erich Friedman</cp:lastModifiedBy>
  <dcterms:modified xsi:type="dcterms:W3CDTF">2020-09-05T12:38:45Z</dcterms:modified>
  <cp:revision>293</cp:revision>
  <dc:subject/>
  <dc:title>Slide 1</dc:title>
</cp:coreProperties>
</file>