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A1E96-792A-42C8-A087-C367006801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71D8E-55FA-4322-942D-AF264E978E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ADF21-F718-450C-BC3C-EC40E2EFD5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D5041-3F38-4869-9275-ED98AFC039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4B282-7E0D-4410-8A34-CBA0847465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1903A-0291-49AD-9DE9-33031F07FA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A179B-24F7-4F05-9316-448996702D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81305-CAD4-4B40-88E9-042AC0CCB6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83973-9F7E-46FA-BA16-10FCE8D153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69310-280D-471C-B827-7B7E1CBD48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C6796-5FD4-4764-884D-797D1ABC09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FB923-4B38-4660-A5C0-B94ED75F63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EFE1C-B8A1-4241-A6FC-C95E30FB8E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822E0-1D31-4327-906D-D2D7E57658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786F7-1969-40F1-A4D3-2785F8B828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54308-5759-457C-92D5-C4B95F2236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44EBD-0BF7-4264-962A-EE7FA95EBD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7B7F9-FE0D-4952-8BA6-B091408358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B7EA1-57EE-40F1-9A7B-18EE1BF011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2F0B6-4588-459F-B6AF-F374293571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A434A-3035-4AD0-AD7C-A80AB99104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C51B7-2082-4655-ABA6-124A14AB21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08338-DABD-485C-AAF7-AA3494F94D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876240" y="1676520"/>
            <a:ext cx="73915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DENTIFY THESE FICTIONAL SPACECRAFT OR THE TV SHOW OR FILM EACH CAME FROM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9" name="Picture 2" descr="1493_Tardis_46__26361.1497284154.jpg"/>
          <p:cNvPicPr/>
          <p:nvPr/>
        </p:nvPicPr>
        <p:blipFill>
          <a:blip r:embed="rId1"/>
          <a:stretch/>
        </p:blipFill>
        <p:spPr>
          <a:xfrm>
            <a:off x="3429000" y="1219320"/>
            <a:ext cx="233856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1" name="Picture 2" descr="Heart-of-Gold-movie.jpg"/>
          <p:cNvPicPr/>
          <p:nvPr/>
        </p:nvPicPr>
        <p:blipFill>
          <a:blip r:embed="rId1"/>
          <a:stretch/>
        </p:blipFill>
        <p:spPr>
          <a:xfrm>
            <a:off x="2286000" y="1219320"/>
            <a:ext cx="4343400" cy="3260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Rectangle 3"/>
          <p:cNvSpPr/>
          <p:nvPr/>
        </p:nvSpPr>
        <p:spPr>
          <a:xfrm>
            <a:off x="457200" y="495288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USS  ENTERPRISE   /  STAR TRE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5" name="Picture 3" descr="USS ENTERPRISE.jpg"/>
          <p:cNvPicPr/>
          <p:nvPr/>
        </p:nvPicPr>
        <p:blipFill>
          <a:blip r:embed="rId1"/>
          <a:stretch/>
        </p:blipFill>
        <p:spPr>
          <a:xfrm>
            <a:off x="1447920" y="1295280"/>
            <a:ext cx="6381720" cy="3505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Rectangle 3"/>
          <p:cNvSpPr/>
          <p:nvPr/>
        </p:nvSpPr>
        <p:spPr>
          <a:xfrm>
            <a:off x="343080" y="4952880"/>
            <a:ext cx="84582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ILLENNIUM  FALCON  /  STAR W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Picture 3" descr="MILLENNIUM FALCON.jpg"/>
          <p:cNvPicPr/>
          <p:nvPr/>
        </p:nvPicPr>
        <p:blipFill>
          <a:blip r:embed="rId1"/>
          <a:stretch/>
        </p:blipFill>
        <p:spPr>
          <a:xfrm>
            <a:off x="1600200" y="1219320"/>
            <a:ext cx="6051600" cy="3581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Rectangle 3"/>
          <p:cNvSpPr/>
          <p:nvPr/>
        </p:nvSpPr>
        <p:spPr>
          <a:xfrm>
            <a:off x="317520" y="4991040"/>
            <a:ext cx="853452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ERENITY  /  FIREF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Picture 3" descr="SERENITY (FIREFLY).jpg"/>
          <p:cNvPicPr/>
          <p:nvPr/>
        </p:nvPicPr>
        <p:blipFill>
          <a:blip r:embed="rId1"/>
          <a:stretch/>
        </p:blipFill>
        <p:spPr>
          <a:xfrm>
            <a:off x="1523880" y="1219320"/>
            <a:ext cx="6121440" cy="3581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/>
          </p:nvPr>
        </p:nvSpPr>
        <p:spPr>
          <a:xfrm>
            <a:off x="380880" y="685440"/>
            <a:ext cx="8382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ATTLESTAR  GALACT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4" name="Picture 3" descr="BATTLESTAR GALACTICA.jpg"/>
          <p:cNvPicPr/>
          <p:nvPr/>
        </p:nvPicPr>
        <p:blipFill>
          <a:blip r:embed="rId1"/>
          <a:stretch/>
        </p:blipFill>
        <p:spPr>
          <a:xfrm>
            <a:off x="1295280" y="1219320"/>
            <a:ext cx="6648480" cy="3733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Rectangle 3"/>
          <p:cNvSpPr/>
          <p:nvPr/>
        </p:nvSpPr>
        <p:spPr>
          <a:xfrm>
            <a:off x="1676520" y="4495680"/>
            <a:ext cx="57909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LANET  EXPRESS  SHIP  /  FUTURAM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Picture 3" descr="The_Planet_Express_Ship (FUTURAMA).jpg"/>
          <p:cNvPicPr/>
          <p:nvPr/>
        </p:nvPicPr>
        <p:blipFill>
          <a:blip r:embed="rId1"/>
          <a:stretch/>
        </p:blipFill>
        <p:spPr>
          <a:xfrm>
            <a:off x="457200" y="1295280"/>
            <a:ext cx="8191440" cy="3048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Rectangle 3"/>
          <p:cNvSpPr/>
          <p:nvPr/>
        </p:nvSpPr>
        <p:spPr>
          <a:xfrm>
            <a:off x="1276200" y="4464000"/>
            <a:ext cx="6591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3000"/>
          </a:bodyPr>
          <a:p>
            <a:pPr marL="181800" indent="-1818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ISCOVERY  ONE  /        2001:  A  SPACE  ODYSS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1800" indent="-1818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1800" indent="-1818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0" name="Picture 3" descr="DISCOVERY ONE (2001, A SPACE ODYSSEY).jpg"/>
          <p:cNvPicPr/>
          <p:nvPr/>
        </p:nvPicPr>
        <p:blipFill>
          <a:blip r:embed="rId1"/>
          <a:stretch/>
        </p:blipFill>
        <p:spPr>
          <a:xfrm>
            <a:off x="1523880" y="1231920"/>
            <a:ext cx="6096240" cy="3217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UPITER  2  /  LOST  IN  SPA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Picture 3" descr="JUPITER 2 (LOST IN SPACE).jpg"/>
          <p:cNvPicPr/>
          <p:nvPr/>
        </p:nvPicPr>
        <p:blipFill>
          <a:blip r:embed="rId1"/>
          <a:stretch/>
        </p:blipFill>
        <p:spPr>
          <a:xfrm>
            <a:off x="1295280" y="1219320"/>
            <a:ext cx="6564600" cy="3504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3" name="Picture 2" descr="USS ENTERPRISE.jpg"/>
          <p:cNvPicPr/>
          <p:nvPr/>
        </p:nvPicPr>
        <p:blipFill>
          <a:blip r:embed="rId1"/>
          <a:stretch/>
        </p:blipFill>
        <p:spPr>
          <a:xfrm>
            <a:off x="1447920" y="1295280"/>
            <a:ext cx="6381720" cy="350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Rectangle 3"/>
          <p:cNvSpPr/>
          <p:nvPr/>
        </p:nvSpPr>
        <p:spPr>
          <a:xfrm>
            <a:off x="343080" y="4495680"/>
            <a:ext cx="84582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3000"/>
          </a:bodyPr>
          <a:p>
            <a:pPr marL="181800" indent="-1818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UNDERFIGHTER  /  BUCK  ROGERS  IN  THE  25</a:t>
            </a:r>
            <a:r>
              <a:rPr b="0" i="1" lang="en-US" sz="36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 CENTU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1800" indent="-1818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1800" indent="-1818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6" name="Picture 3" descr="5272920459_1357441368_o.jpg"/>
          <p:cNvPicPr/>
          <p:nvPr/>
        </p:nvPicPr>
        <p:blipFill>
          <a:blip r:embed="rId1"/>
          <a:stretch/>
        </p:blipFill>
        <p:spPr>
          <a:xfrm>
            <a:off x="1482840" y="1219320"/>
            <a:ext cx="6178320" cy="3190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/>
          </p:nvPr>
        </p:nvSpPr>
        <p:spPr>
          <a:xfrm>
            <a:off x="53352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Rectangle 3"/>
          <p:cNvSpPr/>
          <p:nvPr/>
        </p:nvSpPr>
        <p:spPr>
          <a:xfrm>
            <a:off x="457200" y="495288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ARDIS  /  DOCTOR  WH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Picture 3" descr="1493_Tardis_46__26361.1497284154.jpg"/>
          <p:cNvPicPr/>
          <p:nvPr/>
        </p:nvPicPr>
        <p:blipFill>
          <a:blip r:embed="rId1"/>
          <a:stretch/>
        </p:blipFill>
        <p:spPr>
          <a:xfrm>
            <a:off x="3429000" y="1219320"/>
            <a:ext cx="2338560" cy="365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Rectangle 3"/>
          <p:cNvSpPr/>
          <p:nvPr/>
        </p:nvSpPr>
        <p:spPr>
          <a:xfrm>
            <a:off x="457200" y="4457880"/>
            <a:ext cx="8229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5000"/>
          </a:bodyPr>
          <a:p>
            <a:pPr marL="188640" indent="-1886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EART  OF  GOLD  /  HITCHHIKER'S  GUIDE  TO  THE  GALAX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8640" indent="-1886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8640" indent="-188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Picture 3" descr="Heart-of-Gold-movie.jpg"/>
          <p:cNvPicPr/>
          <p:nvPr/>
        </p:nvPicPr>
        <p:blipFill>
          <a:blip r:embed="rId1"/>
          <a:stretch/>
        </p:blipFill>
        <p:spPr>
          <a:xfrm>
            <a:off x="2514600" y="1219320"/>
            <a:ext cx="4114800" cy="3089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5" name="Picture 2" descr="MILLENNIUM FALCON.jpg"/>
          <p:cNvPicPr/>
          <p:nvPr/>
        </p:nvPicPr>
        <p:blipFill>
          <a:blip r:embed="rId1"/>
          <a:stretch/>
        </p:blipFill>
        <p:spPr>
          <a:xfrm>
            <a:off x="1600200" y="1219320"/>
            <a:ext cx="6051600" cy="358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7" name="Picture 3" descr="SERENITY (FIREFLY).jpg"/>
          <p:cNvPicPr/>
          <p:nvPr/>
        </p:nvPicPr>
        <p:blipFill>
          <a:blip r:embed="rId1"/>
          <a:stretch/>
        </p:blipFill>
        <p:spPr>
          <a:xfrm>
            <a:off x="1523880" y="1219320"/>
            <a:ext cx="6121440" cy="358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9" name="Picture 2" descr="BATTLESTAR GALACTICA.jpg"/>
          <p:cNvPicPr/>
          <p:nvPr/>
        </p:nvPicPr>
        <p:blipFill>
          <a:blip r:embed="rId1"/>
          <a:stretch/>
        </p:blipFill>
        <p:spPr>
          <a:xfrm>
            <a:off x="1295280" y="1219320"/>
            <a:ext cx="6648480" cy="373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1" name="Picture 2" descr="The_Planet_Express_Ship (FUTURAMA).jpg"/>
          <p:cNvPicPr/>
          <p:nvPr/>
        </p:nvPicPr>
        <p:blipFill>
          <a:blip r:embed="rId1"/>
          <a:stretch/>
        </p:blipFill>
        <p:spPr>
          <a:xfrm>
            <a:off x="457200" y="1295280"/>
            <a:ext cx="8191440" cy="304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3" name="Picture 4" descr="DISCOVERY ONE (2001, A SPACE ODYSSEY).jpg"/>
          <p:cNvPicPr/>
          <p:nvPr/>
        </p:nvPicPr>
        <p:blipFill>
          <a:blip r:embed="rId1"/>
          <a:stretch/>
        </p:blipFill>
        <p:spPr>
          <a:xfrm>
            <a:off x="1447920" y="1219320"/>
            <a:ext cx="6248160" cy="3298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5" name="Picture 3" descr="JUPITER 2 (LOST IN SPACE).jpg"/>
          <p:cNvPicPr/>
          <p:nvPr/>
        </p:nvPicPr>
        <p:blipFill>
          <a:blip r:embed="rId1"/>
          <a:stretch/>
        </p:blipFill>
        <p:spPr>
          <a:xfrm>
            <a:off x="1295280" y="1219320"/>
            <a:ext cx="6564600" cy="3504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7" name="Picture 2" descr="5272920459_1357441368_o.jpg"/>
          <p:cNvPicPr/>
          <p:nvPr/>
        </p:nvPicPr>
        <p:blipFill>
          <a:blip r:embed="rId1"/>
          <a:stretch/>
        </p:blipFill>
        <p:spPr>
          <a:xfrm>
            <a:off x="1371600" y="1219320"/>
            <a:ext cx="6345360" cy="3276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31T14:07:08Z</dcterms:created>
  <dc:creator>Jennifer Budzinski</dc:creator>
  <dc:description/>
  <dc:language>en-US</dc:language>
  <cp:lastModifiedBy>Erich Friedman</cp:lastModifiedBy>
  <dcterms:modified xsi:type="dcterms:W3CDTF">2020-09-05T12:39:17Z</dcterms:modified>
  <cp:revision>291</cp:revision>
  <dc:subject/>
  <dc:title>Slide 1</dc:title>
</cp:coreProperties>
</file>