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2105-000E-4A8C-A32F-87F8F231D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27A7-4CEC-43AF-945C-1BA8EE6B7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BF65-F4BB-4B2A-9ACD-4C71F6C6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11ED-C4A3-4A3F-9E7C-F82DB15D7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B31B-A3E5-4FF4-983C-481916E00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100F-9BF2-4155-A769-2E9E218C2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826-7391-4397-87F0-41292B6F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53FA-786B-456B-A808-A41B3CFE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184-78CB-44CC-8CDD-802268FB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2139-744E-4512-B313-606F2FE00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1BDB-5B3E-42D9-AB04-7076C3D41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419C-AEE8-4972-BBA6-867BBAC0A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7591-246F-43FF-A8E4-3B69DDE2C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12CE-8287-4B53-8170-E5156A2B8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4C3A-A745-404D-AE24-A9B6F9216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5C74-B91B-41B0-9076-8B0DCFD79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1753-780A-42FE-8138-C71A36B6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2C8-6A48-480B-9668-D587A096C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4EFDE-98C3-4A04-AA6C-A4BF1E953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591A-8CDA-4260-AD41-4E03BE8F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9934-75EA-4C59-8176-B05DBCF81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7D6F-9390-4CD9-BBCB-624245EB6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A665-0D94-4B5F-9B49-04A18C99E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6765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ICTIONAL SPACECRAFT OR THE TV SHOW OR FILM EACH CAME FROM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493_Tardis_46__26361.1497284154.jpg"/>
          <p:cNvPicPr/>
          <p:nvPr/>
        </p:nvPicPr>
        <p:blipFill>
          <a:blip r:embed="rId1"/>
          <a:stretch/>
        </p:blipFill>
        <p:spPr>
          <a:xfrm>
            <a:off x="3429000" y="121932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eart-of-Gold-movi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343400" cy="32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ENTERPRISE   /  STAR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USS ENTERPRISE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81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343080" y="4952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ENNIUM  FALCON  /  STAR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ILLENNIUM FALCON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516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17520" y="4991040"/>
            <a:ext cx="8534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ITY  /  FIRE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ERENITY (FIREFLY)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21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STAR  GALA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ATTLESTAR GALACTICA.jpg"/>
          <p:cNvPicPr/>
          <p:nvPr/>
        </p:nvPicPr>
        <p:blipFill>
          <a:blip r:embed="rId1"/>
          <a:stretch/>
        </p:blipFill>
        <p:spPr>
          <a:xfrm>
            <a:off x="1295280" y="1219320"/>
            <a:ext cx="6648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1676520" y="4495680"/>
            <a:ext cx="5790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  EXPRESS  SHIP  /  FUTU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The_Planet_Express_Ship (FUTURAMA).jpg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276200" y="4464000"/>
            <a:ext cx="659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ONE  /        2001:  A  SPACE  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ISCOVERY ONE (2001, A SPACE ODYSSEY).jpg"/>
          <p:cNvPicPr/>
          <p:nvPr/>
        </p:nvPicPr>
        <p:blipFill>
          <a:blip r:embed="rId1"/>
          <a:stretch/>
        </p:blipFill>
        <p:spPr>
          <a:xfrm>
            <a:off x="1523880" y="1231920"/>
            <a:ext cx="6096240" cy="32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  2  /  LOST  IN 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UPITER 2 (LOST IN SPACE)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646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USS ENTERPRISE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81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4956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FIGHTER  /  BUCK  ROGERS  IN  THE  2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ENT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5272920459_1357441368_o.jpg"/>
          <p:cNvPicPr/>
          <p:nvPr/>
        </p:nvPicPr>
        <p:blipFill>
          <a:blip r:embed="rId1"/>
          <a:stretch/>
        </p:blipFill>
        <p:spPr>
          <a:xfrm>
            <a:off x="1482840" y="1219320"/>
            <a:ext cx="6178320" cy="319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DIS  /  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1493_Tardis_46__26361.1497284154.jpg"/>
          <p:cNvPicPr/>
          <p:nvPr/>
        </p:nvPicPr>
        <p:blipFill>
          <a:blip r:embed="rId1"/>
          <a:stretch/>
        </p:blipFill>
        <p:spPr>
          <a:xfrm>
            <a:off x="3429000" y="1219320"/>
            <a:ext cx="233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4578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  OF  GOLD  /  HITCHHIKER'S  GUIDE  TO  THE  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eart-of-Gold-movie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14800" cy="30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ILLENNIUM FALCON.jpg"/>
          <p:cNvPicPr/>
          <p:nvPr/>
        </p:nvPicPr>
        <p:blipFill>
          <a:blip r:embed="rId1"/>
          <a:stretch/>
        </p:blipFill>
        <p:spPr>
          <a:xfrm>
            <a:off x="1600200" y="1219320"/>
            <a:ext cx="6051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SERENITY (FIREFLY).jpg"/>
          <p:cNvPicPr/>
          <p:nvPr/>
        </p:nvPicPr>
        <p:blipFill>
          <a:blip r:embed="rId1"/>
          <a:stretch/>
        </p:blipFill>
        <p:spPr>
          <a:xfrm>
            <a:off x="1523880" y="1219320"/>
            <a:ext cx="6121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ATTLESTAR GALACTICA.jpg"/>
          <p:cNvPicPr/>
          <p:nvPr/>
        </p:nvPicPr>
        <p:blipFill>
          <a:blip r:embed="rId1"/>
          <a:stretch/>
        </p:blipFill>
        <p:spPr>
          <a:xfrm>
            <a:off x="1295280" y="1219320"/>
            <a:ext cx="6648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he_Planet_Express_Ship (FUTURAMA).jpg"/>
          <p:cNvPicPr/>
          <p:nvPr/>
        </p:nvPicPr>
        <p:blipFill>
          <a:blip r:embed="rId1"/>
          <a:stretch/>
        </p:blipFill>
        <p:spPr>
          <a:xfrm>
            <a:off x="457200" y="1295280"/>
            <a:ext cx="81914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DISCOVERY ONE (2001, A SPACE ODYSSEY).jpg"/>
          <p:cNvPicPr/>
          <p:nvPr/>
        </p:nvPicPr>
        <p:blipFill>
          <a:blip r:embed="rId1"/>
          <a:stretch/>
        </p:blipFill>
        <p:spPr>
          <a:xfrm>
            <a:off x="1447920" y="1219320"/>
            <a:ext cx="6248160" cy="32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JUPITER 2 (LOST IN SPACE)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646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272920459_1357441368_o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453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4:07:08Z</dcterms:created>
  <dc:creator>Jennifer Budzinski</dc:creator>
  <dc:description/>
  <dc:language>en-US</dc:language>
  <cp:lastModifiedBy>Erich Friedman</cp:lastModifiedBy>
  <dcterms:modified xsi:type="dcterms:W3CDTF">2020-09-05T12:39:17Z</dcterms:modified>
  <cp:revision>291</cp:revision>
  <dc:subject/>
  <dc:title>Slide 1</dc:title>
</cp:coreProperties>
</file>