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824-C434-4B40-9C2C-C07353BE6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CD4-8BFC-402E-BDDE-C40D6ECC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F93A-F384-4B24-85B5-0A988C5C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E246-D16B-4F68-A743-66C812D0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C6F-7919-440D-BC4C-F6E259DF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6AE7-7630-492E-98DE-EA539BA5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BCEB-0731-45B4-B714-8B166C01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5297-3653-4CD6-BEED-DEC5A012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B4C4-9D44-409F-9E58-6CAE64D0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456-2489-4438-9554-43E2B13E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22B7-4940-4831-8D1F-8A1715D9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1F1-41A7-4AD8-B548-02BACFD0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CBF4-A380-4B3A-924A-16A40FA0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78C-D062-4E2F-AF54-79498894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8DF-59DB-4C4D-A9D4-D8CC2B22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3C5-B214-47C6-B9B9-8FE5FD00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5D6-2697-4F97-9DE1-2DE86CCAD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E0E7-FCCE-4082-8F3D-4D4E95E0D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17B-03D7-49AB-86DF-42ACFDB8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CBA-7B27-45FF-8B32-486D370F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DED9-F356-4CC0-B377-BEAD0AFE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278-8565-4EF2-A8D1-F97F6FD0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187-1964-46E3-9B1F-20E1F3F3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ICTIONAL SPACECRAFT OR THE TV SHOW OR FILM EACH CAME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eart-of-Gold-movi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ENTERPRISE   /  STAR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43080" y="4952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NNIUM  FALCON  /  STAR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17520" y="499104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  /  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STAR  GALA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1676520" y="44956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EXPRESS  SHIP  /  FUTU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76200" y="4464000"/>
            <a:ext cx="659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ONE  /        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SCOVERY ONE (2001, A SPACE ODYSSEY).jpg"/>
          <p:cNvPicPr/>
          <p:nvPr/>
        </p:nvPicPr>
        <p:blipFill>
          <a:blip r:embed="rId1"/>
          <a:stretch/>
        </p:blipFill>
        <p:spPr>
          <a:xfrm>
            <a:off x="1523880" y="1231920"/>
            <a:ext cx="609624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  2  /  LOST  IN 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4956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FIGHTER  /  BUCK  ROGERS  IN  THE  2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5272920459_1357441368_o.jpg"/>
          <p:cNvPicPr/>
          <p:nvPr/>
        </p:nvPicPr>
        <p:blipFill>
          <a:blip r:embed="rId1"/>
          <a:stretch/>
        </p:blipFill>
        <p:spPr>
          <a:xfrm>
            <a:off x="1482840" y="1219320"/>
            <a:ext cx="61783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DIS  /  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4578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GOLD  /  HITCHHIKER'S  GUIDE  TO  THE  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eart-of-Gold-movie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DISCOVERY ONE (2001, A SPACE ODYSSEY).jpg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32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272920459_1357441368_o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45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4:07:08Z</dcterms:created>
  <dc:creator>Jennifer Budzinski</dc:creator>
  <dc:description/>
  <dc:language>en-US</dc:language>
  <cp:lastModifiedBy>Erich Friedman</cp:lastModifiedBy>
  <dcterms:modified xsi:type="dcterms:W3CDTF">2020-09-05T12:39:17Z</dcterms:modified>
  <cp:revision>291</cp:revision>
  <dc:subject/>
  <dc:title>Slide 1</dc:title>
</cp:coreProperties>
</file>