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CCE6-DC18-45ED-81EA-19616F0E3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4C4C-1BC5-4EEF-8643-28E0C526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3B0C-BC21-4A32-841D-1DD0FF633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CDF1-4B12-4860-A7EA-94E745DEB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C6E1-0675-4089-AE92-457DDF5D7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ADFD-BA6E-4CDF-A9B7-767BD215A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1DDE-FA04-4943-8AF4-345F48A7A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0F3A-1B0F-4885-86EF-F06968890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28EE-AD8B-41DE-A062-B091C48F3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C0E8-A4CD-413C-A785-3E97B9AD1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A8C6-630F-41AA-A56C-67360D06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1292-342A-4E43-8D55-EE890826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5975-4163-4FB7-A03D-A10D6AA7B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C011-CA2A-4FBE-A39B-7C92D4BAB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FF11-1BB0-4202-9C17-E5B254EC1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BEB2-29F5-47E1-9644-466BFD542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D329-0C33-43F1-912B-3DF13A042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6A1C-47AC-46CF-86D3-24380D30C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22C8-E2EF-47FE-8635-698AA5C6A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0CD40-37E1-48FD-AC90-483390FBC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0FF5-C430-4CCD-9D9B-56CC6AF49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3786-76F4-4C4F-9E9C-FDEC5D4B1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4FB2-4EE6-4A9B-A70C-7FAAE7CA2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47640" y="21333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ROB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lide10.jpg"/>
          <p:cNvPicPr/>
          <p:nvPr/>
        </p:nvPicPr>
        <p:blipFill>
          <a:blip r:embed="rId1"/>
          <a:stretch/>
        </p:blipFill>
        <p:spPr>
          <a:xfrm>
            <a:off x="2451240" y="1333440"/>
            <a:ext cx="4240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lide162.jpg"/>
          <p:cNvPicPr/>
          <p:nvPr/>
        </p:nvPicPr>
        <p:blipFill>
          <a:blip r:embed="rId1"/>
          <a:stretch/>
        </p:blipFill>
        <p:spPr>
          <a:xfrm>
            <a:off x="1038240" y="1380960"/>
            <a:ext cx="706752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IE  ("THE JETSON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lide27.jpg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412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2-D2  ("STAR WAR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220px-R2-D2_Droid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89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228600" y="50292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TIMUS  PRIME  ("TRANSFORMER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350px-Optimusg1.jpg"/>
          <p:cNvPicPr/>
          <p:nvPr/>
        </p:nvPicPr>
        <p:blipFill>
          <a:blip r:embed="rId1"/>
          <a:stretch/>
        </p:blipFill>
        <p:spPr>
          <a:xfrm>
            <a:off x="3139920" y="1335240"/>
            <a:ext cx="2864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L–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Walle_Standing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671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59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228600" y="50292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BY  ("THE  FORBIDDEN  PLANET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418meP6q66L._SL500_AC_SS350_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TA  ("STAR  TREK:  TNG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lide7.jpg"/>
          <p:cNvPicPr/>
          <p:nvPr/>
        </p:nvPicPr>
        <p:blipFill>
          <a:blip r:embed="rId1"/>
          <a:stretch/>
        </p:blipFill>
        <p:spPr>
          <a:xfrm>
            <a:off x="1523880" y="1371600"/>
            <a:ext cx="62308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OC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lide62.jpg"/>
          <p:cNvPicPr/>
          <p:nvPr/>
        </p:nvPicPr>
        <p:blipFill>
          <a:blip r:embed="rId1"/>
          <a:stretch/>
        </p:blipFill>
        <p:spPr>
          <a:xfrm>
            <a:off x="1523880" y="1371600"/>
            <a:ext cx="63676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lide27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DER  ("FUTURAMA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220px-Bender_Rodriguez.jpg"/>
          <p:cNvPicPr/>
          <p:nvPr/>
        </p:nvPicPr>
        <p:blipFill>
          <a:blip r:embed="rId1"/>
          <a:stretch/>
        </p:blipFill>
        <p:spPr>
          <a:xfrm>
            <a:off x="3352680" y="1295280"/>
            <a:ext cx="24894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428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-9000  ("2001:  A SPACE ODYSSEY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lide10.jpg"/>
          <p:cNvPicPr/>
          <p:nvPr/>
        </p:nvPicPr>
        <p:blipFill>
          <a:blip r:embed="rId1"/>
          <a:stretch/>
        </p:blipFill>
        <p:spPr>
          <a:xfrm>
            <a:off x="2438280" y="1295280"/>
            <a:ext cx="42404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T  ("KNIGHT  RIDER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lide162.jpg"/>
          <p:cNvPicPr/>
          <p:nvPr/>
        </p:nvPicPr>
        <p:blipFill>
          <a:blip r:embed="rId1"/>
          <a:stretch/>
        </p:blipFill>
        <p:spPr>
          <a:xfrm>
            <a:off x="1143000" y="1447920"/>
            <a:ext cx="7067520" cy="34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20px-R2-D2_Droid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89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350px-Optimusg1.jpg"/>
          <p:cNvPicPr/>
          <p:nvPr/>
        </p:nvPicPr>
        <p:blipFill>
          <a:blip r:embed="rId1"/>
          <a:stretch/>
        </p:blipFill>
        <p:spPr>
          <a:xfrm>
            <a:off x="3139920" y="1371600"/>
            <a:ext cx="2864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0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Walle_Standing.jpg"/>
          <p:cNvPicPr/>
          <p:nvPr/>
        </p:nvPicPr>
        <p:blipFill>
          <a:blip r:embed="rId1"/>
          <a:stretch/>
        </p:blipFill>
        <p:spPr>
          <a:xfrm>
            <a:off x="2819520" y="1295280"/>
            <a:ext cx="3467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418meP6q66L._SL500_AC_SS350_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Slide7.jpg"/>
          <p:cNvPicPr/>
          <p:nvPr/>
        </p:nvPicPr>
        <p:blipFill>
          <a:blip r:embed="rId1"/>
          <a:stretch/>
        </p:blipFill>
        <p:spPr>
          <a:xfrm>
            <a:off x="1455840" y="1419120"/>
            <a:ext cx="6232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lide62.jpg"/>
          <p:cNvPicPr/>
          <p:nvPr/>
        </p:nvPicPr>
        <p:blipFill>
          <a:blip r:embed="rId1"/>
          <a:stretch/>
        </p:blipFill>
        <p:spPr>
          <a:xfrm>
            <a:off x="1523880" y="1371600"/>
            <a:ext cx="6367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5" descr="220px-Bender_Rodriguez.jpg"/>
          <p:cNvPicPr/>
          <p:nvPr/>
        </p:nvPicPr>
        <p:blipFill>
          <a:blip r:embed="rId1"/>
          <a:stretch/>
        </p:blipFill>
        <p:spPr>
          <a:xfrm>
            <a:off x="3327480" y="1371600"/>
            <a:ext cx="24890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6:28:36Z</dcterms:created>
  <dc:creator>Jennifer Budzinski</dc:creator>
  <dc:description/>
  <dc:language>en-US</dc:language>
  <cp:lastModifiedBy>Erich Friedman</cp:lastModifiedBy>
  <dcterms:modified xsi:type="dcterms:W3CDTF">2020-09-05T13:24:26Z</dcterms:modified>
  <cp:revision>289</cp:revision>
  <dc:subject/>
  <dc:title>Slide 1</dc:title>
</cp:coreProperties>
</file>