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5CB0-DA3A-4B0A-B32E-2AE83160C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9E9-198B-4BA4-BB95-A78D160D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2C28-4562-48A2-A353-29F3184B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74DD-E924-44D3-ABC7-40954055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4E46-A39A-46DC-AF91-EAE85B41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2B8-608C-4C51-BD51-4AF11107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2208-5D38-4B64-A5B7-824BEF5A0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CF8-99BE-4202-B818-E9BF3D9E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A378-FE2F-43F2-8C78-B262CF712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51D8-7EBF-4422-9C67-F0331E27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295F-B260-4BE8-8BD9-FD07346D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EB9E-1802-4B0A-98F2-B4BC7433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8FA1-3675-4E3F-93F4-586A0C0C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0C3-DD47-4A35-8BD2-8306AB13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7F51-6D8D-4430-8408-A37E15B4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69B4-2585-4B10-9E2A-3615559CD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B20-78FE-49DE-A89A-1337CD04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59DD-588C-43A2-B1B4-46B10EED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8D0-1527-442F-967F-83D84A45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E1AE-F1A3-4291-B201-4C015928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05EE-C62B-4E4E-9021-5880EE400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05A5-8651-46FA-8CF2-39ABCBDB6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09C-51BB-4ABE-8754-F7937276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47640" y="2133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OB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lide10.jpg"/>
          <p:cNvPicPr/>
          <p:nvPr/>
        </p:nvPicPr>
        <p:blipFill>
          <a:blip r:embed="rId1"/>
          <a:stretch/>
        </p:blipFill>
        <p:spPr>
          <a:xfrm>
            <a:off x="2451240" y="1333440"/>
            <a:ext cx="4240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lide162.jpg"/>
          <p:cNvPicPr/>
          <p:nvPr/>
        </p:nvPicPr>
        <p:blipFill>
          <a:blip r:embed="rId1"/>
          <a:stretch/>
        </p:blipFill>
        <p:spPr>
          <a:xfrm>
            <a:off x="1038240" y="1380960"/>
            <a:ext cx="70675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IE  ("THE JETSON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lide27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41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2-D2  ("STAR WA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220px-R2-D2_Droid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228600" y="50292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TIMUS  PRIME  ("TRANSFORME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350px-Optimusg1.jpg"/>
          <p:cNvPicPr/>
          <p:nvPr/>
        </p:nvPicPr>
        <p:blipFill>
          <a:blip r:embed="rId1"/>
          <a:stretch/>
        </p:blipFill>
        <p:spPr>
          <a:xfrm>
            <a:off x="3139920" y="1335240"/>
            <a:ext cx="2864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–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alle_Standing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67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9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28600" y="50292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Y  ("THE  FORBIDDEN  PLANET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418meP6q66L._SL500_AC_SS350_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A  ("STAR  TREK:  TNG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lide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2308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O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lide62.jpg"/>
          <p:cNvPicPr/>
          <p:nvPr/>
        </p:nvPicPr>
        <p:blipFill>
          <a:blip r:embed="rId1"/>
          <a:stretch/>
        </p:blipFill>
        <p:spPr>
          <a:xfrm>
            <a:off x="1523880" y="1371600"/>
            <a:ext cx="63676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lide2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DER  ("FUTURAMA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220px-Bender_Rodriguez.jpg"/>
          <p:cNvPicPr/>
          <p:nvPr/>
        </p:nvPicPr>
        <p:blipFill>
          <a:blip r:embed="rId1"/>
          <a:stretch/>
        </p:blipFill>
        <p:spPr>
          <a:xfrm>
            <a:off x="3352680" y="12952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428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-9000  ("2001:  A SPACE ODYSSEY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lide10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40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  ("KNIGHT  RIDER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lide162.jpg"/>
          <p:cNvPicPr/>
          <p:nvPr/>
        </p:nvPicPr>
        <p:blipFill>
          <a:blip r:embed="rId1"/>
          <a:stretch/>
        </p:blipFill>
        <p:spPr>
          <a:xfrm>
            <a:off x="1143000" y="1447920"/>
            <a:ext cx="706752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20px-R2-D2_Droid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50px-Optimusg1.jpg"/>
          <p:cNvPicPr/>
          <p:nvPr/>
        </p:nvPicPr>
        <p:blipFill>
          <a:blip r:embed="rId1"/>
          <a:stretch/>
        </p:blipFill>
        <p:spPr>
          <a:xfrm>
            <a:off x="3139920" y="1371600"/>
            <a:ext cx="2864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alle_Standing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67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418meP6q66L._SL500_AC_SS350_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Slide7.jpg"/>
          <p:cNvPicPr/>
          <p:nvPr/>
        </p:nvPicPr>
        <p:blipFill>
          <a:blip r:embed="rId1"/>
          <a:stretch/>
        </p:blipFill>
        <p:spPr>
          <a:xfrm>
            <a:off x="1455840" y="1419120"/>
            <a:ext cx="6232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lide62.jpg"/>
          <p:cNvPicPr/>
          <p:nvPr/>
        </p:nvPicPr>
        <p:blipFill>
          <a:blip r:embed="rId1"/>
          <a:stretch/>
        </p:blipFill>
        <p:spPr>
          <a:xfrm>
            <a:off x="1523880" y="1371600"/>
            <a:ext cx="6367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5" descr="220px-Bender_Rodriguez.jpg"/>
          <p:cNvPicPr/>
          <p:nvPr/>
        </p:nvPicPr>
        <p:blipFill>
          <a:blip r:embed="rId1"/>
          <a:stretch/>
        </p:blipFill>
        <p:spPr>
          <a:xfrm>
            <a:off x="3327480" y="13716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6:28:36Z</dcterms:created>
  <dc:creator>Jennifer Budzinski</dc:creator>
  <dc:description/>
  <dc:language>en-US</dc:language>
  <cp:lastModifiedBy>Erich Friedman</cp:lastModifiedBy>
  <dcterms:modified xsi:type="dcterms:W3CDTF">2020-09-05T13:24:26Z</dcterms:modified>
  <cp:revision>289</cp:revision>
  <dc:subject/>
  <dc:title>Slide 1</dc:title>
</cp:coreProperties>
</file>