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2972-5B3B-4F11-A8EF-F324DA96C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C15E-0C03-4A82-8828-0D63E396D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2138-A946-4FCF-B2CE-D71C05775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D4F1-388B-44AA-92FE-08AE02758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58EC-32DD-4932-BD55-FB08933D5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8B14-FCA4-471D-9294-5B4F0909C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CD4F-55DC-4B0D-992D-32F0AA6B4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7DEC-3EFD-4B91-B03A-9534B2F2C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3B4E-FD34-4332-B4D8-AE8508FF5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8805-6BCC-4FDB-A3C1-46851E259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893B-C64A-4DBD-81A4-668D0D8D8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117E-B087-4334-8450-A811111B4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E7CD-4D79-4756-8A7A-10D1783FA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0BA4-4957-4C5A-946D-18164420A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2A9F-9983-4698-A8FC-82A9D12B5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849B-B8B9-4BE8-B4BB-157251019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F6D6-CC76-44E3-99F8-F671440C3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E2D3-71B4-4D11-B1E0-BEF17EC2A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0580-FAAA-446B-951A-2D14F687C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01C5-2DB6-4EE7-B32E-69E8DA67D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6061-4B0E-4383-BCBC-EF8BF6E16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C19B-A486-49B7-AB1C-F148B0601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0BB2-4282-4BDD-8BB2-F1BFF6430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47640" y="21333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ROBO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lide10.jpg"/>
          <p:cNvPicPr/>
          <p:nvPr/>
        </p:nvPicPr>
        <p:blipFill>
          <a:blip r:embed="rId1"/>
          <a:stretch/>
        </p:blipFill>
        <p:spPr>
          <a:xfrm>
            <a:off x="2451240" y="1333440"/>
            <a:ext cx="42400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Slide162.jpg"/>
          <p:cNvPicPr/>
          <p:nvPr/>
        </p:nvPicPr>
        <p:blipFill>
          <a:blip r:embed="rId1"/>
          <a:stretch/>
        </p:blipFill>
        <p:spPr>
          <a:xfrm>
            <a:off x="1038240" y="1380960"/>
            <a:ext cx="7067520" cy="34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IE  ("THE JETSONS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lide27.jpg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412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2-D2  ("STAR WARS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220px-R2-D2_Droid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892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228600" y="502920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TIMUS  PRIME  ("TRANSFORMERS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350px-Optimusg1.jpg"/>
          <p:cNvPicPr/>
          <p:nvPr/>
        </p:nvPicPr>
        <p:blipFill>
          <a:blip r:embed="rId1"/>
          <a:stretch/>
        </p:blipFill>
        <p:spPr>
          <a:xfrm>
            <a:off x="3139920" y="1335240"/>
            <a:ext cx="28641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L–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Walle_Standing.jpg"/>
          <p:cNvPicPr/>
          <p:nvPr/>
        </p:nvPicPr>
        <p:blipFill>
          <a:blip r:embed="rId1"/>
          <a:stretch/>
        </p:blipFill>
        <p:spPr>
          <a:xfrm>
            <a:off x="2819520" y="1295280"/>
            <a:ext cx="34671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59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228600" y="50292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BY  ("THE  FORBIDDEN  PLANET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418meP6q66L._SL500_AC_SS350_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TA  ("STAR  TREK:  TNG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Slide7.jpg"/>
          <p:cNvPicPr/>
          <p:nvPr/>
        </p:nvPicPr>
        <p:blipFill>
          <a:blip r:embed="rId1"/>
          <a:stretch/>
        </p:blipFill>
        <p:spPr>
          <a:xfrm>
            <a:off x="1523880" y="1371600"/>
            <a:ext cx="62308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OC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Slide62.jpg"/>
          <p:cNvPicPr/>
          <p:nvPr/>
        </p:nvPicPr>
        <p:blipFill>
          <a:blip r:embed="rId1"/>
          <a:stretch/>
        </p:blipFill>
        <p:spPr>
          <a:xfrm>
            <a:off x="1523880" y="1371600"/>
            <a:ext cx="63676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Slide27.jpg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DER  ("FUTURAMA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220px-Bender_Rodriguez.jpg"/>
          <p:cNvPicPr/>
          <p:nvPr/>
        </p:nvPicPr>
        <p:blipFill>
          <a:blip r:embed="rId1"/>
          <a:stretch/>
        </p:blipFill>
        <p:spPr>
          <a:xfrm>
            <a:off x="3352680" y="1295280"/>
            <a:ext cx="24894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428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0" y="4952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-9000  ("2001:  A SPACE ODYSSEY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lide10.jpg"/>
          <p:cNvPicPr/>
          <p:nvPr/>
        </p:nvPicPr>
        <p:blipFill>
          <a:blip r:embed="rId1"/>
          <a:stretch/>
        </p:blipFill>
        <p:spPr>
          <a:xfrm>
            <a:off x="2438280" y="1295280"/>
            <a:ext cx="42404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T  ("KNIGHT  RIDER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lide162.jpg"/>
          <p:cNvPicPr/>
          <p:nvPr/>
        </p:nvPicPr>
        <p:blipFill>
          <a:blip r:embed="rId1"/>
          <a:stretch/>
        </p:blipFill>
        <p:spPr>
          <a:xfrm>
            <a:off x="1143000" y="1447920"/>
            <a:ext cx="7067520" cy="34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20px-R2-D2_Droid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892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350px-Optimusg1.jpg"/>
          <p:cNvPicPr/>
          <p:nvPr/>
        </p:nvPicPr>
        <p:blipFill>
          <a:blip r:embed="rId1"/>
          <a:stretch/>
        </p:blipFill>
        <p:spPr>
          <a:xfrm>
            <a:off x="3139920" y="1371600"/>
            <a:ext cx="28641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0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Walle_Standing.jpg"/>
          <p:cNvPicPr/>
          <p:nvPr/>
        </p:nvPicPr>
        <p:blipFill>
          <a:blip r:embed="rId1"/>
          <a:stretch/>
        </p:blipFill>
        <p:spPr>
          <a:xfrm>
            <a:off x="2819520" y="1295280"/>
            <a:ext cx="34671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418meP6q66L._SL500_AC_SS350_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Slide7.jpg"/>
          <p:cNvPicPr/>
          <p:nvPr/>
        </p:nvPicPr>
        <p:blipFill>
          <a:blip r:embed="rId1"/>
          <a:stretch/>
        </p:blipFill>
        <p:spPr>
          <a:xfrm>
            <a:off x="1455840" y="1419120"/>
            <a:ext cx="62323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Slide62.jpg"/>
          <p:cNvPicPr/>
          <p:nvPr/>
        </p:nvPicPr>
        <p:blipFill>
          <a:blip r:embed="rId1"/>
          <a:stretch/>
        </p:blipFill>
        <p:spPr>
          <a:xfrm>
            <a:off x="1523880" y="1371600"/>
            <a:ext cx="63676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5" descr="220px-Bender_Rodriguez.jpg"/>
          <p:cNvPicPr/>
          <p:nvPr/>
        </p:nvPicPr>
        <p:blipFill>
          <a:blip r:embed="rId1"/>
          <a:stretch/>
        </p:blipFill>
        <p:spPr>
          <a:xfrm>
            <a:off x="3327480" y="1371600"/>
            <a:ext cx="24890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6:28:36Z</dcterms:created>
  <dc:creator>Jennifer Budzinski</dc:creator>
  <dc:description/>
  <dc:language>en-US</dc:language>
  <cp:lastModifiedBy>Erich Friedman</cp:lastModifiedBy>
  <dcterms:modified xsi:type="dcterms:W3CDTF">2020-09-05T13:24:26Z</dcterms:modified>
  <cp:revision>289</cp:revision>
  <dc:subject/>
  <dc:title>Slide 1</dc:title>
</cp:coreProperties>
</file>