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99091-FB6F-4818-85BE-6E4699368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08406-D823-4905-A2AB-35940C0F2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57F66-A466-49B9-BCCF-F8FE9884B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EB821-C65C-4CB0-9AEF-8A90F00C1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D561D-E6C5-4A11-92DF-D0E2407BE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66C41-E154-4A3A-9BC8-E77CFCD0B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CA5C0-0AD2-4214-8560-71D56BDF0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15C9B-67A7-48F5-B6A0-C625C29DF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CCE5-C8A2-4084-88C1-464281692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066E0-84BA-441F-BE6C-1DF5329F1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825F4-5B6A-483D-8822-5C67B4554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1E988-B579-45F7-91FA-CB2ABACDC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ED8B0-C2CD-4983-BD01-6DA667983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661BE-7348-453E-BA59-1F05231E8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A5C26-DE62-41D4-A1E8-23DEDE012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6C7C0-47E6-44F8-B77A-2B1B40BA8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EB61E-4264-47D1-A760-981BEFB01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A14FF-7438-475A-8956-210E15FB1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D54F-32ED-405D-8210-383ABB4F3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D4F69-5B9F-4577-A5F2-740A5BAE9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8EF52-3738-429B-ACAD-0DD763D5B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E783A-D895-4547-8E7E-559EA37AF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D1022-E284-46B4-84E0-B3834859C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SOLAR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PLANET HAS A DAY TWICE AS LONG AS ITS YE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80880" y="762120"/>
            <a:ext cx="8382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IS THE SUN THE HOTTEST?  AT THE CENTER, SURFACE, OR CORON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EN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09480" y="762120"/>
            <a:ext cx="79250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HOTTEST PLANET IN OUR SOLAR SYST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RAN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123920" y="762120"/>
            <a:ext cx="68961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LANET'S AXIS OF ROTATION IS TILTED 9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RELATIVE TO ALL THE OTHER PLANE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19040" y="4941720"/>
            <a:ext cx="8305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PI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34308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PLANET HAS THE LARGEST MOON, LARGER  THAN THE SMALLEST PLAN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E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ASTEROID IN THE ASTEROID BELT, CONTAINING ABOUT 30% OF THE MASS OF THE ENTIRE ASTEROID BEL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533520" y="49528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PTU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04920" y="762120"/>
            <a:ext cx="8534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W THAT PLUTO HAS BEEN DEMOTED TO A DWARF PLANET, WHAT IS THE FARTHEST PLANET FROM THE SU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1  Y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333440" y="762120"/>
            <a:ext cx="64771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LONG IS THE SUN'S SUNSPOT CYCLE?      11, 13, OR 17 YEAR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PLANET CONTAINS A CANYON 10 TIMES AS LONG AS THE GRAND CANY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HOTTEST PLANET IN OUR SOLAR SYSTE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.5  BILLION  Y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838080" y="762120"/>
            <a:ext cx="7467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OLD IS OUR SOLAR SYSTEM?  1.1, 4.5, OR 13.7 BILLION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RCU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19040" y="762120"/>
            <a:ext cx="8305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PLANET HAS A DAY TWICE AS LONG AS ITS Y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EN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57200" y="76212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IS THE SUN THE HOTTEST?  AT THE CENTER, SURFACE, OR CORON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LANET'S AXIS OF ROTATION IS TILTED 9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RELATIVE TO ALL THE OTHER PLANE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4308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PLANET HAS THE LARGEST MOON, LARGER  THAN THE SMALLEST PLAN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ASTEROID IN THE ASTEROID BELT, CONTAINING ABOUT 30% OF THE MASS OF THE ENTIRE ASTEROID BEL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W THAT PLUTO HAS BEEN DEMOTED TO A DWARF PLANET, WHAT IS THE FARTHEST PLANET FROM THE SU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257120" y="761760"/>
            <a:ext cx="6629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LONG IS THE SUN'S SUNSPOT CYCLE?      11, 13, OR 17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66720" y="761760"/>
            <a:ext cx="78105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PLANET CONTAINS A CANYON 10 TIMES AS LONG AS THE GRAND CANYON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OLD IS OUR SOLAR SYSTEM?  1.1, 4.5, OR 13.7 BILLION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9T22:17:01Z</dcterms:created>
  <dc:creator>Jennifer Budzinski</dc:creator>
  <dc:description/>
  <dc:language>en-US</dc:language>
  <cp:lastModifiedBy>Erich Friedman</cp:lastModifiedBy>
  <dcterms:modified xsi:type="dcterms:W3CDTF">2020-12-16T13:46:39Z</dcterms:modified>
  <cp:revision>330</cp:revision>
  <dc:subject/>
  <dc:title>Slide 1</dc:title>
</cp:coreProperties>
</file>