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A0AB-90E3-406D-98DF-055D6EE78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79D4-0898-46AF-8952-760B76FD4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61938-74B9-41F9-870E-4C918D7A5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C823-6E1D-4AEB-B71D-DF55F69E6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ECCD-7401-4E68-AC06-125C22740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2A79-1695-494C-AA58-CB2BDE7C6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B2AA-56EA-409C-9366-36F48BE37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6884-712E-4272-896F-3990BAEF8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8B5E-0397-4A83-9CD6-6FFC6ACB4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A623-BFF3-4B01-B98B-D7E68173E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36BF-2795-44BC-9407-0F5E01B15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1B03-90F3-4B93-B83F-0598E052B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51CC-331B-4E93-8F7C-A4F910875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D9F5-2356-4DA1-8DF3-080E37EAD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FA5B-7D4D-4CE0-A118-CAC2853B7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ACC2-F7FF-4429-AF79-9EB2AB9D1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0880-3C1E-4268-851C-C003E5D4C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FB69-6B76-4C83-9EE1-2B70CCA46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584D-2C8C-41B1-BA6D-06B27A5EB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478B-6C0E-4341-BF1B-5E8B9D94E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9CD7-2367-409F-B33C-8CAAF7009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EAEB-00D0-43E3-9005-FFAF2C8E6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66F8-CFD9-4CAF-B4E6-9416BF2C1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OLA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LANET HAS A DAY TWICE AS LONG AS ITS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THE SUN THE HOTTEST?  AT THE CENTER, SURFACE, OR CORO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OTTEST PLANET IN OUR SOLAR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23920" y="762120"/>
            <a:ext cx="6896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T'S AXIS OF ROTATION IS TILTED 9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ELATIVE TO ALL THE OTHER PLAN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19040" y="494172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LANET HAS THE LARGEST MOON, LARGER  THAN THE SMALLEST PLA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ASTEROID IN THE ASTEROID BELT, CONTAINING ABOUT 30% OF THE MASS OF THE ENTIRE ASTEROID BE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W THAT PLUTO HAS BEEN DEMOTED TO A DWARF PLANET, WHAT IS THE FARTHEST PLANET FROM THE SU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1 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333440" y="762120"/>
            <a:ext cx="6477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IS THE SUN'S SUNSPOT CYCLE?      11, 13, OR 17 YEA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LANET CONTAINS A CANYON 10 TIMES AS LONG AS THE GRAND CANY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OTTEST PLANET IN OUR SOLAR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.5  BILLION 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OLD IS OUR SOLAR SYSTEM?  1.1, 4.5, OR 13.7 BILLION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LANET HAS A DAY TWICE AS LONG AS ITS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THE SUN THE HOTTEST?  AT THE CENTER, SURFACE, OR CORON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T'S AXIS OF ROTATION IS TILTED 9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ELATIVE TO ALL THE OTHER PLAN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LANET HAS THE LARGEST MOON, LARGER  THAN THE SMALLEST PLA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ASTEROID IN THE ASTEROID BELT, CONTAINING ABOUT 30% OF THE MASS OF THE ENTIRE ASTEROID BE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W THAT PLUTO HAS BEEN DEMOTED TO A DWARF PLANET, WHAT IS THE FARTHEST PLANET FROM THE S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IS THE SUN'S SUNSPOT CYCLE?      11, 13, OR 17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LANET CONTAINS A CANYON 10 TIMES AS LONG AS THE GRAND CANY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OLD IS OUR SOLAR SYSTEM?  1.1, 4.5, OR 13.7 BILLION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9T22:17:01Z</dcterms:created>
  <dc:creator>Jennifer Budzinski</dc:creator>
  <dc:description/>
  <dc:language>en-US</dc:language>
  <cp:lastModifiedBy>Erich Friedman</cp:lastModifiedBy>
  <dcterms:modified xsi:type="dcterms:W3CDTF">2020-12-16T13:46:39Z</dcterms:modified>
  <cp:revision>330</cp:revision>
  <dc:subject/>
  <dc:title>Slide 1</dc:title>
</cp:coreProperties>
</file>