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C10E-519B-4E02-837F-4FAECFBB7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E570-15E1-4434-906E-8B7077A58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3A1C-1F1A-4423-A3F9-871E55E21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2C6F-D3C5-4010-A515-650936837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C8CA-20D3-4384-BBCC-BDCB8735D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A657-31FB-47AE-A6E7-3041CFCB5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726E-0D81-4D37-A955-DDB715494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2ABF-F666-483A-9219-7288B427D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728B-A952-4C98-9C52-D989B500A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9B17-003C-4C3F-A731-30231EB22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1895-885D-4979-899B-844E3AE98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B226-3C5B-4ED8-A315-3BD87C1FD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75D8-AF20-4D70-AAFD-EB046250C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85F8-3333-4C81-9B3E-4EB479E3D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1021-BFDD-4724-9C5E-72A166F21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7804-EF04-4BB3-B7F1-9FEAD6B9A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A839-BFB8-459A-98FC-E6E73441E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6612-094A-4E41-A27A-5DAEF0DD6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6502-F8E9-4C69-B3FE-84FD582AA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A7CB-A9AD-4A33-98CA-D9DE675AC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A951-1177-4DFA-87BF-0F7E50EF1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95C2-9882-411A-ADF0-512A9D391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FD97-5916-4CD9-8525-529511F7E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OLA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LANET HAS A DAY TWICE AS LONG AS ITS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THE SUN THE HOTTEST?  AT THE CENTER, SURFACE, OR CORO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OTTEST PLANET IN OUR SOLAR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23920" y="762120"/>
            <a:ext cx="6896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T'S AXIS OF ROTATION IS TILTED 9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ELATIVE TO ALL THE OTHER PLAN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19040" y="494172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LANET HAS THE LARGEST MOON, LARGER  THAN THE SMALLEST PLA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ASTEROID IN THE ASTEROID BELT, CONTAINING ABOUT 30% OF THE MASS OF THE ENTIRE ASTEROID BE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W THAT PLUTO HAS BEEN DEMOTED TO A DWARF PLANET, WHAT IS THE FARTHEST PLANET FROM THE SU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1 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333440" y="762120"/>
            <a:ext cx="6477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IS THE SUN'S SUNSPOT CYCLE?      11, 13, OR 17 YEA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LANET CONTAINS A CANYON 10 TIMES AS LONG AS THE GRAND CANY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OTTEST PLANET IN OUR SOLAR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.5  BILLION 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OLD IS OUR SOLAR SYSTEM?  1.1, 4.5, OR 13.7 BILLION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LANET HAS A DAY TWICE AS LONG AS ITS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THE SUN THE HOTTEST?  AT THE CENTER, SURFACE, OR CORON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T'S AXIS OF ROTATION IS TILTED 9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ELATIVE TO ALL THE OTHER PLAN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LANET HAS THE LARGEST MOON, LARGER  THAN THE SMALLEST PLA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ASTEROID IN THE ASTEROID BELT, CONTAINING ABOUT 30% OF THE MASS OF THE ENTIRE ASTEROID BE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W THAT PLUTO HAS BEEN DEMOTED TO A DWARF PLANET, WHAT IS THE FARTHEST PLANET FROM THE S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IS THE SUN'S SUNSPOT CYCLE?      11, 13, OR 17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LANET CONTAINS A CANYON 10 TIMES AS LONG AS THE GRAND CANY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OLD IS OUR SOLAR SYSTEM?  1.1, 4.5, OR 13.7 BILLION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22:17:01Z</dcterms:created>
  <dc:creator>Jennifer Budzinski</dc:creator>
  <dc:description/>
  <dc:language>en-US</dc:language>
  <cp:lastModifiedBy>Erich Friedman</cp:lastModifiedBy>
  <dcterms:modified xsi:type="dcterms:W3CDTF">2020-12-16T13:46:39Z</dcterms:modified>
  <cp:revision>330</cp:revision>
  <dc:subject/>
  <dc:title>Slide 1</dc:title>
</cp:coreProperties>
</file>