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101-C524-4479-9C8B-8ACBD974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3E5-5959-4CC9-9C22-E1541E84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BA5C-1752-40EB-856C-F41CCE8FE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499-FB16-499C-8331-8E37AAC1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0B66-73B2-49AB-9ABC-BA64A6D9C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1B9C-BB16-4359-834A-4E776856A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AEC5-EECD-4086-82A9-DC0B8DA9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FD8-A955-4095-B233-EE2B6ABB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720E-621C-434B-B37B-A86259DE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E23E-C22E-4644-8850-2826668E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3F01-4569-4E93-A4E9-250C631F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D7F5-3E98-41B0-9FFF-57F897CA7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6F28-B8F4-4323-97A1-272B80686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279-E1E7-4487-93F0-1D158E06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BBBB-36F7-4EDA-A52E-FE4269BF4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BD04-8798-4FBE-AA9C-CF86DFC0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58B-3AD1-4BFD-A0F9-43169D99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E7E5-820F-450D-B42A-2FED74EBC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745B-83A9-4A63-B28F-30FC2E929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4493-7FA6-42FD-B5F6-99DCFB8C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BEE3-6A8B-4855-A509-8FD1DD96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8C30-27C5-4102-AB13-3DEDA1AF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F778-68E7-4343-BC88-E587B557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WEATHER SYMBO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Untitled.jpg"/>
          <p:cNvPicPr/>
          <p:nvPr/>
        </p:nvPicPr>
        <p:blipFill>
          <a:blip r:embed="rId1"/>
          <a:stretch/>
        </p:blipFill>
        <p:spPr>
          <a:xfrm>
            <a:off x="3645000" y="2666880"/>
            <a:ext cx="185400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ATH SYMBOL ME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Untitled.jpg"/>
          <p:cNvPicPr/>
          <p:nvPr/>
        </p:nvPicPr>
        <p:blipFill>
          <a:blip r:embed="rId1"/>
          <a:stretch/>
        </p:blipFill>
        <p:spPr>
          <a:xfrm>
            <a:off x="3325680" y="2743200"/>
            <a:ext cx="2492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762120" y="757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IS FOR A ZODIAC SIGN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libra.png"/>
          <p:cNvPicPr/>
          <p:nvPr/>
        </p:nvPicPr>
        <p:blipFill>
          <a:blip r:embed="rId1"/>
          <a:stretch/>
        </p:blipFill>
        <p:spPr>
          <a:xfrm>
            <a:off x="3505320" y="2666880"/>
            <a:ext cx="2133360" cy="18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AN ALCHEMIST SYMBOL.  WHAT DOES IT STAND FOR, GOLD, SILVER, OR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gold.png"/>
          <p:cNvPicPr/>
          <p:nvPr/>
        </p:nvPicPr>
        <p:blipFill>
          <a:blip r:embed="rId1"/>
          <a:stretch/>
        </p:blipFill>
        <p:spPr>
          <a:xfrm>
            <a:off x="3772080" y="32702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GER DOES THIS SYMBOL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gi-1.png"/>
          <p:cNvPicPr/>
          <p:nvPr/>
        </p:nvPicPr>
        <p:blipFill>
          <a:blip r:embed="rId1"/>
          <a:stretch/>
        </p:blipFill>
        <p:spPr>
          <a:xfrm>
            <a:off x="3657600" y="2743200"/>
            <a:ext cx="18367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144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NATIVE AMERICAN SYMBOL MEAN? TRIBE, FAMILY, OR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Untitled.jpg"/>
          <p:cNvPicPr/>
          <p:nvPr/>
        </p:nvPicPr>
        <p:blipFill>
          <a:blip r:embed="rId1"/>
          <a:stretch/>
        </p:blipFill>
        <p:spPr>
          <a:xfrm>
            <a:off x="3314880" y="3352680"/>
            <a:ext cx="2514600" cy="15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APPEARS ON JAPANESE MAPS.  WHAT DOES IT REPRES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gi-1.png"/>
          <p:cNvPicPr/>
          <p:nvPr/>
        </p:nvPicPr>
        <p:blipFill>
          <a:blip r:embed="rId1"/>
          <a:stretch/>
        </p:blipFill>
        <p:spPr>
          <a:xfrm>
            <a:off x="3808440" y="3276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799920" y="799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REPRESENT IN THE HARRY POTTER BOOK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ATHLY  HAL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i.png"/>
          <p:cNvPicPr/>
          <p:nvPr/>
        </p:nvPicPr>
        <p:blipFill>
          <a:blip r:embed="rId1"/>
          <a:stretch/>
        </p:blipFill>
        <p:spPr>
          <a:xfrm>
            <a:off x="3722760" y="3338640"/>
            <a:ext cx="169848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REPRESENTS ONE OF THE PLANETS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6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gi.png"/>
          <p:cNvPicPr/>
          <p:nvPr/>
        </p:nvPicPr>
        <p:blipFill>
          <a:blip r:embed="rId1"/>
          <a:stretch/>
        </p:blipFill>
        <p:spPr>
          <a:xfrm>
            <a:off x="3898800" y="3276720"/>
            <a:ext cx="1344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IS FOR A ZODIAC SIGN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libra.png"/>
          <p:cNvPicPr/>
          <p:nvPr/>
        </p:nvPicPr>
        <p:blipFill>
          <a:blip r:embed="rId1"/>
          <a:stretch/>
        </p:blipFill>
        <p:spPr>
          <a:xfrm>
            <a:off x="3505320" y="2666880"/>
            <a:ext cx="2133360" cy="18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AN ELECTRICAL WIRING DIA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Untitled.jpg"/>
          <p:cNvPicPr/>
          <p:nvPr/>
        </p:nvPicPr>
        <p:blipFill>
          <a:blip r:embed="rId1"/>
          <a:stretch/>
        </p:blipFill>
        <p:spPr>
          <a:xfrm>
            <a:off x="3425760" y="3276720"/>
            <a:ext cx="22924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WEATHER SYMBO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Untitled.jpg"/>
          <p:cNvPicPr/>
          <p:nvPr/>
        </p:nvPicPr>
        <p:blipFill>
          <a:blip r:embed="rId1"/>
          <a:stretch/>
        </p:blipFill>
        <p:spPr>
          <a:xfrm>
            <a:off x="3645000" y="2705040"/>
            <a:ext cx="185400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ATH SYMBOL ME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PORTIONAL 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gi.png"/>
          <p:cNvPicPr/>
          <p:nvPr/>
        </p:nvPicPr>
        <p:blipFill>
          <a:blip r:embed="rId1"/>
          <a:stretch/>
        </p:blipFill>
        <p:spPr>
          <a:xfrm>
            <a:off x="3505320" y="2057400"/>
            <a:ext cx="216828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Untitled.jpg"/>
          <p:cNvPicPr/>
          <p:nvPr/>
        </p:nvPicPr>
        <p:blipFill>
          <a:blip r:embed="rId2"/>
          <a:stretch/>
        </p:blipFill>
        <p:spPr>
          <a:xfrm>
            <a:off x="3325680" y="2705040"/>
            <a:ext cx="249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AN ALCHEMIST SYMBOL.  WHAT DOES IT STAND FOR, GOLD, SILVER, OR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gold.png"/>
          <p:cNvPicPr/>
          <p:nvPr/>
        </p:nvPicPr>
        <p:blipFill>
          <a:blip r:embed="rId1"/>
          <a:stretch/>
        </p:blipFill>
        <p:spPr>
          <a:xfrm>
            <a:off x="36576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GER DOES THIS SYMBOL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gi-1.png"/>
          <p:cNvPicPr/>
          <p:nvPr/>
        </p:nvPicPr>
        <p:blipFill>
          <a:blip r:embed="rId1"/>
          <a:stretch/>
        </p:blipFill>
        <p:spPr>
          <a:xfrm>
            <a:off x="3652920" y="2666880"/>
            <a:ext cx="18381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NATIVE AMERICAN SYMBOL MEAN? TRIBE, FAMILY, OR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Untitled.jpg"/>
          <p:cNvPicPr/>
          <p:nvPr/>
        </p:nvPicPr>
        <p:blipFill>
          <a:blip r:embed="rId1"/>
          <a:stretch/>
        </p:blipFill>
        <p:spPr>
          <a:xfrm>
            <a:off x="3029040" y="3200400"/>
            <a:ext cx="308592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APPEARS ON JAPANESE MAPS.  WHAT DOES IT REPRES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gi-1.png"/>
          <p:cNvPicPr/>
          <p:nvPr/>
        </p:nvPicPr>
        <p:blipFill>
          <a:blip r:embed="rId1"/>
          <a:stretch/>
        </p:blipFill>
        <p:spPr>
          <a:xfrm>
            <a:off x="361944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REPRESENT IN THE HARRY POTTER BOOK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gi.png"/>
          <p:cNvPicPr/>
          <p:nvPr/>
        </p:nvPicPr>
        <p:blipFill>
          <a:blip r:embed="rId1"/>
          <a:stretch/>
        </p:blipFill>
        <p:spPr>
          <a:xfrm>
            <a:off x="3478320" y="3276720"/>
            <a:ext cx="21873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REPRESENTS ONE OF THE PLANETS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gi.png"/>
          <p:cNvPicPr/>
          <p:nvPr/>
        </p:nvPicPr>
        <p:blipFill>
          <a:blip r:embed="rId1"/>
          <a:stretch/>
        </p:blipFill>
        <p:spPr>
          <a:xfrm>
            <a:off x="3838680" y="3276720"/>
            <a:ext cx="1466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AN ELECTRICAL WIRING DIA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Untitled.jpg"/>
          <p:cNvPicPr/>
          <p:nvPr/>
        </p:nvPicPr>
        <p:blipFill>
          <a:blip r:embed="rId1"/>
          <a:stretch/>
        </p:blipFill>
        <p:spPr>
          <a:xfrm>
            <a:off x="3352680" y="3352680"/>
            <a:ext cx="25275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1T19:24:40Z</dcterms:created>
  <dc:creator>Jennifer Budzinski</dc:creator>
  <dc:description/>
  <dc:language>en-US</dc:language>
  <cp:lastModifiedBy>Erich Friedman</cp:lastModifiedBy>
  <dcterms:modified xsi:type="dcterms:W3CDTF">2020-09-05T13:11:02Z</dcterms:modified>
  <cp:revision>286</cp:revision>
  <dc:subject/>
  <dc:title>Slide 1</dc:title>
</cp:coreProperties>
</file>