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BE83-6F0C-446B-A145-5425B4861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CF91-E037-4B34-A4EC-FF31C5748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BEF0-E0F8-48DE-A367-80D2C2F0E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CA04-D31E-44E0-8968-5527BB89C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8B56-DCBA-4F8C-8CAB-C13FAAE4E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5ED3-6062-4E2E-BF81-CDE48DB64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F811-2343-47BC-A804-BBBC2D1F5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FCD0-E9C4-4C37-A529-10B08AFE8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F462-06B0-4DAD-802B-D526BEA41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9653-FAAC-4D71-91E8-7128E2D25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ADFC-2AC8-4C2C-8896-5E1800168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288F-69A0-4C3A-AA37-2DF724401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153F-CE7D-4D84-AC33-7DA7AF8D8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2D5B-8117-4EB4-81F8-497378304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9142-D990-4F7E-AB6D-968887E53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E892-A5DB-4FFC-9A01-EFDD0E355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BD26-6C53-4930-BDC8-70BD851D6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2EAC-6DA3-46F7-B604-60B317EC8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0E8A-8F47-4B04-B802-9FD3F3699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E1F9-7D75-42C5-AF90-00B4F3989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5207-7C54-4631-BA5E-C165AFA26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7A47-1A77-4C61-905A-A1630D4AC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BD89-48BC-4954-8931-445BE91F3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WEATHER SYMBOL M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Untitled.jpg"/>
          <p:cNvPicPr/>
          <p:nvPr/>
        </p:nvPicPr>
        <p:blipFill>
          <a:blip r:embed="rId1"/>
          <a:stretch/>
        </p:blipFill>
        <p:spPr>
          <a:xfrm>
            <a:off x="3645000" y="2666880"/>
            <a:ext cx="1854000" cy="20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MATH SYMBOL MEA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Untitled.jpg"/>
          <p:cNvPicPr/>
          <p:nvPr/>
        </p:nvPicPr>
        <p:blipFill>
          <a:blip r:embed="rId1"/>
          <a:stretch/>
        </p:blipFill>
        <p:spPr>
          <a:xfrm>
            <a:off x="3325680" y="2743200"/>
            <a:ext cx="24926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762120" y="7570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SYMBOL IS FOR A ZODIAC SIGN.  WHICH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libra.png"/>
          <p:cNvPicPr/>
          <p:nvPr/>
        </p:nvPicPr>
        <p:blipFill>
          <a:blip r:embed="rId1"/>
          <a:stretch/>
        </p:blipFill>
        <p:spPr>
          <a:xfrm>
            <a:off x="3505320" y="2666880"/>
            <a:ext cx="2133360" cy="18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IS AN ALCHEMIST SYMBOL.  WHAT DOES IT STAND FOR, GOLD, SILVER, OR COPP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gold.png"/>
          <p:cNvPicPr/>
          <p:nvPr/>
        </p:nvPicPr>
        <p:blipFill>
          <a:blip r:embed="rId1"/>
          <a:stretch/>
        </p:blipFill>
        <p:spPr>
          <a:xfrm>
            <a:off x="3772080" y="327024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GER DOES THIS SYMBOL REPRES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IO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gi-1.png"/>
          <p:cNvPicPr/>
          <p:nvPr/>
        </p:nvPicPr>
        <p:blipFill>
          <a:blip r:embed="rId1"/>
          <a:stretch/>
        </p:blipFill>
        <p:spPr>
          <a:xfrm>
            <a:off x="3657600" y="2743200"/>
            <a:ext cx="183672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6144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NATIVE AMERICAN SYMBOL MEAN? TRIBE, FAMILY, OR BROT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Untitled.jpg"/>
          <p:cNvPicPr/>
          <p:nvPr/>
        </p:nvPicPr>
        <p:blipFill>
          <a:blip r:embed="rId1"/>
          <a:stretch/>
        </p:blipFill>
        <p:spPr>
          <a:xfrm>
            <a:off x="3314880" y="3352680"/>
            <a:ext cx="2514600" cy="15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576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SYMBOL APPEARS ON JAPANESE MAPS.  WHAT DOES IT REPRESEN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SP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gi-1.png"/>
          <p:cNvPicPr/>
          <p:nvPr/>
        </p:nvPicPr>
        <p:blipFill>
          <a:blip r:embed="rId1"/>
          <a:stretch/>
        </p:blipFill>
        <p:spPr>
          <a:xfrm>
            <a:off x="3808440" y="32767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799920" y="7999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REPRESENT IN THE HARRY POTTER BOOK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EATHLY  HALL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gi.png"/>
          <p:cNvPicPr/>
          <p:nvPr/>
        </p:nvPicPr>
        <p:blipFill>
          <a:blip r:embed="rId1"/>
          <a:stretch/>
        </p:blipFill>
        <p:spPr>
          <a:xfrm>
            <a:off x="3722760" y="3338640"/>
            <a:ext cx="1698480" cy="14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SYMBOL REPRESENTS ONE OF THE PLANETS.  WHICH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6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gi.png"/>
          <p:cNvPicPr/>
          <p:nvPr/>
        </p:nvPicPr>
        <p:blipFill>
          <a:blip r:embed="rId1"/>
          <a:stretch/>
        </p:blipFill>
        <p:spPr>
          <a:xfrm>
            <a:off x="3898800" y="3276720"/>
            <a:ext cx="134460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SYMBOL IS FOR A ZODIAC SIGN.  WHICH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libra.png"/>
          <p:cNvPicPr/>
          <p:nvPr/>
        </p:nvPicPr>
        <p:blipFill>
          <a:blip r:embed="rId1"/>
          <a:stretch/>
        </p:blipFill>
        <p:spPr>
          <a:xfrm>
            <a:off x="3505320" y="2666880"/>
            <a:ext cx="2133360" cy="18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AN ELECTRICAL WIRING DIAGRA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AC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Untitled.jpg"/>
          <p:cNvPicPr/>
          <p:nvPr/>
        </p:nvPicPr>
        <p:blipFill>
          <a:blip r:embed="rId1"/>
          <a:stretch/>
        </p:blipFill>
        <p:spPr>
          <a:xfrm>
            <a:off x="3425760" y="3276720"/>
            <a:ext cx="229248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WEATHER SYMBOL M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RRIC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Untitled.jpg"/>
          <p:cNvPicPr/>
          <p:nvPr/>
        </p:nvPicPr>
        <p:blipFill>
          <a:blip r:embed="rId1"/>
          <a:stretch/>
        </p:blipFill>
        <p:spPr>
          <a:xfrm>
            <a:off x="3645000" y="2705040"/>
            <a:ext cx="1854000" cy="20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7484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MATH SYMBOL MEA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PORTIONAL 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gi.png"/>
          <p:cNvPicPr/>
          <p:nvPr/>
        </p:nvPicPr>
        <p:blipFill>
          <a:blip r:embed="rId1"/>
          <a:stretch/>
        </p:blipFill>
        <p:spPr>
          <a:xfrm>
            <a:off x="3505320" y="2057400"/>
            <a:ext cx="2168280" cy="18288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" descr="Untitled.jpg"/>
          <p:cNvPicPr/>
          <p:nvPr/>
        </p:nvPicPr>
        <p:blipFill>
          <a:blip r:embed="rId2"/>
          <a:stretch/>
        </p:blipFill>
        <p:spPr>
          <a:xfrm>
            <a:off x="3325680" y="2705040"/>
            <a:ext cx="249264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IS AN ALCHEMIST SYMBOL.  WHAT DOES IT STAND FOR, GOLD, SILVER, OR COPP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gold.png"/>
          <p:cNvPicPr/>
          <p:nvPr/>
        </p:nvPicPr>
        <p:blipFill>
          <a:blip r:embed="rId1"/>
          <a:stretch/>
        </p:blipFill>
        <p:spPr>
          <a:xfrm>
            <a:off x="36576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GER DOES THIS SYMBOL REPRES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gi-1.png"/>
          <p:cNvPicPr/>
          <p:nvPr/>
        </p:nvPicPr>
        <p:blipFill>
          <a:blip r:embed="rId1"/>
          <a:stretch/>
        </p:blipFill>
        <p:spPr>
          <a:xfrm>
            <a:off x="3652920" y="2666880"/>
            <a:ext cx="183816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NATIVE AMERICAN SYMBOL MEAN? TRIBE, FAMILY, OR BROT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Untitled.jpg"/>
          <p:cNvPicPr/>
          <p:nvPr/>
        </p:nvPicPr>
        <p:blipFill>
          <a:blip r:embed="rId1"/>
          <a:stretch/>
        </p:blipFill>
        <p:spPr>
          <a:xfrm>
            <a:off x="3029040" y="3200400"/>
            <a:ext cx="308592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SYMBOL APPEARS ON JAPANESE MAPS.  WHAT DOES IT REPRESEN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gi-1.png"/>
          <p:cNvPicPr/>
          <p:nvPr/>
        </p:nvPicPr>
        <p:blipFill>
          <a:blip r:embed="rId1"/>
          <a:stretch/>
        </p:blipFill>
        <p:spPr>
          <a:xfrm>
            <a:off x="3619440" y="3352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REPRESENT IN THE HARRY POTTER BOOK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gi.png"/>
          <p:cNvPicPr/>
          <p:nvPr/>
        </p:nvPicPr>
        <p:blipFill>
          <a:blip r:embed="rId1"/>
          <a:stretch/>
        </p:blipFill>
        <p:spPr>
          <a:xfrm>
            <a:off x="3478320" y="3276720"/>
            <a:ext cx="218736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799920" y="72396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SYMBOL REPRESENTS ONE OF THE PLANETS.  WHICH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gi.png"/>
          <p:cNvPicPr/>
          <p:nvPr/>
        </p:nvPicPr>
        <p:blipFill>
          <a:blip r:embed="rId1"/>
          <a:stretch/>
        </p:blipFill>
        <p:spPr>
          <a:xfrm>
            <a:off x="3838680" y="3276720"/>
            <a:ext cx="14666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AN ELECTRICAL WIRING DIAGRA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Untitled.jpg"/>
          <p:cNvPicPr/>
          <p:nvPr/>
        </p:nvPicPr>
        <p:blipFill>
          <a:blip r:embed="rId1"/>
          <a:stretch/>
        </p:blipFill>
        <p:spPr>
          <a:xfrm>
            <a:off x="3352680" y="3352680"/>
            <a:ext cx="2527560" cy="1765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1T19:24:40Z</dcterms:created>
  <dc:creator>Jennifer Budzinski</dc:creator>
  <dc:description/>
  <dc:language>en-US</dc:language>
  <cp:lastModifiedBy>Erich Friedman</cp:lastModifiedBy>
  <dcterms:modified xsi:type="dcterms:W3CDTF">2020-09-05T13:11:02Z</dcterms:modified>
  <cp:revision>286</cp:revision>
  <dc:subject/>
  <dc:title>Slide 1</dc:title>
</cp:coreProperties>
</file>