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7C7D-E939-40AB-BD64-9AEAC7FE4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9ED1-357C-424E-B390-3BD198E4D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8587-DAB3-474A-81D0-B4AA85392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3B58-B911-4524-8178-B90CDAB7F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3149-EF2F-4612-8335-7BFC31868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23CA-B807-43E9-A19A-4DDFB4C37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F4B5-24A1-48E4-A615-BD3ACB6BA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5AAF-9F55-463F-B3D1-E6276510E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9B4A-28C6-4101-83AD-C33173356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FD8C-99BA-4BB9-BC9A-165F63064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98B3-EECE-4A95-AA7A-1BB8A9F28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B98E-A2E1-4463-8333-51DFD946F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1443-8BDE-40CF-81D4-1D65EDB6C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FBD3-020F-41D9-A712-11668A938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2FE8-21ED-43B0-92E4-DB3318A61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74ED-CB79-4336-BCA6-8D2A1C11F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F91B-07A6-4588-A9E2-097EC37F4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93BB-D7B8-45F7-A9DC-5EF263E41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C1F7-F664-4ACD-9061-3DD180C7F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9891-6A81-4909-9580-712E23959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478D-8728-44BC-A6F7-B3B4D89B1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E29B-B62D-4C04-AC4A-00A08D7FB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B999-282C-43A8-9737-4AEFFEFEF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MB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WEATHER SYMBOL M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Untitled.jpg"/>
          <p:cNvPicPr/>
          <p:nvPr/>
        </p:nvPicPr>
        <p:blipFill>
          <a:blip r:embed="rId1"/>
          <a:stretch/>
        </p:blipFill>
        <p:spPr>
          <a:xfrm>
            <a:off x="3645000" y="2666880"/>
            <a:ext cx="1854000" cy="20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MATH SYMBOL MEA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Untitled.jpg"/>
          <p:cNvPicPr/>
          <p:nvPr/>
        </p:nvPicPr>
        <p:blipFill>
          <a:blip r:embed="rId1"/>
          <a:stretch/>
        </p:blipFill>
        <p:spPr>
          <a:xfrm>
            <a:off x="3325680" y="2743200"/>
            <a:ext cx="249264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762120" y="757080"/>
            <a:ext cx="7619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SYMBOL IS FOR A ZODIAC SIGN.  WHICH 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libra.png"/>
          <p:cNvPicPr/>
          <p:nvPr/>
        </p:nvPicPr>
        <p:blipFill>
          <a:blip r:embed="rId1"/>
          <a:stretch/>
        </p:blipFill>
        <p:spPr>
          <a:xfrm>
            <a:off x="3505320" y="2666880"/>
            <a:ext cx="2133360" cy="18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IS AN ALCHEMIST SYMBOL.  WHAT DOES IT STAND FOR, GOLD, SILVER, OR COPP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gold.png"/>
          <p:cNvPicPr/>
          <p:nvPr/>
        </p:nvPicPr>
        <p:blipFill>
          <a:blip r:embed="rId1"/>
          <a:stretch/>
        </p:blipFill>
        <p:spPr>
          <a:xfrm>
            <a:off x="3772080" y="327024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GER DOES THIS SYMBOL REPRES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DIO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gi-1.png"/>
          <p:cNvPicPr/>
          <p:nvPr/>
        </p:nvPicPr>
        <p:blipFill>
          <a:blip r:embed="rId1"/>
          <a:stretch/>
        </p:blipFill>
        <p:spPr>
          <a:xfrm>
            <a:off x="3657600" y="2743200"/>
            <a:ext cx="183672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61440" y="761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NATIVE AMERICAN SYMBOL MEAN? TRIBE, FAMILY, OR BROTH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Untitled.jpg"/>
          <p:cNvPicPr/>
          <p:nvPr/>
        </p:nvPicPr>
        <p:blipFill>
          <a:blip r:embed="rId1"/>
          <a:stretch/>
        </p:blipFill>
        <p:spPr>
          <a:xfrm>
            <a:off x="3314880" y="3352680"/>
            <a:ext cx="2514600" cy="154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576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SYMBOL APPEARS ON JAPANESE MAPS.  WHAT DOES IT REPRESEN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SP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gi-1.png"/>
          <p:cNvPicPr/>
          <p:nvPr/>
        </p:nvPicPr>
        <p:blipFill>
          <a:blip r:embed="rId1"/>
          <a:stretch/>
        </p:blipFill>
        <p:spPr>
          <a:xfrm>
            <a:off x="3808440" y="32767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799920" y="7999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REPRESENT IN THE HARRY POTTER BOOK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EATHLY  HALL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gi.png"/>
          <p:cNvPicPr/>
          <p:nvPr/>
        </p:nvPicPr>
        <p:blipFill>
          <a:blip r:embed="rId1"/>
          <a:stretch/>
        </p:blipFill>
        <p:spPr>
          <a:xfrm>
            <a:off x="3722760" y="3338640"/>
            <a:ext cx="1698480" cy="14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SYMBOL REPRESENTS ONE OF THE PLANETS.  WHICH 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6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gi.png"/>
          <p:cNvPicPr/>
          <p:nvPr/>
        </p:nvPicPr>
        <p:blipFill>
          <a:blip r:embed="rId1"/>
          <a:stretch/>
        </p:blipFill>
        <p:spPr>
          <a:xfrm>
            <a:off x="3898800" y="3276720"/>
            <a:ext cx="134460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SYMBOL IS FOR A ZODIAC SIGN.  WHICH 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libra.png"/>
          <p:cNvPicPr/>
          <p:nvPr/>
        </p:nvPicPr>
        <p:blipFill>
          <a:blip r:embed="rId1"/>
          <a:stretch/>
        </p:blipFill>
        <p:spPr>
          <a:xfrm>
            <a:off x="3505320" y="2666880"/>
            <a:ext cx="2133360" cy="18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YMBOL MEAN IN AN ELECTRICAL WIRING DIAGRA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AC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Untitled.jpg"/>
          <p:cNvPicPr/>
          <p:nvPr/>
        </p:nvPicPr>
        <p:blipFill>
          <a:blip r:embed="rId1"/>
          <a:stretch/>
        </p:blipFill>
        <p:spPr>
          <a:xfrm>
            <a:off x="3425760" y="3276720"/>
            <a:ext cx="2292480" cy="160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WEATHER SYMBOL M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RRIC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Untitled.jpg"/>
          <p:cNvPicPr/>
          <p:nvPr/>
        </p:nvPicPr>
        <p:blipFill>
          <a:blip r:embed="rId1"/>
          <a:stretch/>
        </p:blipFill>
        <p:spPr>
          <a:xfrm>
            <a:off x="3645000" y="2705040"/>
            <a:ext cx="1854000" cy="20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7484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MATH SYMBOL MEA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PORTIONAL 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gi.png"/>
          <p:cNvPicPr/>
          <p:nvPr/>
        </p:nvPicPr>
        <p:blipFill>
          <a:blip r:embed="rId1"/>
          <a:stretch/>
        </p:blipFill>
        <p:spPr>
          <a:xfrm>
            <a:off x="3505320" y="2057400"/>
            <a:ext cx="2168280" cy="18288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4" descr="Untitled.jpg"/>
          <p:cNvPicPr/>
          <p:nvPr/>
        </p:nvPicPr>
        <p:blipFill>
          <a:blip r:embed="rId2"/>
          <a:stretch/>
        </p:blipFill>
        <p:spPr>
          <a:xfrm>
            <a:off x="3325680" y="2705040"/>
            <a:ext cx="249264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IS AN ALCHEMIST SYMBOL.  WHAT DOES IT STAND FOR, GOLD, SILVER, OR COPP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gold.png"/>
          <p:cNvPicPr/>
          <p:nvPr/>
        </p:nvPicPr>
        <p:blipFill>
          <a:blip r:embed="rId1"/>
          <a:stretch/>
        </p:blipFill>
        <p:spPr>
          <a:xfrm>
            <a:off x="3657600" y="3352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GER DOES THIS SYMBOL REPRES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4" descr="gi-1.png"/>
          <p:cNvPicPr/>
          <p:nvPr/>
        </p:nvPicPr>
        <p:blipFill>
          <a:blip r:embed="rId1"/>
          <a:stretch/>
        </p:blipFill>
        <p:spPr>
          <a:xfrm>
            <a:off x="3652920" y="2666880"/>
            <a:ext cx="183816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NATIVE AMERICAN SYMBOL MEAN? TRIBE, FAMILY, OR BROTH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Untitled.jpg"/>
          <p:cNvPicPr/>
          <p:nvPr/>
        </p:nvPicPr>
        <p:blipFill>
          <a:blip r:embed="rId1"/>
          <a:stretch/>
        </p:blipFill>
        <p:spPr>
          <a:xfrm>
            <a:off x="3029040" y="3200400"/>
            <a:ext cx="3085920" cy="18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SYMBOL APPEARS ON JAPANESE MAPS.  WHAT DOES IT REPRESEN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4" descr="gi-1.png"/>
          <p:cNvPicPr/>
          <p:nvPr/>
        </p:nvPicPr>
        <p:blipFill>
          <a:blip r:embed="rId1"/>
          <a:stretch/>
        </p:blipFill>
        <p:spPr>
          <a:xfrm>
            <a:off x="3619440" y="3352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REPRESENT IN THE HARRY POTTER BOOK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gi.png"/>
          <p:cNvPicPr/>
          <p:nvPr/>
        </p:nvPicPr>
        <p:blipFill>
          <a:blip r:embed="rId1"/>
          <a:stretch/>
        </p:blipFill>
        <p:spPr>
          <a:xfrm>
            <a:off x="3478320" y="3276720"/>
            <a:ext cx="218736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799920" y="72396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SYMBOL REPRESENTS ONE OF THE PLANETS.  WHICH 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gi.png"/>
          <p:cNvPicPr/>
          <p:nvPr/>
        </p:nvPicPr>
        <p:blipFill>
          <a:blip r:embed="rId1"/>
          <a:stretch/>
        </p:blipFill>
        <p:spPr>
          <a:xfrm>
            <a:off x="3838680" y="3276720"/>
            <a:ext cx="146664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YMBOL MEAN IN AN ELECTRICAL WIRING DIAGRA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Untitled.jpg"/>
          <p:cNvPicPr/>
          <p:nvPr/>
        </p:nvPicPr>
        <p:blipFill>
          <a:blip r:embed="rId1"/>
          <a:stretch/>
        </p:blipFill>
        <p:spPr>
          <a:xfrm>
            <a:off x="3352680" y="3352680"/>
            <a:ext cx="2527560" cy="1765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1T19:24:40Z</dcterms:created>
  <dc:creator>Jennifer Budzinski</dc:creator>
  <dc:description/>
  <dc:language>en-US</dc:language>
  <cp:lastModifiedBy>Erich Friedman</cp:lastModifiedBy>
  <dcterms:modified xsi:type="dcterms:W3CDTF">2020-09-05T13:11:02Z</dcterms:modified>
  <cp:revision>286</cp:revision>
  <dc:subject/>
  <dc:title>Slide 1</dc:title>
</cp:coreProperties>
</file>