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F4FE-D7CB-44BD-A53D-C7B621333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08A3-0849-44E2-89B9-993DECE60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5A0A-9A44-404F-88A8-1A25A58D5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CA11-0A53-4B60-BF33-8CEB7BC44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A10B-1870-4389-AFE1-D127B7191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814E-59C6-4C4B-93E7-3E11A053D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11C3-4A7A-4D48-AE76-43D970EE6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1986-3910-4407-BC5A-601C557E7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69D6-90F5-449D-8C6C-A154EDCE5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596E-7955-49A6-9D74-EC3AA26C3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7800-BF98-4E66-AE16-2EA4543A6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6338-265B-4AC2-BEAF-A212FBB64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493E-360C-4290-BF14-60DE4FB02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C294-0C50-4827-8E91-E2ACBDA1B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1D47-8E72-41CE-B350-6564110F2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8977-2002-4176-B4FE-84C9D0923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3A99-75A6-4229-9ED1-EF3077172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827C-2E22-4C93-A037-BE1AA9FDE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6CFE-579F-475B-BDA5-E35705B1B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D050-3993-4B0E-8716-40A0F2DE1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2435-CF22-4940-A753-CC7B0A73C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1AC9-FDDE-4CBF-8F8D-B9C8AC9A8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0AB8-65E3-487E-8A6C-D17CF833D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4475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CATEGORY OF THESE SYMBOLS (THANKS BE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376280" y="1371600"/>
            <a:ext cx="63914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3" descr=""/>
          <p:cNvPicPr/>
          <p:nvPr/>
        </p:nvPicPr>
        <p:blipFill>
          <a:blip r:embed="rId1"/>
          <a:stretch/>
        </p:blipFill>
        <p:spPr>
          <a:xfrm>
            <a:off x="1123920" y="1371600"/>
            <a:ext cx="68961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Afbeelding 2" descr="Afbeelding met illustratie&#13;&#10;&#13;&#10;Beschrijving is gegenereerd met hoge betrouwbaarheid"/>
          <p:cNvPicPr/>
          <p:nvPr/>
        </p:nvPicPr>
        <p:blipFill>
          <a:blip r:embed="rId1"/>
          <a:stretch/>
        </p:blipFill>
        <p:spPr>
          <a:xfrm>
            <a:off x="839880" y="1447920"/>
            <a:ext cx="7464240" cy="212868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HEIST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LTIC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Afbeelding 2" descr=""/>
          <p:cNvPicPr/>
          <p:nvPr/>
        </p:nvPicPr>
        <p:blipFill>
          <a:blip r:embed="rId1"/>
          <a:stretch/>
        </p:blipFill>
        <p:spPr>
          <a:xfrm>
            <a:off x="1787400" y="1447920"/>
            <a:ext cx="5569200" cy="271116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3"/>
          <p:cNvSpPr/>
          <p:nvPr/>
        </p:nvSpPr>
        <p:spPr>
          <a:xfrm>
            <a:off x="457200" y="4921200"/>
            <a:ext cx="82296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Afbeelding 4" descr="Afbeelding met illustratie, geleedpotige&#13;&#10;&#13;&#10;Beschrijving is gegenereerd met hoge betrouwbaarheid"/>
          <p:cNvPicPr/>
          <p:nvPr/>
        </p:nvPicPr>
        <p:blipFill>
          <a:blip r:embed="rId1"/>
          <a:stretch/>
        </p:blipFill>
        <p:spPr>
          <a:xfrm>
            <a:off x="1173240" y="1447920"/>
            <a:ext cx="6797520" cy="16542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GN 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UD  COVER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6" descr="CLOUDS.jpg"/>
          <p:cNvPicPr/>
          <p:nvPr/>
        </p:nvPicPr>
        <p:blipFill>
          <a:blip r:embed="rId1"/>
          <a:stretch/>
        </p:blipFill>
        <p:spPr>
          <a:xfrm>
            <a:off x="352440" y="1460520"/>
            <a:ext cx="843768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Afbeelding 3" descr="Afbeelding met object, klok&#13;&#10;&#13;&#10;Beschrijving is gegenereerd met zeer hoge betrouwbaarheid"/>
          <p:cNvPicPr/>
          <p:nvPr/>
        </p:nvPicPr>
        <p:blipFill>
          <a:blip r:embed="rId1"/>
          <a:stretch/>
        </p:blipFill>
        <p:spPr>
          <a:xfrm>
            <a:off x="609480" y="1371600"/>
            <a:ext cx="7925040" cy="19368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ICAL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VING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Screen Shot 2018-10-05 at 1.06.53 PM.png"/>
          <p:cNvPicPr/>
          <p:nvPr/>
        </p:nvPicPr>
        <p:blipFill>
          <a:blip r:embed="rId1"/>
          <a:stretch/>
        </p:blipFill>
        <p:spPr>
          <a:xfrm>
            <a:off x="380880" y="1449360"/>
            <a:ext cx="2662200" cy="32004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Screen Shot 2018-10-05 at 1.06.21 PM.png"/>
          <p:cNvPicPr/>
          <p:nvPr/>
        </p:nvPicPr>
        <p:blipFill>
          <a:blip r:embed="rId2"/>
          <a:stretch/>
        </p:blipFill>
        <p:spPr>
          <a:xfrm>
            <a:off x="3352680" y="1449360"/>
            <a:ext cx="2438640" cy="31734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Screen Shot 2018-10-05 at 1.05.36 PM.png"/>
          <p:cNvPicPr/>
          <p:nvPr/>
        </p:nvPicPr>
        <p:blipFill>
          <a:blip r:embed="rId3"/>
          <a:stretch/>
        </p:blipFill>
        <p:spPr>
          <a:xfrm>
            <a:off x="6095880" y="1449360"/>
            <a:ext cx="272916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Afbeelding 2" descr="Afbeelding met illustratie&#13;&#10;&#13;&#10;Beschrijving is gegenereerd met hoge betrouwbaarheid"/>
          <p:cNvPicPr/>
          <p:nvPr/>
        </p:nvPicPr>
        <p:blipFill>
          <a:blip r:embed="rId1"/>
          <a:stretch/>
        </p:blipFill>
        <p:spPr>
          <a:xfrm>
            <a:off x="841320" y="1447920"/>
            <a:ext cx="7461360" cy="21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Afbeelding 2" descr="Afbeelding met illustratie, object&#13;&#10;&#13;&#10;Beschrijving is gegenereerd met zeer hoge betrouwbaarheid"/>
          <p:cNvPicPr/>
          <p:nvPr/>
        </p:nvPicPr>
        <p:blipFill>
          <a:blip r:embed="rId1"/>
          <a:stretch/>
        </p:blipFill>
        <p:spPr>
          <a:xfrm>
            <a:off x="990720" y="1368360"/>
            <a:ext cx="7162560" cy="208908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GER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NICIAN  LE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1"/>
          <a:stretch/>
        </p:blipFill>
        <p:spPr>
          <a:xfrm>
            <a:off x="1376280" y="1371600"/>
            <a:ext cx="639144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ITICAL  PARTY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5" descr=""/>
          <p:cNvPicPr/>
          <p:nvPr/>
        </p:nvPicPr>
        <p:blipFill>
          <a:blip r:embed="rId1"/>
          <a:stretch/>
        </p:blipFill>
        <p:spPr>
          <a:xfrm>
            <a:off x="1123920" y="1371600"/>
            <a:ext cx="689616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Afbeelding 2" descr=""/>
          <p:cNvPicPr/>
          <p:nvPr/>
        </p:nvPicPr>
        <p:blipFill>
          <a:blip r:embed="rId1"/>
          <a:stretch/>
        </p:blipFill>
        <p:spPr>
          <a:xfrm>
            <a:off x="1787400" y="1447920"/>
            <a:ext cx="5569200" cy="27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Afbeelding 4" descr="Afbeelding met illustratie, geleedpotige&#13;&#10;&#13;&#10;Beschrijving is gegenereerd met hoge betrouwbaarheid"/>
          <p:cNvPicPr/>
          <p:nvPr/>
        </p:nvPicPr>
        <p:blipFill>
          <a:blip r:embed="rId1"/>
          <a:stretch/>
        </p:blipFill>
        <p:spPr>
          <a:xfrm>
            <a:off x="1174680" y="1447920"/>
            <a:ext cx="6794640" cy="16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CLOUDS.jpg"/>
          <p:cNvPicPr/>
          <p:nvPr/>
        </p:nvPicPr>
        <p:blipFill>
          <a:blip r:embed="rId1"/>
          <a:stretch/>
        </p:blipFill>
        <p:spPr>
          <a:xfrm>
            <a:off x="352440" y="1447920"/>
            <a:ext cx="843768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Afbeelding 4" descr="Afbeelding met object, klok&#13;&#10;&#13;&#10;Beschrijving is gegenereerd met zeer hoge betrouwbaarheid"/>
          <p:cNvPicPr/>
          <p:nvPr/>
        </p:nvPicPr>
        <p:blipFill>
          <a:blip r:embed="rId1"/>
          <a:stretch/>
        </p:blipFill>
        <p:spPr>
          <a:xfrm>
            <a:off x="685800" y="1460520"/>
            <a:ext cx="777240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8552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Screen Shot 2018-10-05 at 1.06.53 PM.png"/>
          <p:cNvPicPr/>
          <p:nvPr/>
        </p:nvPicPr>
        <p:blipFill>
          <a:blip r:embed="rId1"/>
          <a:stretch/>
        </p:blipFill>
        <p:spPr>
          <a:xfrm>
            <a:off x="380880" y="1447920"/>
            <a:ext cx="2662200" cy="32004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" descr="Screen Shot 2018-10-05 at 1.06.21 PM.png"/>
          <p:cNvPicPr/>
          <p:nvPr/>
        </p:nvPicPr>
        <p:blipFill>
          <a:blip r:embed="rId2"/>
          <a:stretch/>
        </p:blipFill>
        <p:spPr>
          <a:xfrm>
            <a:off x="3352680" y="1447920"/>
            <a:ext cx="2438640" cy="31734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5" descr="Screen Shot 2018-10-05 at 1.05.36 PM.png"/>
          <p:cNvPicPr/>
          <p:nvPr/>
        </p:nvPicPr>
        <p:blipFill>
          <a:blip r:embed="rId3"/>
          <a:stretch/>
        </p:blipFill>
        <p:spPr>
          <a:xfrm>
            <a:off x="6095880" y="1447920"/>
            <a:ext cx="27291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Afbeelding 2" descr="Afbeelding met illustratie, object&#13;&#10;&#13;&#10;Beschrijving is gegenereerd met zeer hoge betrouwbaarheid"/>
          <p:cNvPicPr/>
          <p:nvPr/>
        </p:nvPicPr>
        <p:blipFill>
          <a:blip r:embed="rId1"/>
          <a:stretch/>
        </p:blipFill>
        <p:spPr>
          <a:xfrm>
            <a:off x="990720" y="1425600"/>
            <a:ext cx="7162560" cy="208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16:35:41Z</dcterms:created>
  <dc:creator>Jennifer Budzinski</dc:creator>
  <dc:description/>
  <dc:language>en-US</dc:language>
  <cp:lastModifiedBy>Erich Friedman</cp:lastModifiedBy>
  <dcterms:modified xsi:type="dcterms:W3CDTF">2020-09-05T13:13:13Z</dcterms:modified>
  <cp:revision>305</cp:revision>
  <dc:subject/>
  <dc:title>Slide 1</dc:title>
</cp:coreProperties>
</file>