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8AB6-2213-4266-B394-DE90C6A97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C926-7971-42E9-A843-4E727929D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46E8-6657-4621-BCA5-14CDE39C2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89A5-B713-41AD-9995-82A9D55A1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6A04-F7F0-4AEB-8127-74119B84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D766-4F68-4126-8055-2426F6D66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1BE2-8C7F-4B10-BE98-BA037295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7535-8ECE-4183-B9B0-AFBAA37EA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6283-EE62-4CB8-A1E1-3776932F7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8A7E-80B6-47B8-A561-1AF502AB6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D34A-1EF8-443E-9D41-346F4489C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CCBA-593B-4097-8BEA-A8337CC48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527A-1B03-4B1A-8CF7-DB1C3D6F9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6D71-1029-49BA-9B08-AEC46AE0F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859D-9C13-4DAD-88BC-02CEBAF83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F057-CC4D-42B9-8C7E-836DB668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A237-BF65-4A81-A0EF-61B25E28B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E19D-2AA5-4C43-A279-73632CB5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934E-15D0-400B-8BC1-7CB75A825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5901-E6B2-489B-AE18-54ACE3810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9FD2-A355-447D-80C5-17C1E1771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D4F4-91FD-4597-A434-CBF275098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1734-EC25-4932-9F32-A4CB20A28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TEGORY OF THESE SYMBOLS (THANKS B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376280" y="1371600"/>
            <a:ext cx="63914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1123920" y="1371600"/>
            <a:ext cx="68961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Afbeelding 2" descr="Afbeelding met illustrati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839880" y="1447920"/>
            <a:ext cx="7464240" cy="21286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HEIST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TIC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Afbeelding 2" descr=""/>
          <p:cNvPicPr/>
          <p:nvPr/>
        </p:nvPicPr>
        <p:blipFill>
          <a:blip r:embed="rId1"/>
          <a:stretch/>
        </p:blipFill>
        <p:spPr>
          <a:xfrm>
            <a:off x="1787400" y="1447920"/>
            <a:ext cx="5569200" cy="27111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457200" y="4921200"/>
            <a:ext cx="8229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Afbeelding 4" descr="Afbeelding met illustratie, geleedpotig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1173240" y="1447920"/>
            <a:ext cx="6797520" cy="16542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N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UD  COVER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CLOUDS.jpg"/>
          <p:cNvPicPr/>
          <p:nvPr/>
        </p:nvPicPr>
        <p:blipFill>
          <a:blip r:embed="rId1"/>
          <a:stretch/>
        </p:blipFill>
        <p:spPr>
          <a:xfrm>
            <a:off x="352440" y="1460520"/>
            <a:ext cx="843768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Afbeelding 3" descr="Afbeelding met object, klok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19368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AL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VING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Screen Shot 2018-10-05 at 1.06.53 PM.png"/>
          <p:cNvPicPr/>
          <p:nvPr/>
        </p:nvPicPr>
        <p:blipFill>
          <a:blip r:embed="rId1"/>
          <a:stretch/>
        </p:blipFill>
        <p:spPr>
          <a:xfrm>
            <a:off x="380880" y="1449360"/>
            <a:ext cx="2662200" cy="32004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Screen Shot 2018-10-05 at 1.06.21 PM.png"/>
          <p:cNvPicPr/>
          <p:nvPr/>
        </p:nvPicPr>
        <p:blipFill>
          <a:blip r:embed="rId2"/>
          <a:stretch/>
        </p:blipFill>
        <p:spPr>
          <a:xfrm>
            <a:off x="3352680" y="1449360"/>
            <a:ext cx="2438640" cy="3173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Screen Shot 2018-10-05 at 1.05.36 PM.png"/>
          <p:cNvPicPr/>
          <p:nvPr/>
        </p:nvPicPr>
        <p:blipFill>
          <a:blip r:embed="rId3"/>
          <a:stretch/>
        </p:blipFill>
        <p:spPr>
          <a:xfrm>
            <a:off x="6095880" y="1449360"/>
            <a:ext cx="27291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Afbeelding 2" descr="Afbeelding met illustrati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841320" y="1447920"/>
            <a:ext cx="746136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Afbeelding 2" descr="Afbeelding met illustratie, object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990720" y="1368360"/>
            <a:ext cx="7162560" cy="20890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GER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CIAN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1376280" y="1371600"/>
            <a:ext cx="63914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ITICAL  PARTY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"/>
          <p:cNvPicPr/>
          <p:nvPr/>
        </p:nvPicPr>
        <p:blipFill>
          <a:blip r:embed="rId1"/>
          <a:stretch/>
        </p:blipFill>
        <p:spPr>
          <a:xfrm>
            <a:off x="1123920" y="1371600"/>
            <a:ext cx="689616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Afbeelding 2" descr=""/>
          <p:cNvPicPr/>
          <p:nvPr/>
        </p:nvPicPr>
        <p:blipFill>
          <a:blip r:embed="rId1"/>
          <a:stretch/>
        </p:blipFill>
        <p:spPr>
          <a:xfrm>
            <a:off x="1787400" y="1447920"/>
            <a:ext cx="5569200" cy="27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Afbeelding 4" descr="Afbeelding met illustratie, geleedpotig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1174680" y="1447920"/>
            <a:ext cx="679464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CLOUDS.jpg"/>
          <p:cNvPicPr/>
          <p:nvPr/>
        </p:nvPicPr>
        <p:blipFill>
          <a:blip r:embed="rId1"/>
          <a:stretch/>
        </p:blipFill>
        <p:spPr>
          <a:xfrm>
            <a:off x="352440" y="1447920"/>
            <a:ext cx="84376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Afbeelding 4" descr="Afbeelding met object, klok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685800" y="1460520"/>
            <a:ext cx="777240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Screen Shot 2018-10-05 at 1.06.53 PM.png"/>
          <p:cNvPicPr/>
          <p:nvPr/>
        </p:nvPicPr>
        <p:blipFill>
          <a:blip r:embed="rId1"/>
          <a:stretch/>
        </p:blipFill>
        <p:spPr>
          <a:xfrm>
            <a:off x="380880" y="1447920"/>
            <a:ext cx="2662200" cy="32004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Screen Shot 2018-10-05 at 1.06.21 PM.png"/>
          <p:cNvPicPr/>
          <p:nvPr/>
        </p:nvPicPr>
        <p:blipFill>
          <a:blip r:embed="rId2"/>
          <a:stretch/>
        </p:blipFill>
        <p:spPr>
          <a:xfrm>
            <a:off x="3352680" y="1447920"/>
            <a:ext cx="2438640" cy="3173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Screen Shot 2018-10-05 at 1.05.36 PM.png"/>
          <p:cNvPicPr/>
          <p:nvPr/>
        </p:nvPicPr>
        <p:blipFill>
          <a:blip r:embed="rId3"/>
          <a:stretch/>
        </p:blipFill>
        <p:spPr>
          <a:xfrm>
            <a:off x="6095880" y="1447920"/>
            <a:ext cx="27291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Afbeelding 2" descr="Afbeelding met illustratie, object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990720" y="1425600"/>
            <a:ext cx="7162560" cy="208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6:35:41Z</dcterms:created>
  <dc:creator>Jennifer Budzinski</dc:creator>
  <dc:description/>
  <dc:language>en-US</dc:language>
  <cp:lastModifiedBy>Erich Friedman</cp:lastModifiedBy>
  <dcterms:modified xsi:type="dcterms:W3CDTF">2020-09-05T13:13:13Z</dcterms:modified>
  <cp:revision>305</cp:revision>
  <dc:subject/>
  <dc:title>Slide 1</dc:title>
</cp:coreProperties>
</file>