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95C9-8D49-4E5C-8FBC-EB75EB1507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1F9E-7CD7-498A-A78C-B5E00E2D0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400A-3022-47A2-889B-C7A127B3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3A7A-6ABF-41B3-B454-A05CEE004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E916-27B0-4837-B50D-1296343C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2300-9605-43F4-8D66-D7709D56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C022-5959-4DE9-B73D-71DB1447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278D-292F-496F-AB57-C8C611F6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0E3A-3FEE-4D1B-B456-3D2378184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361E-7A60-4E02-B171-47724A1E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CDB9-5CEA-4268-8827-36B9A8AF8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AED7-3AB4-4DB2-8BE4-7C1D4EF66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C53-ABBD-4F8C-941C-50001BAB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8363-4337-4013-A886-BA6149FCC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97C7-BDD5-40BC-A5D8-C079DBC3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1813-28C6-4D1C-8C04-887862BE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9545-A57D-4FA5-A8F0-5F96FF8AA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0E11-D547-4B31-9A9E-A5356D98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B12D-8D65-447E-BD86-98370E87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6066-43A5-4B8A-9184-3DBA5ECF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0A30-6A39-4F05-9B4D-06F0C243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2BA2-F54A-45CE-A45A-F7A31AD9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5187-12D2-4064-8037-AAB564E8A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4475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YMBOLS (THANKS BE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3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39880" y="1447920"/>
            <a:ext cx="7464240" cy="21286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EIST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457200" y="4921200"/>
            <a:ext cx="822960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3240" y="1447920"/>
            <a:ext cx="6797520" cy="165420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N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  COV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CLOUDS.jpg"/>
          <p:cNvPicPr/>
          <p:nvPr/>
        </p:nvPicPr>
        <p:blipFill>
          <a:blip r:embed="rId1"/>
          <a:stretch/>
        </p:blipFill>
        <p:spPr>
          <a:xfrm>
            <a:off x="352440" y="1460520"/>
            <a:ext cx="843768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Afbeelding 3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09480" y="1371600"/>
            <a:ext cx="7925040" cy="19368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936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7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936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8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936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Afbeelding 2" descr="Afbeelding met illustrati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841320" y="1447920"/>
            <a:ext cx="7461360" cy="21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368360"/>
            <a:ext cx="7162560" cy="2089080"/>
          </a:xfrm>
          <a:prstGeom prst="rect">
            <a:avLst/>
          </a:prstGeom>
          <a:ln w="0">
            <a:noFill/>
          </a:ln>
        </p:spPr>
      </p:pic>
      <p:sp>
        <p:nvSpPr>
          <p:cNvPr id="540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CIAN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1376280" y="1371600"/>
            <a:ext cx="6391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TICAL  PART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5" descr=""/>
          <p:cNvPicPr/>
          <p:nvPr/>
        </p:nvPicPr>
        <p:blipFill>
          <a:blip r:embed="rId1"/>
          <a:stretch/>
        </p:blipFill>
        <p:spPr>
          <a:xfrm>
            <a:off x="1123920" y="1371600"/>
            <a:ext cx="689616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Afbeelding 2" descr=""/>
          <p:cNvPicPr/>
          <p:nvPr/>
        </p:nvPicPr>
        <p:blipFill>
          <a:blip r:embed="rId1"/>
          <a:stretch/>
        </p:blipFill>
        <p:spPr>
          <a:xfrm>
            <a:off x="1787400" y="1447920"/>
            <a:ext cx="5569200" cy="27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Afbeelding 4" descr="Afbeelding met illustratie, geleedpotige&#13;&#10;&#13;&#10;Beschrijving is gegenereerd met hoge betrouwbaarheid"/>
          <p:cNvPicPr/>
          <p:nvPr/>
        </p:nvPicPr>
        <p:blipFill>
          <a:blip r:embed="rId1"/>
          <a:stretch/>
        </p:blipFill>
        <p:spPr>
          <a:xfrm>
            <a:off x="1174680" y="1447920"/>
            <a:ext cx="6794640" cy="16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CLOUDS.jpg"/>
          <p:cNvPicPr/>
          <p:nvPr/>
        </p:nvPicPr>
        <p:blipFill>
          <a:blip r:embed="rId1"/>
          <a:stretch/>
        </p:blipFill>
        <p:spPr>
          <a:xfrm>
            <a:off x="352440" y="1447920"/>
            <a:ext cx="8437680" cy="121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Afbeelding 4" descr="Afbeelding met object, klok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685800" y="1460520"/>
            <a:ext cx="777240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Screen Shot 2018-10-05 at 1.06.53 PM.png"/>
          <p:cNvPicPr/>
          <p:nvPr/>
        </p:nvPicPr>
        <p:blipFill>
          <a:blip r:embed="rId1"/>
          <a:stretch/>
        </p:blipFill>
        <p:spPr>
          <a:xfrm>
            <a:off x="380880" y="1447920"/>
            <a:ext cx="2662200" cy="32004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Screen Shot 2018-10-05 at 1.06.21 PM.png"/>
          <p:cNvPicPr/>
          <p:nvPr/>
        </p:nvPicPr>
        <p:blipFill>
          <a:blip r:embed="rId2"/>
          <a:stretch/>
        </p:blipFill>
        <p:spPr>
          <a:xfrm>
            <a:off x="3352680" y="1447920"/>
            <a:ext cx="2438640" cy="31734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5" descr="Screen Shot 2018-10-05 at 1.05.36 PM.png"/>
          <p:cNvPicPr/>
          <p:nvPr/>
        </p:nvPicPr>
        <p:blipFill>
          <a:blip r:embed="rId3"/>
          <a:stretch/>
        </p:blipFill>
        <p:spPr>
          <a:xfrm>
            <a:off x="6095880" y="1447920"/>
            <a:ext cx="27291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Afbeelding 2" descr="Afbeelding met illustratie, object&#13;&#10;&#13;&#10;Beschrijving is gegenereerd met zeer hoge betrouwbaarheid"/>
          <p:cNvPicPr/>
          <p:nvPr/>
        </p:nvPicPr>
        <p:blipFill>
          <a:blip r:embed="rId1"/>
          <a:stretch/>
        </p:blipFill>
        <p:spPr>
          <a:xfrm>
            <a:off x="990720" y="1425600"/>
            <a:ext cx="7162560" cy="208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13:13Z</dcterms:modified>
  <cp:revision>305</cp:revision>
  <dc:subject/>
  <dc:title>Slide 1</dc:title>
</cp:coreProperties>
</file>