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CA8E-E4CF-43C0-88EC-3D91B93C9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6491-2DF8-4F68-8EAE-59D2A7F1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C76-6C62-4FEB-AF19-CC3591D8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0FEE-0EE4-4EC1-B167-A3AC9C0B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B4ED-F0DF-4D23-8270-73ABB008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6C2-EFA3-47C1-BFF2-4D8F7DA7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905-F796-4F70-8D17-A29843A09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E60C-8F68-4929-A586-F0FA18D4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F071-9096-4DD4-A9A0-FA660DEF4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F50-8BE9-4D56-8379-58EB36C69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30EC-901D-4A1D-A884-60BE89E8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829-EACE-4AB8-BE4C-6BDF0310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28DA-0EC2-4D73-B718-AC1C8AB8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57E-1641-49A2-AD6D-1BF635292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084D-A427-498C-8170-ECCB5FE9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EDF-66D1-4735-90D9-A525728FC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9CF-F708-4DA8-9AB8-133FC9B6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57C2-28E7-421B-B854-DE44833E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7CD1-DD5A-40AA-9F8B-4AB705F4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7807-F99A-4A9D-84E4-9F847C3D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A80-D833-49AE-81C8-182D76AB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4035-EFE0-4640-B247-E1076BB8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9546-09AB-443D-8487-0FA1999FC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ATEGORY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US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c.jpg"/>
          <p:cNvPicPr/>
          <p:nvPr/>
        </p:nvPicPr>
        <p:blipFill>
          <a:blip r:embed="rId2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b.jpg"/>
          <p:cNvPicPr/>
          <p:nvPr/>
        </p:nvPicPr>
        <p:blipFill>
          <a:blip r:embed="rId3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BOARD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  RALL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ITARY  INSIG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g.jpg"/>
          <p:cNvPicPr/>
          <p:nvPr/>
        </p:nvPicPr>
        <p:blipFill>
          <a:blip r:embed="rId1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i.jpg"/>
          <p:cNvPicPr/>
          <p:nvPr/>
        </p:nvPicPr>
        <p:blipFill>
          <a:blip r:embed="rId3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  GANG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e.jpg"/>
          <p:cNvPicPr/>
          <p:nvPr/>
        </p:nvPicPr>
        <p:blipFill>
          <a:blip r:embed="rId1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.jpg"/>
          <p:cNvPicPr/>
          <p:nvPr/>
        </p:nvPicPr>
        <p:blipFill>
          <a:blip r:embed="rId2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b.jpg"/>
          <p:cNvPicPr/>
          <p:nvPr/>
        </p:nvPicPr>
        <p:blipFill>
          <a:blip r:embed="rId2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.jpg"/>
          <p:cNvPicPr/>
          <p:nvPr/>
        </p:nvPicPr>
        <p:blipFill>
          <a:blip r:embed="rId3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LD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E.jpg"/>
          <p:cNvPicPr/>
          <p:nvPr/>
        </p:nvPicPr>
        <p:blipFill>
          <a:blip r:embed="rId2"/>
          <a:stretch/>
        </p:blipFill>
        <p:spPr>
          <a:xfrm>
            <a:off x="2254320" y="341640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905120" y="44197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TOURIST  ATTRACTION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.jpg"/>
          <p:cNvPicPr/>
          <p:nvPr/>
        </p:nvPicPr>
        <p:blipFill>
          <a:blip r:embed="rId2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T  MACHINE  SYMBO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i.jpg"/>
          <p:cNvPicPr/>
          <p:nvPr/>
        </p:nvPicPr>
        <p:blipFill>
          <a:blip r:embed="rId1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g.jpg"/>
          <p:cNvPicPr/>
          <p:nvPr/>
        </p:nvPicPr>
        <p:blipFill>
          <a:blip r:embed="rId3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d.jpg"/>
          <p:cNvPicPr/>
          <p:nvPr/>
        </p:nvPicPr>
        <p:blipFill>
          <a:blip r:embed="rId1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e.jpg"/>
          <p:cNvPicPr/>
          <p:nvPr/>
        </p:nvPicPr>
        <p:blipFill>
          <a:blip r:embed="rId2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E.jpg"/>
          <p:cNvPicPr/>
          <p:nvPr/>
        </p:nvPicPr>
        <p:blipFill>
          <a:blip r:embed="rId2"/>
          <a:stretch/>
        </p:blipFill>
        <p:spPr>
          <a:xfrm>
            <a:off x="2286000" y="340668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3:15:32Z</dcterms:created>
  <dc:creator>Jennifer Budzinski</dc:creator>
  <dc:description/>
  <dc:language>en-US</dc:language>
  <cp:lastModifiedBy>Erich Friedman</cp:lastModifiedBy>
  <dcterms:modified xsi:type="dcterms:W3CDTF">2020-09-05T13:13:35Z</dcterms:modified>
  <cp:revision>295</cp:revision>
  <dc:subject/>
  <dc:title>Slide 1</dc:title>
</cp:coreProperties>
</file>