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629E-E7D9-43C5-9964-44C5C6CC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298D-D7B3-4D7E-B90E-2093436A7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0BA1-AB3C-49F6-AE40-F4134013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05D6-AAC3-448A-8D53-5F7A12370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CB95-1BF0-4A33-AFFA-1D2A52A2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0EA3-C19F-4B29-BDA0-6F55C40F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B3B8-384C-4032-A76C-499F492E5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7AF2-BD72-47B4-8B5D-79AFA05E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B1E9-B277-4510-90D1-A3F4DA2E7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D2A4-7B7C-4C5B-A034-35D3F9F2B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D3D6-3048-43D7-B34D-7B9B06EFE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37F0-DC76-4430-83E4-0C3B7F6EA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2A04-9F1C-472F-A661-99E4FE9EC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9AA1-829A-4153-B1DC-C3F4058C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A79D-A757-4660-99FC-857010B60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4C4A-66E3-4B6D-ADCE-262E44E3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12C6-D799-4806-9A59-185162BF0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7281-4A33-4C1C-A1D2-699142C13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D99F-006D-4D9F-A8E2-EF913ADAC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928A-50C9-4392-899B-C7C4BC13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39C9-782B-4111-A839-588BB6D3E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84E8-9157-4AF1-BEA7-DC97E4BA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CFED-C2F9-4A62-A253-1DBD836B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OUNTRIES THAT CONTAIN THESE SYMBOLS ON THEIR FLA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Sri_Lanka.pn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29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uganda.png"/>
          <p:cNvPicPr/>
          <p:nvPr/>
        </p:nvPicPr>
        <p:blipFill>
          <a:blip r:embed="rId1"/>
          <a:stretch/>
        </p:blipFill>
        <p:spPr>
          <a:xfrm>
            <a:off x="3695760" y="1295280"/>
            <a:ext cx="17524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685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6" descr="afghanistan.jpg"/>
          <p:cNvPicPr/>
          <p:nvPr/>
        </p:nvPicPr>
        <p:blipFill>
          <a:blip r:embed="rId1"/>
          <a:stretch/>
        </p:blipFill>
        <p:spPr>
          <a:xfrm>
            <a:off x="3124080" y="126036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95360" y="6858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belize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Guatemala.png"/>
          <p:cNvPicPr/>
          <p:nvPr/>
        </p:nvPicPr>
        <p:blipFill>
          <a:blip r:embed="rId1"/>
          <a:stretch/>
        </p:blipFill>
        <p:spPr>
          <a:xfrm>
            <a:off x="2743200" y="1219320"/>
            <a:ext cx="3581280" cy="30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haiti.png"/>
          <p:cNvPicPr/>
          <p:nvPr/>
        </p:nvPicPr>
        <p:blipFill>
          <a:blip r:embed="rId1"/>
          <a:stretch/>
        </p:blipFill>
        <p:spPr>
          <a:xfrm>
            <a:off x="2889360" y="1219320"/>
            <a:ext cx="33652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492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Lebanon.png"/>
          <p:cNvPicPr/>
          <p:nvPr/>
        </p:nvPicPr>
        <p:blipFill>
          <a:blip r:embed="rId1"/>
          <a:stretch/>
        </p:blipFill>
        <p:spPr>
          <a:xfrm>
            <a:off x="3044880" y="1219320"/>
            <a:ext cx="3052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457200" y="685800"/>
            <a:ext cx="822960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portugal.pn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peru.png"/>
          <p:cNvPicPr/>
          <p:nvPr/>
        </p:nvPicPr>
        <p:blipFill>
          <a:blip r:embed="rId1"/>
          <a:stretch/>
        </p:blipFill>
        <p:spPr>
          <a:xfrm>
            <a:off x="2995560" y="125748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afghanistan.jpg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4651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spain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RI  L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Sri_Lanka.png"/>
          <p:cNvPicPr/>
          <p:nvPr/>
        </p:nvPicPr>
        <p:blipFill>
          <a:blip r:embed="rId1"/>
          <a:stretch/>
        </p:blipFill>
        <p:spPr>
          <a:xfrm>
            <a:off x="2819520" y="1249200"/>
            <a:ext cx="3504960" cy="29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57200" y="4995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G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676440"/>
            <a:ext cx="822960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uganda.png"/>
          <p:cNvPicPr/>
          <p:nvPr/>
        </p:nvPicPr>
        <p:blipFill>
          <a:blip r:embed="rId1"/>
          <a:stretch/>
        </p:blipFill>
        <p:spPr>
          <a:xfrm>
            <a:off x="3695760" y="1328760"/>
            <a:ext cx="175248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belize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Guatemala.png"/>
          <p:cNvPicPr/>
          <p:nvPr/>
        </p:nvPicPr>
        <p:blipFill>
          <a:blip r:embed="rId1"/>
          <a:stretch/>
        </p:blipFill>
        <p:spPr>
          <a:xfrm>
            <a:off x="2743200" y="1219320"/>
            <a:ext cx="3581280" cy="30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haiti.png"/>
          <p:cNvPicPr/>
          <p:nvPr/>
        </p:nvPicPr>
        <p:blipFill>
          <a:blip r:embed="rId1"/>
          <a:stretch/>
        </p:blipFill>
        <p:spPr>
          <a:xfrm>
            <a:off x="2889360" y="1295280"/>
            <a:ext cx="33652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Lebanon.png"/>
          <p:cNvPicPr/>
          <p:nvPr/>
        </p:nvPicPr>
        <p:blipFill>
          <a:blip r:embed="rId1"/>
          <a:stretch/>
        </p:blipFill>
        <p:spPr>
          <a:xfrm>
            <a:off x="3044880" y="1219320"/>
            <a:ext cx="30528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portugal.pn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peru.png"/>
          <p:cNvPicPr/>
          <p:nvPr/>
        </p:nvPicPr>
        <p:blipFill>
          <a:blip r:embed="rId1"/>
          <a:stretch/>
        </p:blipFill>
        <p:spPr>
          <a:xfrm>
            <a:off x="2995560" y="121932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spain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1T14:09:02Z</dcterms:created>
  <dc:creator>Jennifer Budzinski</dc:creator>
  <dc:description/>
  <dc:language>en-US</dc:language>
  <cp:lastModifiedBy>Erich Friedman</cp:lastModifiedBy>
  <dcterms:modified xsi:type="dcterms:W3CDTF">2020-09-05T13:17:47Z</dcterms:modified>
  <cp:revision>274</cp:revision>
  <dc:subject/>
  <dc:title>Slide 1</dc:title>
</cp:coreProperties>
</file>