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73B0-205F-4DE7-A1D5-B5D26CFC4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836-7DC5-480A-B0C8-D96C852E9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EDE0-091B-42BE-9E29-1498B6953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1313C-CE83-4267-B390-A2A2BE4D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8E48-39AB-476C-BA23-4824937C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C31B-0D82-487B-AEE5-507A1A31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3D39-4716-4E67-94BD-5367B026C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6E9E-B53E-4400-AFAE-A15ED40A3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845B-A892-4E4B-A2F0-7423159711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9F72-F230-4E56-9B3A-B394DFB0B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8440-FF5C-437D-96A8-98DE6073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9ED3C-A60A-4D71-9205-73BC7D5D8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9BC7-6C62-4AB8-8CD8-DB5C289F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DB5D-545C-405C-9486-AB7F40EE9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08A2-464A-499E-AE03-3685CC871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8D9F-68F0-490A-AF8A-D05532719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0707-34A6-402A-9799-AA2EDA5C19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6F61-83B5-4BB5-A031-31F30D602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B758-C787-4832-B210-7F7BA42BC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983A-5A2A-47AF-A8BB-2A05ED150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25D5-DD02-4591-AF1D-8F9F4FE3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4135-96EB-45C8-8AA0-50FF4C305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3D5B-636F-4AB0-B684-92DDECD59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495360" y="133344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COUNTRIES THAT CONTAIN THESE SYMBOLS ON THEIR FLAG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Sri_Lanka.png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29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uganda.png"/>
          <p:cNvPicPr/>
          <p:nvPr/>
        </p:nvPicPr>
        <p:blipFill>
          <a:blip r:embed="rId1"/>
          <a:stretch/>
        </p:blipFill>
        <p:spPr>
          <a:xfrm>
            <a:off x="3695760" y="1295280"/>
            <a:ext cx="1752480" cy="28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685800"/>
            <a:ext cx="82296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6" descr="afghanistan.jpg"/>
          <p:cNvPicPr/>
          <p:nvPr/>
        </p:nvPicPr>
        <p:blipFill>
          <a:blip r:embed="rId1"/>
          <a:stretch/>
        </p:blipFill>
        <p:spPr>
          <a:xfrm>
            <a:off x="3124080" y="126036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IZ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495360" y="6858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belize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ATEM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6" descr="Guatemala.png"/>
          <p:cNvPicPr/>
          <p:nvPr/>
        </p:nvPicPr>
        <p:blipFill>
          <a:blip r:embed="rId1"/>
          <a:stretch/>
        </p:blipFill>
        <p:spPr>
          <a:xfrm>
            <a:off x="2743200" y="1219320"/>
            <a:ext cx="3581280" cy="30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6" descr="haiti.png"/>
          <p:cNvPicPr/>
          <p:nvPr/>
        </p:nvPicPr>
        <p:blipFill>
          <a:blip r:embed="rId1"/>
          <a:stretch/>
        </p:blipFill>
        <p:spPr>
          <a:xfrm>
            <a:off x="2889360" y="1219320"/>
            <a:ext cx="33652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44928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6" descr="Lebanon.png"/>
          <p:cNvPicPr/>
          <p:nvPr/>
        </p:nvPicPr>
        <p:blipFill>
          <a:blip r:embed="rId1"/>
          <a:stretch/>
        </p:blipFill>
        <p:spPr>
          <a:xfrm>
            <a:off x="3044880" y="1219320"/>
            <a:ext cx="3052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RTUG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457200" y="685800"/>
            <a:ext cx="822960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6" descr="portugal.pn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6" descr="peru.png"/>
          <p:cNvPicPr/>
          <p:nvPr/>
        </p:nvPicPr>
        <p:blipFill>
          <a:blip r:embed="rId1"/>
          <a:stretch/>
        </p:blipFill>
        <p:spPr>
          <a:xfrm>
            <a:off x="2995560" y="125748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 WITH  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afghanistan.jpg"/>
          <p:cNvPicPr/>
          <p:nvPr/>
        </p:nvPicPr>
        <p:blipFill>
          <a:blip r:embed="rId1"/>
          <a:stretch/>
        </p:blipFill>
        <p:spPr>
          <a:xfrm>
            <a:off x="3124080" y="1295280"/>
            <a:ext cx="28958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3"/>
          <p:cNvSpPr/>
          <p:nvPr/>
        </p:nvSpPr>
        <p:spPr>
          <a:xfrm>
            <a:off x="4651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6" descr="spain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RI  LA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6" descr="Sri_Lanka.png"/>
          <p:cNvPicPr/>
          <p:nvPr/>
        </p:nvPicPr>
        <p:blipFill>
          <a:blip r:embed="rId1"/>
          <a:stretch/>
        </p:blipFill>
        <p:spPr>
          <a:xfrm>
            <a:off x="2819520" y="1249200"/>
            <a:ext cx="3504960" cy="29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3"/>
          <p:cNvSpPr/>
          <p:nvPr/>
        </p:nvSpPr>
        <p:spPr>
          <a:xfrm>
            <a:off x="457200" y="49957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GA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457200" y="676440"/>
            <a:ext cx="8229600" cy="42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6" descr="uganda.png"/>
          <p:cNvPicPr/>
          <p:nvPr/>
        </p:nvPicPr>
        <p:blipFill>
          <a:blip r:embed="rId1"/>
          <a:stretch/>
        </p:blipFill>
        <p:spPr>
          <a:xfrm>
            <a:off x="3695760" y="1328760"/>
            <a:ext cx="1752480" cy="28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elize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Guatemala.png"/>
          <p:cNvPicPr/>
          <p:nvPr/>
        </p:nvPicPr>
        <p:blipFill>
          <a:blip r:embed="rId1"/>
          <a:stretch/>
        </p:blipFill>
        <p:spPr>
          <a:xfrm>
            <a:off x="2743200" y="1219320"/>
            <a:ext cx="3581280" cy="307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ARTS WITH 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haiti.png"/>
          <p:cNvPicPr/>
          <p:nvPr/>
        </p:nvPicPr>
        <p:blipFill>
          <a:blip r:embed="rId1"/>
          <a:stretch/>
        </p:blipFill>
        <p:spPr>
          <a:xfrm>
            <a:off x="2889360" y="1295280"/>
            <a:ext cx="33652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Lebanon.png"/>
          <p:cNvPicPr/>
          <p:nvPr/>
        </p:nvPicPr>
        <p:blipFill>
          <a:blip r:embed="rId1"/>
          <a:stretch/>
        </p:blipFill>
        <p:spPr>
          <a:xfrm>
            <a:off x="3044880" y="1219320"/>
            <a:ext cx="305280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portugal.png"/>
          <p:cNvPicPr/>
          <p:nvPr/>
        </p:nvPicPr>
        <p:blipFill>
          <a:blip r:embed="rId1"/>
          <a:stretch/>
        </p:blipFill>
        <p:spPr>
          <a:xfrm>
            <a:off x="2590920" y="1295280"/>
            <a:ext cx="3962160" cy="28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P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peru.png"/>
          <p:cNvPicPr/>
          <p:nvPr/>
        </p:nvPicPr>
        <p:blipFill>
          <a:blip r:embed="rId1"/>
          <a:stretch/>
        </p:blipFill>
        <p:spPr>
          <a:xfrm>
            <a:off x="2995560" y="1219320"/>
            <a:ext cx="31528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S WITH 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spain.png"/>
          <p:cNvPicPr/>
          <p:nvPr/>
        </p:nvPicPr>
        <p:blipFill>
          <a:blip r:embed="rId1"/>
          <a:stretch/>
        </p:blipFill>
        <p:spPr>
          <a:xfrm>
            <a:off x="3124080" y="1219320"/>
            <a:ext cx="289584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4:09:02Z</dcterms:created>
  <dc:creator>Jennifer Budzinski</dc:creator>
  <dc:description/>
  <dc:language>en-US</dc:language>
  <cp:lastModifiedBy>Erich Friedman</cp:lastModifiedBy>
  <dcterms:modified xsi:type="dcterms:W3CDTF">2020-09-05T13:17:47Z</dcterms:modified>
  <cp:revision>274</cp:revision>
  <dc:subject/>
  <dc:title>Slide 1</dc:title>
</cp:coreProperties>
</file>