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5D12-65E4-4548-A1BA-121F31BC5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CA6D-2C1C-4BF0-A4A8-24EC1E3EF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CCB2-E29E-4DCB-9E59-36E98F139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C7BC-A660-4B98-8A37-89EEB890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1C25-4195-4A3E-895C-FBBCDF1B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163B-0602-4F0E-943C-64CA4BC5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942B-00BC-4A64-9E49-3825DBFCA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DB8C-30EB-41FE-AC88-D9A0FFF3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023D-73FA-4BD7-9D50-CA90D88B0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6170-90A8-40B4-BC52-787B78238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B3F7-0A84-442E-BC0C-103CC22CD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A97B-6571-4183-B7F1-605324CD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88AD-D3B5-4739-907C-495D7439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022C-2442-4BC8-AAF0-502EE6A6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CEFE-9EE0-47FA-9CE8-8D9A41B66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E21E-EDFF-4AE9-9295-10B3938BA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55F5-0EA4-451B-81C5-02183F06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213-9CD9-4797-99C8-35E2D058D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1586-BD5A-4BA0-96AD-ACC3CDA50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213-95FA-40A5-88A3-B1E37425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D2C2-BC5C-4667-BE48-DCF4ACC6E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7BF6-9CE5-4BF5-ABD7-6903B113F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35EB-9FAB-4D14-9FE1-B32DDF783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953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OUNTRIES THAT CONTAIN THESE SYMBOLS ON THEIR FLA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Sri_Lanka.pn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29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uganda.png"/>
          <p:cNvPicPr/>
          <p:nvPr/>
        </p:nvPicPr>
        <p:blipFill>
          <a:blip r:embed="rId1"/>
          <a:stretch/>
        </p:blipFill>
        <p:spPr>
          <a:xfrm>
            <a:off x="3695760" y="1295280"/>
            <a:ext cx="17524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6858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6" descr="afghanistan.jpg"/>
          <p:cNvPicPr/>
          <p:nvPr/>
        </p:nvPicPr>
        <p:blipFill>
          <a:blip r:embed="rId1"/>
          <a:stretch/>
        </p:blipFill>
        <p:spPr>
          <a:xfrm>
            <a:off x="3124080" y="126036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95360" y="6858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belize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Guatemala.png"/>
          <p:cNvPicPr/>
          <p:nvPr/>
        </p:nvPicPr>
        <p:blipFill>
          <a:blip r:embed="rId1"/>
          <a:stretch/>
        </p:blipFill>
        <p:spPr>
          <a:xfrm>
            <a:off x="2743200" y="1219320"/>
            <a:ext cx="3581280" cy="30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haiti.png"/>
          <p:cNvPicPr/>
          <p:nvPr/>
        </p:nvPicPr>
        <p:blipFill>
          <a:blip r:embed="rId1"/>
          <a:stretch/>
        </p:blipFill>
        <p:spPr>
          <a:xfrm>
            <a:off x="2889360" y="1219320"/>
            <a:ext cx="33652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492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B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Lebanon.png"/>
          <p:cNvPicPr/>
          <p:nvPr/>
        </p:nvPicPr>
        <p:blipFill>
          <a:blip r:embed="rId1"/>
          <a:stretch/>
        </p:blipFill>
        <p:spPr>
          <a:xfrm>
            <a:off x="3044880" y="1219320"/>
            <a:ext cx="30528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457200" y="685800"/>
            <a:ext cx="822960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portugal.pn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peru.png"/>
          <p:cNvPicPr/>
          <p:nvPr/>
        </p:nvPicPr>
        <p:blipFill>
          <a:blip r:embed="rId1"/>
          <a:stretch/>
        </p:blipFill>
        <p:spPr>
          <a:xfrm>
            <a:off x="2995560" y="1257480"/>
            <a:ext cx="31528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afghanistan.jpg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4651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spain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RI  LA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Sri_Lanka.png"/>
          <p:cNvPicPr/>
          <p:nvPr/>
        </p:nvPicPr>
        <p:blipFill>
          <a:blip r:embed="rId1"/>
          <a:stretch/>
        </p:blipFill>
        <p:spPr>
          <a:xfrm>
            <a:off x="2819520" y="1249200"/>
            <a:ext cx="3504960" cy="29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457200" y="4995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G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676440"/>
            <a:ext cx="822960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uganda.png"/>
          <p:cNvPicPr/>
          <p:nvPr/>
        </p:nvPicPr>
        <p:blipFill>
          <a:blip r:embed="rId1"/>
          <a:stretch/>
        </p:blipFill>
        <p:spPr>
          <a:xfrm>
            <a:off x="3695760" y="1328760"/>
            <a:ext cx="1752480" cy="28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belize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Guatemala.png"/>
          <p:cNvPicPr/>
          <p:nvPr/>
        </p:nvPicPr>
        <p:blipFill>
          <a:blip r:embed="rId1"/>
          <a:stretch/>
        </p:blipFill>
        <p:spPr>
          <a:xfrm>
            <a:off x="2743200" y="1219320"/>
            <a:ext cx="3581280" cy="30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haiti.png"/>
          <p:cNvPicPr/>
          <p:nvPr/>
        </p:nvPicPr>
        <p:blipFill>
          <a:blip r:embed="rId1"/>
          <a:stretch/>
        </p:blipFill>
        <p:spPr>
          <a:xfrm>
            <a:off x="2889360" y="1295280"/>
            <a:ext cx="33652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Lebanon.png"/>
          <p:cNvPicPr/>
          <p:nvPr/>
        </p:nvPicPr>
        <p:blipFill>
          <a:blip r:embed="rId1"/>
          <a:stretch/>
        </p:blipFill>
        <p:spPr>
          <a:xfrm>
            <a:off x="3044880" y="1219320"/>
            <a:ext cx="30528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portugal.pn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peru.png"/>
          <p:cNvPicPr/>
          <p:nvPr/>
        </p:nvPicPr>
        <p:blipFill>
          <a:blip r:embed="rId1"/>
          <a:stretch/>
        </p:blipFill>
        <p:spPr>
          <a:xfrm>
            <a:off x="2995560" y="1219320"/>
            <a:ext cx="3152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spain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1T14:09:02Z</dcterms:created>
  <dc:creator>Jennifer Budzinski</dc:creator>
  <dc:description/>
  <dc:language>en-US</dc:language>
  <cp:lastModifiedBy>Erich Friedman</cp:lastModifiedBy>
  <dcterms:modified xsi:type="dcterms:W3CDTF">2020-09-05T13:17:47Z</dcterms:modified>
  <cp:revision>274</cp:revision>
  <dc:subject/>
  <dc:title>Slide 1</dc:title>
</cp:coreProperties>
</file>