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CF75-1D5E-41C6-BC81-A913269AA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FDC0-FF6D-4AE2-A569-D992CBB56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D6DE-AA09-48AB-9402-4DC543264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E9EB-D680-452F-80AE-8EE1A5326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4118-8552-4A73-9735-ABC272D7D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41B6-66BD-49B3-A7ED-6E38FBFDA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0CA3-115E-4A5F-9993-658C13D47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F6EC-A5A0-4BBD-85B9-7F4A5BD8B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FA9E-3B7E-4CD9-B88A-CBD470D1E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C93F-43F7-4446-9252-DEBB59B76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D85E-DA8B-4981-A1CB-D70AAFE6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794A-B613-47CD-838E-C648D330A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032F-25CF-4AA3-B125-CBF2B1FF0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C0CB-A1A8-4548-8529-33AA514D0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C3F1-8724-4E50-A833-BDA0335C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BFAE-FA71-4F6A-AC4B-BCF6985F4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5145-CCAF-4B05-87A4-04976F2A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C1DA-4E75-4621-959C-02DC3376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5498-9A56-4EE4-8949-F984B21A8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050A-A676-4589-976E-B59C43EFC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8B17-1CD0-4075-B11F-77C5E484C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FACA-0AF4-4F62-8EB1-C3A036BA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A112-9006-4355-8D8B-098AFA4BA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OUNTRIES THAT CONTAIN THESE SYMBOLS ON THEIR FLA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Nicaragua.png"/>
          <p:cNvPicPr/>
          <p:nvPr/>
        </p:nvPicPr>
        <p:blipFill>
          <a:blip r:embed="rId1"/>
          <a:stretch/>
        </p:blipFill>
        <p:spPr>
          <a:xfrm>
            <a:off x="2895480" y="1219320"/>
            <a:ext cx="3353040" cy="29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Slovakia.png"/>
          <p:cNvPicPr/>
          <p:nvPr/>
        </p:nvPicPr>
        <p:blipFill>
          <a:blip r:embed="rId1"/>
          <a:stretch/>
        </p:blipFill>
        <p:spPr>
          <a:xfrm>
            <a:off x="3352680" y="1219320"/>
            <a:ext cx="23860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685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Albania.png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29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57200" y="6858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5" descr="Flag_of_Barbados.jpg"/>
          <p:cNvPicPr/>
          <p:nvPr/>
        </p:nvPicPr>
        <p:blipFill>
          <a:blip r:embed="rId1"/>
          <a:stretch/>
        </p:blipFill>
        <p:spPr>
          <a:xfrm>
            <a:off x="3386160" y="1295280"/>
            <a:ext cx="2371680" cy="26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4604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canada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6552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BO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252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cambodia.png"/>
          <p:cNvPicPr/>
          <p:nvPr/>
        </p:nvPicPr>
        <p:blipFill>
          <a:blip r:embed="rId1"/>
          <a:stretch/>
        </p:blipFill>
        <p:spPr>
          <a:xfrm>
            <a:off x="2620800" y="1295280"/>
            <a:ext cx="389124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474840" y="685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1515514383_.jpg"/>
          <p:cNvPicPr/>
          <p:nvPr/>
        </p:nvPicPr>
        <p:blipFill>
          <a:blip r:embed="rId1"/>
          <a:stretch/>
        </p:blipFill>
        <p:spPr>
          <a:xfrm>
            <a:off x="3411360" y="1295280"/>
            <a:ext cx="23212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RGYZ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Kyrgyzstan.png"/>
          <p:cNvPicPr/>
          <p:nvPr/>
        </p:nvPicPr>
        <p:blipFill>
          <a:blip r:embed="rId1"/>
          <a:stretch/>
        </p:blipFill>
        <p:spPr>
          <a:xfrm>
            <a:off x="3065400" y="1219320"/>
            <a:ext cx="30132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Mexico.pn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29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Albania.png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29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1943280" y="4952880"/>
            <a:ext cx="5257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GO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1752480" y="685800"/>
            <a:ext cx="56390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mongolia.png"/>
          <p:cNvPicPr/>
          <p:nvPr/>
        </p:nvPicPr>
        <p:blipFill>
          <a:blip r:embed="rId1"/>
          <a:stretch/>
        </p:blipFill>
        <p:spPr>
          <a:xfrm>
            <a:off x="3787920" y="1219320"/>
            <a:ext cx="1568160" cy="29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AR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57200" y="68580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Nicaragua.png"/>
          <p:cNvPicPr/>
          <p:nvPr/>
        </p:nvPicPr>
        <p:blipFill>
          <a:blip r:embed="rId1"/>
          <a:stretch/>
        </p:blipFill>
        <p:spPr>
          <a:xfrm>
            <a:off x="2895480" y="1219320"/>
            <a:ext cx="3353040" cy="290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651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VAK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6858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Slovakia.png"/>
          <p:cNvPicPr/>
          <p:nvPr/>
        </p:nvPicPr>
        <p:blipFill>
          <a:blip r:embed="rId1"/>
          <a:stretch/>
        </p:blipFill>
        <p:spPr>
          <a:xfrm>
            <a:off x="3378240" y="1219320"/>
            <a:ext cx="23860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Flag_of_Barbados.jpg"/>
          <p:cNvPicPr/>
          <p:nvPr/>
        </p:nvPicPr>
        <p:blipFill>
          <a:blip r:embed="rId1"/>
          <a:stretch/>
        </p:blipFill>
        <p:spPr>
          <a:xfrm>
            <a:off x="3429000" y="1295280"/>
            <a:ext cx="2371680" cy="26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canada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655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cambodia.png"/>
          <p:cNvPicPr/>
          <p:nvPr/>
        </p:nvPicPr>
        <p:blipFill>
          <a:blip r:embed="rId1"/>
          <a:stretch/>
        </p:blipFill>
        <p:spPr>
          <a:xfrm>
            <a:off x="2625840" y="1295280"/>
            <a:ext cx="389088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1515514383_.jpg"/>
          <p:cNvPicPr/>
          <p:nvPr/>
        </p:nvPicPr>
        <p:blipFill>
          <a:blip r:embed="rId1"/>
          <a:stretch/>
        </p:blipFill>
        <p:spPr>
          <a:xfrm>
            <a:off x="3411360" y="1295280"/>
            <a:ext cx="23212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Kyrgyzstan.png"/>
          <p:cNvPicPr/>
          <p:nvPr/>
        </p:nvPicPr>
        <p:blipFill>
          <a:blip r:embed="rId1"/>
          <a:stretch/>
        </p:blipFill>
        <p:spPr>
          <a:xfrm>
            <a:off x="3065400" y="1219320"/>
            <a:ext cx="30132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Mexico.png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2419200" y="685800"/>
            <a:ext cx="4305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mongolia.png"/>
          <p:cNvPicPr/>
          <p:nvPr/>
        </p:nvPicPr>
        <p:blipFill>
          <a:blip r:embed="rId1"/>
          <a:stretch/>
        </p:blipFill>
        <p:spPr>
          <a:xfrm>
            <a:off x="3780000" y="1219320"/>
            <a:ext cx="1584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06:36:27Z</dcterms:created>
  <dc:creator>Jennifer Budzinski</dc:creator>
  <dc:description/>
  <dc:language>en-US</dc:language>
  <cp:lastModifiedBy>Erich Friedman</cp:lastModifiedBy>
  <dcterms:modified xsi:type="dcterms:W3CDTF">2020-09-05T13:21:58Z</dcterms:modified>
  <cp:revision>275</cp:revision>
  <dc:subject/>
  <dc:title>Slide 1</dc:title>
</cp:coreProperties>
</file>