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73F5-88F0-4844-9671-DC44FF814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240C-1317-4E08-A6AA-4DF6C5E75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AB58-CB89-4022-A1D8-54164FE3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5BD1-3D53-468C-B771-A7D5FAF7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7D07-8F2B-45AD-BA99-FDE5F3471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0B57-D774-4B12-9904-E5FF73833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FF0B-3766-4AAA-AD43-7B0B9856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6B34-593F-4FFD-839B-2ED49EDB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763-8837-47E3-9465-66353C43B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3603-E37C-4179-BF73-2762BD7D4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9A7A-E770-477E-B21A-F01A5A67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AEEE-8B18-486B-9280-63992E7F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ECA0-5BA3-4CE5-83EA-32F2C6983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4A43-686F-4035-A305-39FFE3619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26F9-D610-41D0-B110-DF315AAEF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AECA-9A6A-472E-BEE5-0A1C3EA4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4312-B173-486E-9C21-3C9396C2C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8555-EFA7-49A3-ADA6-0B58FA508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2A2D-5C28-46AB-A2BC-079D89B3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489F-E97E-4521-8C36-7D8FE796A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63E1-84C9-4FA5-8A54-7856B6DB8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F36A-6369-4464-B4FF-B12B585C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FA53-352F-44F5-9568-B68567F6F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OUNTRIES THAT CONTAIN THESE SYMBOLS ON THEIR FLA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Nicaragua.png"/>
          <p:cNvPicPr/>
          <p:nvPr/>
        </p:nvPicPr>
        <p:blipFill>
          <a:blip r:embed="rId1"/>
          <a:stretch/>
        </p:blipFill>
        <p:spPr>
          <a:xfrm>
            <a:off x="2895480" y="1219320"/>
            <a:ext cx="335304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Slovakia.png"/>
          <p:cNvPicPr/>
          <p:nvPr/>
        </p:nvPicPr>
        <p:blipFill>
          <a:blip r:embed="rId1"/>
          <a:stretch/>
        </p:blipFill>
        <p:spPr>
          <a:xfrm>
            <a:off x="3352680" y="1219320"/>
            <a:ext cx="23860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685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Albania.png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57200" y="6858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Flag_of_Barbados.jpg"/>
          <p:cNvPicPr/>
          <p:nvPr/>
        </p:nvPicPr>
        <p:blipFill>
          <a:blip r:embed="rId1"/>
          <a:stretch/>
        </p:blipFill>
        <p:spPr>
          <a:xfrm>
            <a:off x="3386160" y="1295280"/>
            <a:ext cx="2371680" cy="26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4604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canada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655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BO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252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cambodia.png"/>
          <p:cNvPicPr/>
          <p:nvPr/>
        </p:nvPicPr>
        <p:blipFill>
          <a:blip r:embed="rId1"/>
          <a:stretch/>
        </p:blipFill>
        <p:spPr>
          <a:xfrm>
            <a:off x="2620800" y="1295280"/>
            <a:ext cx="389124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474840" y="685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1515514383_.jpg"/>
          <p:cNvPicPr/>
          <p:nvPr/>
        </p:nvPicPr>
        <p:blipFill>
          <a:blip r:embed="rId1"/>
          <a:stretch/>
        </p:blipFill>
        <p:spPr>
          <a:xfrm>
            <a:off x="3411360" y="1295280"/>
            <a:ext cx="23212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RGYZ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Kyrgyzstan.png"/>
          <p:cNvPicPr/>
          <p:nvPr/>
        </p:nvPicPr>
        <p:blipFill>
          <a:blip r:embed="rId1"/>
          <a:stretch/>
        </p:blipFill>
        <p:spPr>
          <a:xfrm>
            <a:off x="3065400" y="1219320"/>
            <a:ext cx="30132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Mexico.pn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29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Albania.png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1943280" y="495288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GO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1752480" y="68580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mongolia.png"/>
          <p:cNvPicPr/>
          <p:nvPr/>
        </p:nvPicPr>
        <p:blipFill>
          <a:blip r:embed="rId1"/>
          <a:stretch/>
        </p:blipFill>
        <p:spPr>
          <a:xfrm>
            <a:off x="3787920" y="1219320"/>
            <a:ext cx="1568160" cy="29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AR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57200" y="685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Nicaragua.png"/>
          <p:cNvPicPr/>
          <p:nvPr/>
        </p:nvPicPr>
        <p:blipFill>
          <a:blip r:embed="rId1"/>
          <a:stretch/>
        </p:blipFill>
        <p:spPr>
          <a:xfrm>
            <a:off x="2895480" y="1219320"/>
            <a:ext cx="3353040" cy="29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651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VAK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6858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Slovakia.png"/>
          <p:cNvPicPr/>
          <p:nvPr/>
        </p:nvPicPr>
        <p:blipFill>
          <a:blip r:embed="rId1"/>
          <a:stretch/>
        </p:blipFill>
        <p:spPr>
          <a:xfrm>
            <a:off x="3378240" y="1219320"/>
            <a:ext cx="23860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Flag_of_Barbados.jpg"/>
          <p:cNvPicPr/>
          <p:nvPr/>
        </p:nvPicPr>
        <p:blipFill>
          <a:blip r:embed="rId1"/>
          <a:stretch/>
        </p:blipFill>
        <p:spPr>
          <a:xfrm>
            <a:off x="3429000" y="1295280"/>
            <a:ext cx="23716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canada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655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cambodia.png"/>
          <p:cNvPicPr/>
          <p:nvPr/>
        </p:nvPicPr>
        <p:blipFill>
          <a:blip r:embed="rId1"/>
          <a:stretch/>
        </p:blipFill>
        <p:spPr>
          <a:xfrm>
            <a:off x="2625840" y="1295280"/>
            <a:ext cx="3890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1515514383_.jpg"/>
          <p:cNvPicPr/>
          <p:nvPr/>
        </p:nvPicPr>
        <p:blipFill>
          <a:blip r:embed="rId1"/>
          <a:stretch/>
        </p:blipFill>
        <p:spPr>
          <a:xfrm>
            <a:off x="3411360" y="1295280"/>
            <a:ext cx="23212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Kyrgyzstan.png"/>
          <p:cNvPicPr/>
          <p:nvPr/>
        </p:nvPicPr>
        <p:blipFill>
          <a:blip r:embed="rId1"/>
          <a:stretch/>
        </p:blipFill>
        <p:spPr>
          <a:xfrm>
            <a:off x="3065400" y="1219320"/>
            <a:ext cx="3013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Mexico.pn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2419200" y="685800"/>
            <a:ext cx="4305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mongolia.png"/>
          <p:cNvPicPr/>
          <p:nvPr/>
        </p:nvPicPr>
        <p:blipFill>
          <a:blip r:embed="rId1"/>
          <a:stretch/>
        </p:blipFill>
        <p:spPr>
          <a:xfrm>
            <a:off x="3780000" y="1219320"/>
            <a:ext cx="1584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06:36:27Z</dcterms:created>
  <dc:creator>Jennifer Budzinski</dc:creator>
  <dc:description/>
  <dc:language>en-US</dc:language>
  <cp:lastModifiedBy>Erich Friedman</cp:lastModifiedBy>
  <dcterms:modified xsi:type="dcterms:W3CDTF">2020-09-05T13:21:58Z</dcterms:modified>
  <cp:revision>275</cp:revision>
  <dc:subject/>
  <dc:title>Slide 1</dc:title>
</cp:coreProperties>
</file>