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404-EA2D-4C99-8AA3-1513E2B5F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3ACF-6C06-4A87-83A9-4CFAD0573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0CD7-0131-4783-B0C8-9B7B24C24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5264-5D21-42C2-84B4-CE7D1FD4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F979-1A40-437D-9BA0-C29E5FCC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E2F3-F09E-49EF-83A7-19F3A1CF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2BCD-67E8-479D-BA25-0DDD5905C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23E9-F549-4613-B3D5-2121584B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891-71F7-4B7B-B274-5649373A1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457E-E71E-4817-A868-62A1F62FB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3418-F41A-4443-A972-866F87DD7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8A87-CEA9-4344-A66F-517F3590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170B-792B-4331-8391-37B1C9973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1557-BBBA-4CDE-8835-B73D7F78B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644-BBDB-4CA3-85A1-5C1990880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A1CA-AE93-4F63-9CA9-2B2C6900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DF82-0FEB-44C0-944F-9424536D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FD70-6C29-4132-BA64-317E6120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13E0-A406-4536-9AE3-6F00A0468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D282-AA82-4203-BBFB-346B63493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6AD9-BE64-42F5-A6A7-F6DF0D14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9EB-E998-4A88-B61E-05FF6E409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3434-3786-4E84-8CBE-34F307010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TEGORY OF THINGS HAVE THESE FLA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66760" y="1447920"/>
            <a:ext cx="3949560" cy="262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22120" y="1459080"/>
            <a:ext cx="4013280" cy="2678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4470480" y="1459080"/>
            <a:ext cx="446400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29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COU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289080" y="1441440"/>
            <a:ext cx="4182840" cy="2497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4673520" y="1441440"/>
            <a:ext cx="4181400" cy="24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Y  NAVAL  EN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25360" y="1344600"/>
            <a:ext cx="4194360" cy="2800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2"/>
          <a:stretch/>
        </p:blipFill>
        <p:spPr>
          <a:xfrm>
            <a:off x="4724280" y="1344600"/>
            <a:ext cx="41943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TO  RA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14800" cy="3195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228600" y="49528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RNATIONAL  CODE  OF  SIG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6197760" y="1446120"/>
            <a:ext cx="2701800" cy="2702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2"/>
          <a:stretch/>
        </p:blipFill>
        <p:spPr>
          <a:xfrm>
            <a:off x="3220920" y="1432080"/>
            <a:ext cx="2702160" cy="27032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244440" y="1403280"/>
            <a:ext cx="277164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UAL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241200" y="1390680"/>
            <a:ext cx="4297320" cy="26542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4768920" y="1390680"/>
            <a:ext cx="4167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I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93680" y="1463760"/>
            <a:ext cx="4378320" cy="2805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tretch/>
        </p:blipFill>
        <p:spPr>
          <a:xfrm>
            <a:off x="4745160" y="1460520"/>
            <a:ext cx="42051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636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VE  AMERICAN  TRI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318200" cy="259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3336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692600" y="1447920"/>
            <a:ext cx="4181400" cy="2496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270000" y="1447920"/>
            <a:ext cx="4182840" cy="24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ARMED 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657600" cy="288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480060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266760" y="1447920"/>
            <a:ext cx="3949560" cy="2628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Z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222120" y="1459080"/>
            <a:ext cx="4013280" cy="26780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"/>
          <p:cNvPicPr/>
          <p:nvPr/>
        </p:nvPicPr>
        <p:blipFill>
          <a:blip r:embed="rId2"/>
          <a:stretch/>
        </p:blipFill>
        <p:spPr>
          <a:xfrm>
            <a:off x="4470480" y="1459080"/>
            <a:ext cx="446400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225360" y="1344600"/>
            <a:ext cx="4194360" cy="2800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2"/>
          <a:stretch/>
        </p:blipFill>
        <p:spPr>
          <a:xfrm>
            <a:off x="4724280" y="1344600"/>
            <a:ext cx="41943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14800" cy="3195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44440" y="1403280"/>
            <a:ext cx="2771640" cy="2772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3220920" y="1432080"/>
            <a:ext cx="2702160" cy="2703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3"/>
          <a:stretch/>
        </p:blipFill>
        <p:spPr>
          <a:xfrm>
            <a:off x="6197760" y="1446120"/>
            <a:ext cx="2701800" cy="27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41200" y="1390680"/>
            <a:ext cx="4297320" cy="26542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2"/>
          <a:stretch/>
        </p:blipFill>
        <p:spPr>
          <a:xfrm>
            <a:off x="4768920" y="1390680"/>
            <a:ext cx="4167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93680" y="1463760"/>
            <a:ext cx="4378320" cy="2805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4745160" y="1460520"/>
            <a:ext cx="42051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318200" cy="25909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3336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657600" cy="2880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48006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3:22:30Z</dcterms:modified>
  <cp:revision>297</cp:revision>
  <dc:subject/>
  <dc:title>Slide 1</dc:title>
</cp:coreProperties>
</file>