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087-9589-49A6-BF42-712803958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02DE-670A-4605-BD5B-87B65DD5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8B3-3E1B-44C5-BF67-CE4449EF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9E5-D1D2-43A7-8E5F-748B4167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34E8-6939-44DA-B66F-93F62677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53F-2AD3-4868-8EEC-B085F9C9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AFE-7E45-4091-89EC-B3F80284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BFA-BA54-4FBB-81FC-7905E40F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F12-FE8F-4BEF-9E91-686648EE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7DF-E844-46B6-AD74-D824ECEB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5D2-07E3-4AC6-9D34-A01CB84B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0BE-EEAE-4CCF-8946-A71FC395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5B8-8C17-4CEC-B414-532D0156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5F3B-011D-462B-970C-02CCAF26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3CF-5969-436C-B20E-90D473B2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3EE-BEBA-4FF1-810C-BCF60151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3A2C-B3E7-40A2-BBD1-3360E0E7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D0E-65DC-48E9-9956-B2C595CB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D71-0901-463B-9CBC-E7FB58A9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6F6-8263-42BA-AFB8-0606FF17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8E9-FD63-4E7B-92C1-1FADA57B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6AD-5F6C-4F4B-9DAC-0A4AD9FC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D6C1-E8DF-4C75-A3B5-B6DA1385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TEGORY OF THINGS HAVE THESE FLA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29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289080" y="1441440"/>
            <a:ext cx="4182840" cy="2497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4673520" y="1441440"/>
            <a:ext cx="4181400" cy="24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  NAVAL  EN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O  RA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228600" y="4952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CODE  OF  SIG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UAL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AMERICAN  TRI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692600" y="1447920"/>
            <a:ext cx="4181400" cy="2496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270000" y="1447920"/>
            <a:ext cx="41828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3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3:22:30Z</dcterms:modified>
  <cp:revision>297</cp:revision>
  <dc:subject/>
  <dc:title>Slide 1</dc:title>
</cp:coreProperties>
</file>