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6F69-81C2-49F9-93DE-0A3CAD740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29DA-9286-42C8-AD79-52A7A21D9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1ABE-5DD5-4F5D-94D5-41FC36EB4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C112-E14E-4AD1-A261-B7D46CA32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DFF5-D67E-4D4B-820B-2C5BA42BF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D0AC-7F6E-46F0-9112-E967968F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BAF6-A50F-4C36-A792-4B95B017F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A350-DD3F-4BEA-BA7C-08FFF898F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23C1-EF49-4009-9ADD-CC0E1DA5E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EDDC-5BC1-4F0A-97FE-E445A5E41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291F-F477-462C-B945-09F59F76D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E9ECE-0A3B-44F8-8900-1E2B2934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086A-37DF-442D-8122-29103838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8D2A-4D2E-4AE1-8324-C8EE77F81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6D22-320D-49BF-8723-66382D1A6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34EC-EAEA-496F-AD83-BC603EFF4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6266-528C-4B5D-B542-41C7E1E49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E0215-18AE-4BCC-A802-597D85413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F7D8-BD5E-4D67-B9C4-3C707253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9C14-507D-42E4-8915-6768A8B91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1F23-128E-41B2-AB65-6D2464AE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855E-4916-458A-ADC8-FBFE94636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81B4-0E2F-400B-A129-736CF944A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TEGORY OF THINGS HAVE THESE FLA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66760" y="1447920"/>
            <a:ext cx="3949560" cy="262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3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438156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222120" y="1459080"/>
            <a:ext cx="4013280" cy="2678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"/>
          <p:cNvPicPr/>
          <p:nvPr/>
        </p:nvPicPr>
        <p:blipFill>
          <a:blip r:embed="rId2"/>
          <a:stretch/>
        </p:blipFill>
        <p:spPr>
          <a:xfrm>
            <a:off x="4470480" y="1459080"/>
            <a:ext cx="4464000" cy="26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29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COU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289080" y="1441440"/>
            <a:ext cx="4182840" cy="24973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"/>
          <p:cNvPicPr/>
          <p:nvPr/>
        </p:nvPicPr>
        <p:blipFill>
          <a:blip r:embed="rId2"/>
          <a:stretch/>
        </p:blipFill>
        <p:spPr>
          <a:xfrm>
            <a:off x="4673520" y="1441440"/>
            <a:ext cx="4181400" cy="24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RY  NAVAL  EN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25360" y="1344600"/>
            <a:ext cx="4194360" cy="28004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"/>
          <p:cNvPicPr/>
          <p:nvPr/>
        </p:nvPicPr>
        <p:blipFill>
          <a:blip r:embed="rId2"/>
          <a:stretch/>
        </p:blipFill>
        <p:spPr>
          <a:xfrm>
            <a:off x="4724280" y="1344600"/>
            <a:ext cx="41943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TO  RA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14800" cy="31953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228600" y="49528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RNATIONAL  CODE  OF  SIG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6197760" y="1446120"/>
            <a:ext cx="2701800" cy="27021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"/>
          <p:cNvPicPr/>
          <p:nvPr/>
        </p:nvPicPr>
        <p:blipFill>
          <a:blip r:embed="rId2"/>
          <a:stretch/>
        </p:blipFill>
        <p:spPr>
          <a:xfrm>
            <a:off x="3220920" y="1432080"/>
            <a:ext cx="2702160" cy="27032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6" descr=""/>
          <p:cNvPicPr/>
          <p:nvPr/>
        </p:nvPicPr>
        <p:blipFill>
          <a:blip r:embed="rId3"/>
          <a:stretch/>
        </p:blipFill>
        <p:spPr>
          <a:xfrm>
            <a:off x="244440" y="1403280"/>
            <a:ext cx="2771640" cy="27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457200" y="4933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UAL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"/>
          <p:cNvPicPr/>
          <p:nvPr/>
        </p:nvPicPr>
        <p:blipFill>
          <a:blip r:embed="rId1"/>
          <a:stretch/>
        </p:blipFill>
        <p:spPr>
          <a:xfrm>
            <a:off x="241200" y="1390680"/>
            <a:ext cx="4297320" cy="265428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4768920" y="1390680"/>
            <a:ext cx="416700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4651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I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93680" y="1463760"/>
            <a:ext cx="4378320" cy="28051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"/>
          <p:cNvPicPr/>
          <p:nvPr/>
        </p:nvPicPr>
        <p:blipFill>
          <a:blip r:embed="rId2"/>
          <a:stretch/>
        </p:blipFill>
        <p:spPr>
          <a:xfrm>
            <a:off x="4745160" y="1460520"/>
            <a:ext cx="420516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636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VE  AMERICAN  TRI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318200" cy="25909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6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33368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692600" y="1447920"/>
            <a:ext cx="4181400" cy="24969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"/>
          <p:cNvPicPr/>
          <p:nvPr/>
        </p:nvPicPr>
        <p:blipFill>
          <a:blip r:embed="rId2"/>
          <a:stretch/>
        </p:blipFill>
        <p:spPr>
          <a:xfrm>
            <a:off x="270000" y="1447920"/>
            <a:ext cx="4182840" cy="24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ARMED 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657600" cy="2880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4800600" cy="28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266760" y="1447920"/>
            <a:ext cx="3949560" cy="2628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438156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Z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222120" y="1459080"/>
            <a:ext cx="4013280" cy="26780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"/>
          <p:cNvPicPr/>
          <p:nvPr/>
        </p:nvPicPr>
        <p:blipFill>
          <a:blip r:embed="rId2"/>
          <a:stretch/>
        </p:blipFill>
        <p:spPr>
          <a:xfrm>
            <a:off x="4470480" y="1459080"/>
            <a:ext cx="4464000" cy="26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225360" y="1344600"/>
            <a:ext cx="4194360" cy="28004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"/>
          <p:cNvPicPr/>
          <p:nvPr/>
        </p:nvPicPr>
        <p:blipFill>
          <a:blip r:embed="rId2"/>
          <a:stretch/>
        </p:blipFill>
        <p:spPr>
          <a:xfrm>
            <a:off x="4724280" y="1344600"/>
            <a:ext cx="41943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114800" cy="3195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44440" y="1403280"/>
            <a:ext cx="2771640" cy="2772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"/>
          <p:cNvPicPr/>
          <p:nvPr/>
        </p:nvPicPr>
        <p:blipFill>
          <a:blip r:embed="rId2"/>
          <a:stretch/>
        </p:blipFill>
        <p:spPr>
          <a:xfrm>
            <a:off x="3220920" y="1432080"/>
            <a:ext cx="2702160" cy="2703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" descr=""/>
          <p:cNvPicPr/>
          <p:nvPr/>
        </p:nvPicPr>
        <p:blipFill>
          <a:blip r:embed="rId3"/>
          <a:stretch/>
        </p:blipFill>
        <p:spPr>
          <a:xfrm>
            <a:off x="6197760" y="1446120"/>
            <a:ext cx="2701800" cy="27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241200" y="1390680"/>
            <a:ext cx="4297320" cy="26542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"/>
          <p:cNvPicPr/>
          <p:nvPr/>
        </p:nvPicPr>
        <p:blipFill>
          <a:blip r:embed="rId2"/>
          <a:stretch/>
        </p:blipFill>
        <p:spPr>
          <a:xfrm>
            <a:off x="4768920" y="1390680"/>
            <a:ext cx="41670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93680" y="1463760"/>
            <a:ext cx="4378320" cy="28051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2"/>
          <a:stretch/>
        </p:blipFill>
        <p:spPr>
          <a:xfrm>
            <a:off x="4745160" y="1460520"/>
            <a:ext cx="42051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318200" cy="25909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" descr=""/>
          <p:cNvPicPr/>
          <p:nvPr/>
        </p:nvPicPr>
        <p:blipFill>
          <a:blip r:embed="rId2"/>
          <a:stretch/>
        </p:blipFill>
        <p:spPr>
          <a:xfrm>
            <a:off x="4645080" y="1523880"/>
            <a:ext cx="43336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657600" cy="2880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4" descr=""/>
          <p:cNvPicPr/>
          <p:nvPr/>
        </p:nvPicPr>
        <p:blipFill>
          <a:blip r:embed="rId2"/>
          <a:stretch/>
        </p:blipFill>
        <p:spPr>
          <a:xfrm>
            <a:off x="4114800" y="1523880"/>
            <a:ext cx="48006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3:22:30Z</dcterms:modified>
  <cp:revision>297</cp:revision>
  <dc:subject/>
  <dc:title>Slide 1</dc:title>
</cp:coreProperties>
</file>