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4FE-ED2B-4C35-A48D-C97B9DD7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CCEC-D952-4808-846A-71FDCAE38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97A7-52B1-4264-9B5E-1E623A9B7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AEC2-0517-47F9-A162-A8E92988D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6935-9526-4A2C-A82A-860476E73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1EE3-211B-4324-89EC-73551190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D845-1F80-4D35-8200-AB1501EC6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0F9C-54B6-4842-A792-7DF5B381B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3E9E-0494-4333-B418-710A07E2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2AE8-94A8-424A-892C-CDB402D18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A440-A037-4ED4-B32A-761CD57CC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1C6E-78C9-4E34-B3B5-1C6BB4C7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913D-FF3F-4D8C-9CBC-7E0C046A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74434-7A65-442E-A456-7A16A6F52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6471-CB3F-4C96-B03E-D6C9BDBC9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A3FB-A94F-4CC7-AB6A-F849EBDE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89D6-B10C-40A7-B5E7-58DBB6510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623D-84AD-423B-8A36-55B933A7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A3B1-BE36-4CF2-A447-5904C9A87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D2D8-AF9B-42BB-A3AF-98CC5FCE4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A93F-A78D-426C-9F96-0134E09D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CBFC-140A-48D7-8B2E-B5BCA3B6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AE9A-BB53-4159-AC99-D534D965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485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UZZI ALSO MAKES TOIL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USHED TOILETS WILL SWIRL THE OTHER DIRECTION IN THE SOU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GOOD FRIDAY, 1930, BBC NEWS REPORTED "THERE IS NO NEWS" AND PLAYED PIANO MUSIC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 INVENTOR OF THE PRINGLES CAN DIED, HIS ASHES WERE BURIED IN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MUSKETEER BARS WERE ORIGINALLY 3 PIECES, ONE EACH OF CHOCOLATE, VANILLA, AND STRAWBER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19320" y="4343400"/>
            <a:ext cx="67053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THEY  ARE  MORE  AGGRESS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MALE SHARKS BITE HUM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BLO ESCOBAR'S MEDELLIN CARTEL SPENT $30,000 PER YEAR ON RUBBER BANDS TO BUNDLE ALL THEIR C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DOESN’T  SPECIFY 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THAT THREE WISE MEN VISITED JESUS AFTER HE WAS BORN, BRINGING GOLD, FRANKINCENSE, AND MYRR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ORTS TEAMS OF THE ARKANSAS SCHOOL OF THE DEAF ARE KNOWN AS THE LEOP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GOOD FRIDAY, 1930, BBC NEWS REPORTED "THERE IS NO NEWS" AND PLAYED PIANO MUSIC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MALE OPOSSUM HAS AN ODD NUMBER OF NIP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UZZI ALSO MAKES TOIL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360" y="4267080"/>
            <a:ext cx="9144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OILETS  WILL  SWIRL  IN  THE  DIRECTION  THEY  ARE  MADE  T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LUSHED TOILETS WILL SWIRL THE OTHER DIRECTION IN THE SOU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HE INVENTOR OF THE PRINGLES CAN DIED, HIS ASHES WERE BURIED IN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 MUSKETEER BARS WERE ORIGINALLY 3 PIECES, ONE EACH OF CHOCOLATE, VANILLA, AND STRAWBER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MALE SHARKS BITE HUM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BLO ESCOBAR'S MEDELLIN CARTEL SPENT $30,000 PER YEAR ON RUBBER BANDS TO BUNDLE ALL THEIR C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THAT THREE WISE MEN VISITED JESUS AFTER HE WAS BORN, BRINGING GOLD, FRANKINCENSE, AND MYRR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PORTS TEAMS OF THE ARKANSAS SCHOOL OF THE DEAF ARE KNOWN AS THE LEOP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MALE OPOSSUM HAS AN ODD NUMBER OF NIPP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16:47:47Z</dcterms:created>
  <dc:creator>Jennifer Budzinski</dc:creator>
  <dc:description/>
  <dc:language>en-US</dc:language>
  <cp:lastModifiedBy>Erich Friedman</cp:lastModifiedBy>
  <dcterms:modified xsi:type="dcterms:W3CDTF">2020-08-26T18:59:49Z</dcterms:modified>
  <cp:revision>344</cp:revision>
  <dc:subject/>
  <dc:title>Slide 1</dc:title>
</cp:coreProperties>
</file>