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CC4C-81B6-431E-8BEB-98CB61C53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A2DF-E5EA-4383-83AF-196017582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6E1B-5D6E-428F-8989-293CDB49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7DF-C708-43C1-8499-63ECD436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6E97-01BE-46F8-993F-4C0E406B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F148-2073-4639-9844-2FE1A7F3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BA83-D091-496F-BF0B-217253EB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8DD2-B184-4359-A5C7-DE0070E5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F6E7-432B-4BBA-A26B-302B6EE4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F7F-54F1-4456-A64E-FDE9ECC9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937E-35B7-4DD5-B62E-A953B5FD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6C17-2498-41C7-9504-8BC75F921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9D8-5BF7-460D-8F91-DBDD68F1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C939-D506-4ED9-9C6C-A6D7A38A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4C6D-3FD0-4192-820B-64B588FB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2222-2503-4ACD-AC6A-358EBB79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B948-F91B-4CF7-AA36-3994614F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6BB7-2AD0-4B02-9CCE-832D0E1A9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12F1-CDA1-4A94-AF94-D49429822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2FF8-25D4-4539-B694-A8848024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A94-4F37-4220-BFDA-BFF6E72C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10D8-36BE-4D09-BA7C-C6688BA9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AE9-C5AA-4BC9-A4FC-5232E824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85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UZZI ALSO MAKES TOIL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USHED TOILETS WILL SWIRL THE OTHER DIRECTION IN THE SOU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GOOD FRIDAY, 1930, BBC NEWS REPORTED "THERE IS NO NEWS" AND PLAYED PIANO MUSIC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 INVENTOR OF THE PRINGLES CAN DIED, HIS ASHES WERE BURIED IN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MUSKETEER BARS WERE ORIGINALLY 3 PIECES, ONE EACH OF CHOCOLATE, VANILLA, AND STRAWBER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19320" y="4343400"/>
            <a:ext cx="6705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THEY  ARE  MORE  AGGRESS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MALE SHARKS BITE HUM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ESCOBAR'S MEDELLIN CARTEL SPENT $30,000 PER YEAR ON RUBBER BANDS TO BUNDLE ALL THEIR C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DOESN’T  SPECIFY 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THAT THREE WISE MEN VISITED JESUS AFTER HE WAS BORN, BRINGING GOLD, FRANKINCENSE, AND MYRR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ORTS TEAMS OF THE ARKANSAS SCHOOL OF THE DEAF ARE KNOWN AS THE LEOP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GOOD FRIDAY, 1930, BBC NEWS REPORTED "THERE IS NO NEWS" AND PLAYED PIANO MUSIC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MALE OPOSSUM HAS AN ODD NUMBER OF NIP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UZZI ALSO MAKES TOI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360" y="42670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OILETS  WILL  SWIRL  IN  THE  DIRECTION  THEY  ARE  MADE  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USHED TOILETS WILL SWIRL THE OTHER DIRECTION IN THE SOU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 INVENTOR OF THE PRINGLES CAN DIED, HIS ASHES WERE BURIED IN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MUSKETEER BARS WERE ORIGINALLY 3 PIECES, ONE EACH OF CHOCOLATE, VANILLA, AND STRAWBER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MALE SHARKS BITE HUM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ESCOBAR'S MEDELLIN CARTEL SPENT $30,000 PER YEAR ON RUBBER BANDS TO BUNDLE ALL THEIR C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THAT THREE WISE MEN VISITED JESUS AFTER HE WAS BORN, BRINGING GOLD, FRANKINCENSE, AND MYRR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ORTS TEAMS OF THE ARKANSAS SCHOOL OF THE DEAF ARE KNOWN AS THE LEOP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MALE OPOSSUM HAS AN ODD NUMBER OF NIPP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6:47:47Z</dcterms:created>
  <dc:creator>Jennifer Budzinski</dc:creator>
  <dc:description/>
  <dc:language>en-US</dc:language>
  <cp:lastModifiedBy>Erich Friedman</cp:lastModifiedBy>
  <dcterms:modified xsi:type="dcterms:W3CDTF">2020-08-26T18:59:49Z</dcterms:modified>
  <cp:revision>344</cp:revision>
  <dc:subject/>
  <dc:title>Slide 1</dc:title>
</cp:coreProperties>
</file>