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6188-7F17-4CED-AD68-FBE7F27D9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E92D-4D7F-4521-AC4F-9C32AF1F2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4A65-33E3-4FA4-8BF5-4F09A6BA9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5FC5-FF01-4CB7-8B00-6579FF152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9E22-4F0D-4DF1-A285-2CAD95DA3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3405-4FA4-47B7-9BD4-031C8B26B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4D38-D919-442B-B4D2-FC859C43C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D95A-EBB5-4C1C-B318-679D32D06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BC0B-9CB1-4C1C-9AE6-79B8541C5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C0D9-68E5-4C88-8AD4-B7E4DAEF7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BB11-D150-43EE-957B-A905C8A0F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AABB-4E8A-4D84-9757-288999FF2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4829-09D4-43FF-8B30-1500AADA1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3C8E-63C3-44D0-9778-795DF1555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CFAC-B90A-4A10-8B84-38EA792A7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9175-B540-480C-84B4-90E012AA6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341C-79C7-4086-A92E-CF24F310F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8B86-47F8-4B65-9D6F-9BAF239BA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30F6-3CA1-4FE3-A268-E86BE1D66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CCC8-E281-4E36-BA23-6BFC4B5C2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86EC-6CC5-48DD-82F8-EE276F6BB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9E6B-585A-40EA-9D52-D47BABB93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1BA7-AFE4-494B-9520-3F8BE7546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14857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UZZI ALSO MAKES TOIL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USHED TOILETS WILL SWIRL THE OTHER DIRECTION IN THE SOUTHERN HEMISP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GOOD FRIDAY, 1930, BBC NEWS REPORTED "THERE IS NO NEWS" AND PLAYED PIANO MUSIC INST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THE INVENTOR OF THE PRINGLES CAN DIED, HIS ASHES WERE BURIED IN 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276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 MUSKETEER BARS WERE ORIGINALLY 3 PIECES, ONE EACH OF CHOCOLATE, VANILLA, AND STRAWBER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219320" y="4343400"/>
            <a:ext cx="6705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BUT  THEY  ARE  MORE  AGGRESSI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486080" y="76212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MALE SHARKS BITE HUM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BLO ESCOBAR'S MEDELLIN CARTEL SPENT $30,000 PER YEAR ON RUBBER BANDS TO BUNDLE ALL THEIR CA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DOESN’T  SPECIFY 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IBLE SAYS THAT THREE WISE MEN VISITED JESUS AFTER HE WAS BORN, BRINGING GOLD, FRANKINCENSE, AND MYRR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PORTS TEAMS OF THE ARKANSAS SCHOOL OF THE DEAF ARE KNOWN AS THE LEOP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GOOD FRIDAY, 1930, BBC NEWS REPORTED "THERE IS NO NEWS" AND PLAYED PIANO MUSIC INST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EMALE OPOSSUM HAS AN ODD NUMBER OF NIP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00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90440" y="7621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UZZI ALSO MAKES TOIL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360" y="4267080"/>
            <a:ext cx="9144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TOILETS  WILL  SWIRL  IN  THE  DIRECTION  THEY  ARE  MADE  T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USHED TOILETS WILL SWIRL THE OTHER DIRECTION IN THE SOUTHERN HEMISP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THE INVENTOR OF THE PRINGLES CAN DIED, HIS ASHES WERE BURIED IN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 MUSKETEER BARS WERE ORIGINALLY 3 PIECES, ONE EACH OF CHOCOLATE, VANILLA, AND STRAWBER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MALE SHARKS BITE HUM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BLO ESCOBAR'S MEDELLIN CARTEL SPENT $30,000 PER YEAR ON RUBBER BANDS TO BUNDLE ALL THEIR CA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IBLE SAYS THAT THREE WISE MEN VISITED JESUS AFTER HE WAS BORN, BRINGING GOLD, FRANKINCENSE, AND MYRR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PORTS TEAMS OF THE ARKANSAS SCHOOL OF THE DEAF ARE KNOWN AS THE LEOP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EMALE OPOSSUM HAS AN ODD NUMBER OF NIPP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0T16:47:47Z</dcterms:created>
  <dc:creator>Jennifer Budzinski</dc:creator>
  <dc:description/>
  <dc:language>en-US</dc:language>
  <cp:lastModifiedBy>Erich Friedman</cp:lastModifiedBy>
  <dcterms:modified xsi:type="dcterms:W3CDTF">2020-08-26T18:59:49Z</dcterms:modified>
  <cp:revision>344</cp:revision>
  <dc:subject/>
  <dc:title>Slide 1</dc:title>
</cp:coreProperties>
</file>