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F8E1-DA74-4FC9-B435-E600CB780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FD78-182E-4E70-A3DB-00F071C7C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BA05-96B9-4571-A476-807BDFA7C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9A71-853B-4AB8-ACFB-1C60BCA56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D9CE-D1AE-40B2-951E-03EFB122E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AAB7-B70C-49CA-A751-F0FBC757F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E6DB-68C8-451E-AC2C-BF4AEF28B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B894-160E-4357-A4A9-2D528CF00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BC64-ED0A-4111-8052-328EC4021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0B7F-1167-4507-AC62-F9C56C10B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078B-59E0-4B07-B19C-0834E37FF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96EA-1C64-4497-B38E-F74BB2CEA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0895-5A89-45CA-8313-F05714DB2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119C-03A3-42E9-8351-5D3026D9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077E-9C47-4FE4-82C9-7D6CEF073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B445-EF33-4EE8-9F28-74A94E663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2837-55A6-4877-9F60-4DAE6DFB5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632D-8921-422A-ABD1-DB34AB68A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C159-4A9D-48D4-950A-F1C83BD8D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1380-0B5C-46EA-83DC-B5B0FC199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4BEC-1C81-4CFC-882D-77F4E73A7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5B03-9507-4BDC-9BE0-58DB1A8E4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C8B0-9073-4371-80A1-82CC6FE6A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504720" y="1523880"/>
            <a:ext cx="8134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INCIDENCE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WWI ENDED ON ARMISTICE DAY, 11/11/18, AND ARCHDUKE FERDINAND, WHOSE ASSASSINATION STARTED WWI, WAS RIDING IN A CAR WHOSE LICENSE PLATE WAS "AIII118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33360" y="762120"/>
            <a:ext cx="847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FRENCHMAN WON 4 DUELS IN THE 1800'S WITHOUT FIRING A SHOT, AS ALL 4 MEN SUDDENLY DIED    OF NATURAL CAU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90440" y="762120"/>
            <a:ext cx="87631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SECOND AND THIRD PRESIDENTS OF THE U.S. DIED ON THE SAME DAY, JULY 4, 182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71360" y="762120"/>
            <a:ext cx="8801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IN 2014, THERE WERE 2 CRASHES INVOLVING MALAYSIAN AIR FLIGHTS, AND ONE MAN WAS SCHEDULED TO BE ON, AND CANCELLED, BOTH FLIGH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14440" y="762120"/>
            <a:ext cx="811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 10-YEAR OLD GIRL WROTE HER NAME ON A BALLOON, WHICH TRAVELED 140 MILES AND LANDED IN THE YARD OF ANOTHER 10-YEAR-OLD GIRL WITH THE SAME N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96920" y="762120"/>
            <a:ext cx="875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DYING ABORIGINAL LANGUAGE IN AUSTRALIA HAS NO WORDS IN COMMON WITH ENGLISH, EXCEPT FOR THE WORD "DO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09520" y="762120"/>
            <a:ext cx="8724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 COUPLE SORTING THROUGH FAMILY PHOTOGRAPHS FOUND A PICTURE OF THEM BOTH PLAYING AT THE BEACH AS CHILDREN, DESPITE GROWING UP 300 MILES APAR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IN 1951, WHEN "DENNIS THE MENACE" BEGAN IN THE U.S., ANOTHER COMIC WITH THE SAME NAME WAS STARTED INDEPENDENTLY IN ENGL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ONALD TRUMP WAS PRESIDENT  IN AN EPISODE OF "THE SIMPSONS" AIRED IN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95120" y="762120"/>
            <a:ext cx="8753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SECOND AND THIRD PRESIDENTS OF THE U.S. DIED ON THE SAME DAY, JULY 4, 182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25440" y="762120"/>
            <a:ext cx="849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MMEDIATELY AFTER FINISHING A LECTURE ON HOW DEATH CAN STRIKE ANYONE AT ANY TIME, A MAN CHOKED TO DEATH ON A MI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4800" y="762120"/>
            <a:ext cx="7934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WWI ENDED ON ARMISTICE DAY, 11/11/18, AND ARCHDUKE FERDINAND, WHOSE ASSASSINATION STARTED WWI, WAS RIDING IN A CAR WHOSE LICENSE PLATE WAS "AIII118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33360" y="762120"/>
            <a:ext cx="8477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FRENCHMAN WON 4 DUELS IN THE 1800'S WITHOUT FIRING A SHOT, AS ALL 4 MEN SUDDENLY DIED    OF NATURAL CAU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1240" y="761760"/>
            <a:ext cx="892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IN 2014, THERE WERE 2 CRASHES INVOLVING MALAYSIAN AIR FLIGHTS, AND ONE MAN WAS SCHEDULED TO BE ON, AND CANCELLED, BOTH FLIGHT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95280" y="76212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 10-YEAR OLD GIRL WROTE HER NAME ON A BALLOON, WHICH TRAVELED 140 MILES AND LANDED IN THE YARD OF ANOTHER 10-YEAR-OLD GIRL WITH THE SAME N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DYING ABORIGINAL LANGUAGE IN AUSTRALIA HAS NO WORDS IN COMMON WITH ENGLISH, EXCEPT FOR THE WORD "DO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 COUPLE SORTING THROUGH FAMILY PHOTOGRAPHS FOUND A PICTURE OF THEM BOTH PLAYING AT THE BEACH AS CHILDREN, DESPITE GROWING UP 300 MILES APAR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IN 1951, WHEN "DENNIS THE MENACE" BEGAN IN THE U.S., ANOTHER COMIC WITH THE SAME NAME WAS STARTED INDEPENDENTLY IN ENGLA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ONALD TRUMP WAS PRESIDENT      IN AN EPISODE OF "THE SIMPSONS" AIRED IN 2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MMEDIATELY AFTER FINISHING A LECTURE ON HOW DEATH CAN STRIKE ANYONE AT ANY TIME, A MAN CHOKED TO DEATH ON A MI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6T19:07:52Z</dcterms:modified>
  <cp:revision>358</cp:revision>
  <dc:subject/>
  <dc:title>Slide 1</dc:title>
</cp:coreProperties>
</file>