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9F2-073D-41E4-B252-7E630570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471-97C3-4DE3-9A6A-4CDA927E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40D0-1CE4-4DBE-B9A9-665C6FDBB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83B5-1EB9-483F-A571-E2AA9597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E70-8DF0-44D7-AF3D-86253240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DAFE-CECC-4C31-8D35-AE902501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6F0-0FD2-419A-B003-374C326A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B5EB-F8D3-4EED-BA29-EB81B592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40C-F64A-4C9B-BC70-898DBED4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83E-A852-4206-9058-D9152B4E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C19A-E6FE-4F38-9EC2-02A0E767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44D-F383-42DE-86EA-E63CBA08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9C38-39D0-4668-936C-590AED21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E22-A129-4144-A6F6-31EFB8AD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81FE-5C77-4B52-807B-BC246264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CDB-CEBB-470C-9FE9-4D9CA6AFA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C88-E06A-45AF-9F5D-CFE415A0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B08C-FA26-4875-9E37-D64C7018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22C-0A94-4F8E-9CEF-52DAFD39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ACB2-5B72-4A30-B519-46102689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5DA-AD42-4D96-B790-0F9C586D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D3EA-9F36-4F21-A135-8C107412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914F-F854-407A-B7C0-B474DF72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04720" y="1523880"/>
            <a:ext cx="8134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INCIDENC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WWI ENDED ON ARMISTICE DAY, 11/11/18, AND ARCHDUKE FERDINAND, WHOSE ASSASSINATION STARTED WWI, WAS RIDING IN A CAR WHOSE LICENSE PLATE WAS "AIII118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FRENCHMAN WON 4 DUELS IN THE 1800'S WITHOUT FIRING A SHOT, AS ALL 4 MEN SUDDENLY DIED    OF NATURAL CAU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440" y="762120"/>
            <a:ext cx="8763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ECOND AND THIRD PRESIDENTS OF THE U.S. DIED ON THE SAME DAY, JULY 4, 18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1360" y="762120"/>
            <a:ext cx="880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2014, THERE WERE 2 CRASHES INVOLVING MALAYSIAN AIR FLIGHTS, AND ONE MAN WAS SCHEDULED TO BE ON, AND CANCELLED, BOTH FLIGH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10-YEAR OLD GIRL WROTE HER NAME ON A BALLOON, WHICH TRAVELED 140 MILES AND LANDED IN THE YARD OF ANOTHER 10-YEAR-OLD GIRL WITH THE SAME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6920" y="762120"/>
            <a:ext cx="875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YING ABORIGINAL LANGUAGE IN AUSTRALIA HAS NO WORDS IN COMMON WITH ENGLISH, EXCEPT FOR THE WORD "DO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COUPLE SORTING THROUGH FAMILY PHOTOGRAPHS FOUND A PICTURE OF THEM BOTH PLAYING AT THE BEACH AS CHILDREN, DESPITE GROWING UP 300 MILES AP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1951, WHEN "DENNIS THE MENACE" BEGAN IN THE U.S., ANOTHER COMIC WITH THE SAME NAME WAS STARTED INDEPENDENTLY IN ENG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WAS PRESIDENT  IN AN EPISODE OF "THE SIMPSONS" AIRED IN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5120" y="762120"/>
            <a:ext cx="875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ECOND AND THIRD PRESIDENTS OF THE U.S. DIED ON THE SAME DAY, JULY 4, 18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5440" y="762120"/>
            <a:ext cx="849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MMEDIATELY AFTER FINISHING A LECTURE ON HOW DEATH CAN STRIKE ANYONE AT ANY TIME, A MAN CHOKED TO DEATH ON A M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4800" y="762120"/>
            <a:ext cx="7934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WWI ENDED ON ARMISTICE DAY, 11/11/18, AND ARCHDUKE FERDINAND, WHOSE ASSASSINATION STARTED WWI, WAS RIDING IN A CAR WHOSE LICENSE PLATE WAS "AIII118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33360" y="762120"/>
            <a:ext cx="8477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FRENCHMAN WON 4 DUELS IN THE 1800'S WITHOUT FIRING A SHOT, AS ALL 4 MEN SUDDENLY DIED    OF NATURAL CAU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1240" y="761760"/>
            <a:ext cx="892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2014, THERE WERE 2 CRASHES INVOLVING MALAYSIAN AIR FLIGHTS, AND ONE MAN WAS SCHEDULED TO BE ON, AND CANCELLED, BOTH FLIGH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5280" y="76212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10-YEAR OLD GIRL WROTE HER NAME ON A BALLOON, WHICH TRAVELED 140 MILES AND LANDED IN THE YARD OF ANOTHER 10-YEAR-OLD GIRL WITH THE SAME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YING ABORIGINAL LANGUAGE IN AUSTRALIA HAS NO WORDS IN COMMON WITH ENGLISH, EXCEPT FOR THE WORD "DO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COUPLE SORTING THROUGH FAMILY PHOTOGRAPHS FOUND A PICTURE OF THEM BOTH PLAYING AT THE BEACH AS CHILDREN, DESPITE GROWING UP 300 MILES AP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1951, WHEN "DENNIS THE MENACE" BEGAN IN THE U.S., ANOTHER COMIC WITH THE SAME NAME WAS STARTED INDEPENDENTLY IN ENGL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WAS PRESIDENT      IN AN EPISODE OF "THE SIMPSONS" AIRED IN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MMEDIATELY AFTER FINISHING A LECTURE ON HOW DEATH CAN STRIKE ANYONE AT ANY TIME, A MAN CHOKED TO DEATH ON A M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9:07:52Z</dcterms:modified>
  <cp:revision>358</cp:revision>
  <dc:subject/>
  <dc:title>Slide 1</dc:title>
</cp:coreProperties>
</file>