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112D-A46E-41A0-A849-B847DFE70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849A-25A2-4CC8-BF25-5041D720B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8996-D06E-4785-9FD9-BC5B14E63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A685-3776-4236-A93D-4A918EC26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7CF4-96F6-4A58-992A-1D83CE891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E84B-6E41-4804-9120-3B16A2806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C899-1861-40FA-ABDA-55F0BE37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5A5A-0204-4951-B71F-73DFC85B2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8A3B-91B0-4994-8583-DB774BDF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527B-65B6-487F-AC4E-89E4C92E7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B2FC-388E-4A19-87E6-7D1667B6A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DEF1-94A1-4D6C-BA09-B31564E5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0E66-DB8F-4F4C-8B48-ACEF14246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1932-AF5E-4C30-AFF4-AA46937FC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E5C0-4239-4BC8-80DE-10A38C3A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5D2B-A965-4F2B-B513-F07623E7A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8BE1-CB16-4532-B448-99268CAA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19B2-0652-497C-B316-50141B4B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771B-D3F3-4988-9A2E-8CF7C094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0B4F-D18A-46E5-9CE0-03535D19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E95D-FC5B-43AF-9B6A-FFB2B5F82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1725-6621-4B79-B42D-5080ABFF3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8A46-FBA1-4AC9-83A6-6D9F9DC93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JULY 4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7 STARS IN THE TOP ROW OF STARS ON THE CURRENT AMERICAN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87280" y="762120"/>
            <a:ext cx="8569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ONLY PERSON TO APPEAR ON AMERICAN CURRENCY AND SIGN BOTH THE DECLARATION OF INDEPENDENCE AND THE U.S. CONSTITUTION    WAS BENJAMIN FRANKL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267080"/>
            <a:ext cx="8439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DECLARED  JULY  2,  FINAL  WORDING  APPROVED  JULY 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MERICAN INDEPENDENCE WAS DECLARED ON JULY 4, 17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26708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JOHN  ADAMS,  THOMAS  JEFFERSON,  JAMES  MONRO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3 OF OUR FIRST 10 PRESIDENTS  DIED ON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704880" y="4800600"/>
            <a:ext cx="7734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S THE FILM "NATIONAL TREASURE" SUGGESTS, THERE IS SOMETHING WRITTEN ON THE BACK OF THE DECLARATION OF INDEPEND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92200" y="762120"/>
            <a:ext cx="79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D NOT BECOME A NATIONAL HOLIDAY UNTIL 18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412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E ONLY THINK BETSY ROSS MAD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RICAN FLAG BECAUSE HER GRANDSON STARTED THAT RUM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RE  ARE  26  COP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WERE 13 COPIES OF THE DECLARATION OF INDEPENDENCE MADE ON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7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AST WORDS OF THE DECLARATION OF INDEPENDENCE ARE "OUR SACRED HON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MERICAN INDEPENDENCE WAS DECLARED ON JULY 4, 17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4960" y="762120"/>
            <a:ext cx="8614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RESIDENT OF THE CONTINENTAL CONGRESS THAT DECLARED INDEPENDENCE WAS JOHN HANC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RE  ARE 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7 STARS IN THE TOP ROW OF STARS ON THE CURRENT AMERIC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3120" y="762120"/>
            <a:ext cx="853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ONLY PERSON TO APPEAR ON AMERICAN CURRENCY AND SIGN BOTH THE DECLARATION OF INDEPENDENCE AND THE U.S. CONSTITUTION    WAS BENJAMIN FRANKL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41400" y="761760"/>
            <a:ext cx="725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3 OF OUR FIRST 10 PRESIDENTS  DIED ON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4960" y="762120"/>
            <a:ext cx="8612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S THE FILM "NATIONAL TREASURE" SUGGESTS, THERE IS SOMETHING WRITTEN ON THE BACK OF THE DECLARATION OF INDEPEND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95440" y="762120"/>
            <a:ext cx="795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ID NOT BECOME A NATIONAL HOLIDAY UNTIL 18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E ONLY THINK BETSY ROSS MADE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RICAN FLAG BECAUSE HER GRANDSON STARTED THAT RUM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0080" y="761760"/>
            <a:ext cx="8943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WERE 13 COPIES OF THE DECLARATION OF INDEPENDENCE MADE ON JULY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7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AST WORDS OF THE DECLARATION OF INDEPENDENCE ARE "OUR SACRED HON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01600" y="761760"/>
            <a:ext cx="873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RESIDENT OF THE CONTINENTAL CONGRESS THAT DECLARED INDEPENDENCE WAS JOHN HANC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8:42Z</dcterms:modified>
  <cp:revision>375</cp:revision>
  <dc:subject/>
  <dc:title>Slide 1</dc:title>
</cp:coreProperties>
</file>