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12294-EB1F-4722-A44D-2B413EE5A5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B92DF-87A0-4E7F-A67D-65FA9EB28B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7122E-975B-45B2-931C-1904E4E5BC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7E772-0CB5-408B-9364-7814E9DD5B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4F10B-6FD2-493E-8FD2-402FD3348E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CB9AC-50C7-4493-BF5C-BAB2495D5F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AABA8-FBF0-4487-845F-D72D2F918B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CDF2C-BE5E-42EA-82BD-BFE817FD50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D0947-6106-4F8A-8424-CEBCCE22F4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1785E-0738-4914-995F-CEF2327228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52534-C261-4998-AA22-C58A26A55D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73D22-F4F6-44F8-80A9-7F672CE5D9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6C1AA-2C3A-4DF9-9865-0DCB4DCE9A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C8024-53FC-4F0E-A5EE-F58531D93D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166FC-6472-4DAE-BFB4-0515EA3FE9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9116A-B6EE-4C06-B6FD-E12AC64555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960B8-5212-4021-96DB-33484764C3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CE14D-5F68-42DA-9DFC-DFE4F5D3EF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CDE17-5BE1-4DBA-8D02-C86FF561EC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1C7D4-83D0-454D-A7BF-85EB66D361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C0D9A-40E4-4A42-BDEF-3FB11E1280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48B2E-0B3A-4202-9645-ED7287DA5A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33B8F-8A8E-4EAF-AD9F-B7C30A01D1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JULY 4</a:t>
            </a:r>
            <a:r>
              <a:rPr b="0" lang="en-US" sz="44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TRUE / FAL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THERE ARE 7 STARS IN THE TOP ROW OF STARS ON THE CURRENT AMERICAN FLA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287280" y="762120"/>
            <a:ext cx="85694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RUE OR FALSE?  THE ONLY PERSON TO APPEAR ON AMERICAN CURRENCY AND SIGN BOTH THE DECLARATION OF INDEPENDENCE AND THE U.S. CONSTITUTION    WAS BENJAMIN FRANKLI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352440" y="4267080"/>
            <a:ext cx="84391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LSE  (DECLARED  JULY  2,  FINAL  WORDING  APPROVED  JULY  4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28560" y="762120"/>
            <a:ext cx="78868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AMERICAN INDEPENDENCE WAS DECLARED ON JULY 4, 1776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267080"/>
            <a:ext cx="82296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  (JOHN  ADAMS,  THOMAS  JEFFERSON,  JAMES  MONRO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952560" y="762120"/>
            <a:ext cx="72388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3 OF OUR FIRST 10 PRESIDENTS  DIED ON JULY 4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704880" y="4800600"/>
            <a:ext cx="7734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266760" y="762120"/>
            <a:ext cx="86104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RUE OR FALSE?  AS THE FILM "NATIONAL TREASURE" SUGGESTS, THERE IS SOMETHING WRITTEN ON THE BACK OF THE DECLARATION OF INDEPENDENC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0060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592200" y="762120"/>
            <a:ext cx="7958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JULY 4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DID NOT BECOME A NATIONAL HOLIDAY UNTIL 187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57200" y="480060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384120" y="762120"/>
            <a:ext cx="83390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WE ONLY THINK BETSY ROSS MADE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MERICAN FLAG BECAUSE HER GRANDSON STARTED THAT RUM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006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LSE  (THERE  ARE  26  COPIE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12680" y="762120"/>
            <a:ext cx="89186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THERE WERE 13 COPIES OF THE DECLARATION OF INDEPENDENCE MADE ON JULY 4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1776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0060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438120" y="762120"/>
            <a:ext cx="82677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THE LAST WORDS OF THE DECLARATION OF INDEPENDENCE ARE "OUR SACRED HONO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662040" y="762120"/>
            <a:ext cx="7819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AMERICAN INDEPENDENCE WAS DECLARED ON JULY 4, 1776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0060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264960" y="762120"/>
            <a:ext cx="86140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THE PRESIDENT OF THE CONTINENTAL CONGRESS THAT DECLARED INDEPENDENCE WAS JOHN HANCOC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0060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LSE  (THERE  ARE  6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571680" y="762120"/>
            <a:ext cx="80010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THERE ARE 7 STARS IN THE TOP ROW OF STARS ON THE CURRENT AMERICAN FLA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006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303120" y="762120"/>
            <a:ext cx="85377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RUE OR FALSE?  THE ONLY PERSON TO APPEAR ON AMERICAN CURRENCY AND SIGN BOTH THE DECLARATION OF INDEPENDENCE AND THE U.S. CONSTITUTION    WAS BENJAMIN FRANKLI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941400" y="761760"/>
            <a:ext cx="72597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3 OF OUR FIRST 10 PRESIDENTS  DIED ON JULY 4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264960" y="762120"/>
            <a:ext cx="8612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RUE OR FALSE?  AS THE FILM "NATIONAL TREASURE" SUGGESTS, THERE IS SOMETHING WRITTEN ON THE BACK OF THE DECLARATION OF INDEPENDENC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595440" y="762120"/>
            <a:ext cx="79516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JULY 4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DID NOT BECOME A NATIONAL HOLIDAY UNTIL 1870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371520" y="761760"/>
            <a:ext cx="84009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WE ONLY THINK BETSY ROSS MADE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MERICAN FLAG BECAUSE HER GRANDSON STARTED THAT RUM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00080" y="761760"/>
            <a:ext cx="89438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THERE WERE 13 COPIES OF THE DECLARATION OF INDEPENDENCE MADE ON JULY 4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1776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30200" y="761760"/>
            <a:ext cx="82821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THE LAST WORDS OF THE DECLARATION OF INDEPENDENCE ARE "OUR SACRED HONO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201600" y="761760"/>
            <a:ext cx="87393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THE PRESIDENT OF THE CONTINENTAL CONGRESS THAT DECLARED INDEPENDENCE WAS JOHN HANCOCK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8T13:15:19Z</dcterms:created>
  <dc:creator>Jennifer Budzinski</dc:creator>
  <dc:description/>
  <dc:language>en-US</dc:language>
  <cp:lastModifiedBy>Erich Friedman</cp:lastModifiedBy>
  <dcterms:modified xsi:type="dcterms:W3CDTF">2020-08-26T19:08:42Z</dcterms:modified>
  <cp:revision>375</cp:revision>
  <dc:subject/>
  <dc:title>Slide 1</dc:title>
</cp:coreProperties>
</file>