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C380-6B2B-46E8-9E6A-AD7FC5E1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8596-EE0A-472A-B3E3-343754868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F16F-2491-4BDA-91DC-F30157FD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CE91-EED6-4773-ABBB-FCF2B5085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F7B2-8882-4992-A9EA-AB353E51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A01-1E5F-4A42-8794-9CFA9F01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4A32-135C-4035-B8C9-E93D08C2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9807-0E59-4F01-BCB9-2F0669206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3A7C-A6DE-4AAD-97E5-25367DDF4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EE33-5661-4FE6-A739-611C38D07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16C-64C5-43C9-86C0-565CA22DD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17F1-202A-4077-9095-315604026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F728-4DF0-4D09-BB44-52B20102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C180-C752-4A0E-B037-E2C0541A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5C34-7EDC-4C4B-A926-F5013F38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92A3-0B5A-4F96-AE33-95550FB62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B087-230D-4EB9-AF2D-14E947730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7ED2-B579-44F2-8A95-82039C01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2D8A-6D22-477A-A8E6-2737B8431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7344-9C43-4921-87D4-BF42A0C1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7F97-8754-424C-9F46-420D06ADB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D401-9E29-416A-A76A-DA2E49A7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40D2-486D-414B-B7D7-B56968BD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RIDA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THE HIGHEST RATE OF IDENTIFY THEF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57280" y="762120"/>
            <a:ext cx="80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AL SEX IS STILL ILLEGAL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EX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00240" y="762120"/>
            <a:ext cx="6743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WAS HOME TO THE FIRST SUSPENSION BRIDG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U.S. CITY WITH THE HIGHEST AVERAGE TEMPERATURE IS KEY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2320" y="755640"/>
            <a:ext cx="72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AMI INSTALLED THE FIRST BANK ATM ESPECIALLY FOR ROLLERBL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6396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WITHLACOOCHE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33560" y="762120"/>
            <a:ext cx="707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IS THE ONLY STATE THAT HAS 2 RIVERS WITH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ATORADE WAS NAMED FOR THE GATORS OF THE UNIVERSITY OF FLORIDA, WHERE THE DRINK WAS FIRST DEVELO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CALIFORN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MORE SWIMMING POOLS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19.5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20% OF FLORIDIANS ARE AGE 65 YEARS OR OL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35080" y="762120"/>
            <a:ext cx="68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WAS HOME TO THE FIRST SUSPENSION BRIDG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RANKED FLORIDA AS THE #1 STATE FOR HIGHER EDUCATION FOR 3 YEAR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MICHIG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THE HIGHEST RATE OF IDENTIFY THEF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RAL SEX IS STILL ILLEGAL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U.S. CITY WITH THE HIGHEST AVERAGE TEMPERATURE IS KEY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2320" y="762120"/>
            <a:ext cx="72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AMI INSTALLED THE FIRST BANK ATM, ESPECIALLY FOR ROLLERBL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42920" y="762120"/>
            <a:ext cx="7058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IS THE ONLY STATE THAT HAS 2 RIVERS WITH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ATORADE WAS NAMED FOR THE GATORS OF THE UNIVERSITY OF FLORIDA, WHERE THE DRINK WAS FIRST DEVELO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9760" y="761760"/>
            <a:ext cx="812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LORIDA HAS MORE SWIMMING POOLS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20% OF FLORIDIANS ARE AGE 65 YEARS OR OL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8840" y="761760"/>
            <a:ext cx="8626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USA NEWS AND WORLD REPOR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AS RANKED FLORIDA AS THE #1 STATE FOR HIGHER EDUCATION FOR 3 YEAR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6:01:35Z</dcterms:modified>
  <cp:revision>368</cp:revision>
  <dc:subject/>
  <dc:title>Slide 1</dc:title>
</cp:coreProperties>
</file>