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C368-C38D-4178-A08F-C8A6A325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DD7-3673-4273-B824-C7508DC6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455-7BE0-45F1-BA0A-93629E09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15F4-52C1-46A3-9189-7C13EB320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2C4D-0BAE-4C0B-827A-BDC0D2DC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9E28-10D0-422D-A0FF-94AF7279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364-A1E4-479E-9444-E28348B9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342E-F27B-4AFE-8BE2-298BCCAA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D77-807E-42D1-9F48-31F004C7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B26-E096-47AD-A4C7-B78C838A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7F27-286E-4C8F-9428-B68E5B2BF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09A9-47D3-4719-B228-FC83F770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7E8-741A-4EAC-980C-DC576F21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C593-A1BD-4852-A20A-6EC36081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2C50-AFF2-489D-A702-0EC78A79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77B-0475-44B7-80BD-44D3BB3F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B03-46C7-487E-B5DF-F9ED00E41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871A-F078-479E-9F56-AD85A90D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1D3-2BAF-452B-8710-A6DEB3E0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CC91-30CF-4624-8C4E-9E0A2E82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6028-9D12-4743-A94B-C79ADE5C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D8AC-D7B6-4973-AA0C-8195981B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1647-4B62-4D2D-A3E3-A6A923BD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RIDA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THE HIGHEST RATE OF IDENTIFY THEF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57280" y="762120"/>
            <a:ext cx="802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AL SEX IS STILL ILLEGAL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EX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00240" y="762120"/>
            <a:ext cx="6743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WAS HOME TO THE FIRST SUSPENSION BRIDG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2240" y="762120"/>
            <a:ext cx="8758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U.S. CITY WITH THE HIGHEST AVERAGE TEMPERATURE IS KEY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2320" y="755640"/>
            <a:ext cx="72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AMI INSTALLED THE FIRST BANK ATM ESPECIALLY FOR ROLLERBL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6396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WITHLACOOCHE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33560" y="762120"/>
            <a:ext cx="707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IS THE ONLY STATE THAT HAS 2 RIVERS WITH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ATORADE WAS NAMED FOR THE GATORS OF THE UNIVERSITY OF FLORIDA, WHERE THE DRINK WAS FIRST DEVELO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CALIFORN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MORE SWIMMING POOLS THAN ANY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19.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20% OF FLORIDIANS ARE AGE 65 YEARS OR OL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35080" y="762120"/>
            <a:ext cx="68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WAS HOME TO THE FIRST SUSPENSION BRIDG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RANKED FLORIDA AS THE #1 STATE FOR HIGHER EDUCATION FOR 3 YEARS IN A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MICHIG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THE HIGHEST RATE OF IDENTIFY THEF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AL SEX IS STILL ILLEGAL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U.S. CITY WITH THE HIGHEST AVERAGE TEMPERATURE IS KEY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22320" y="762120"/>
            <a:ext cx="72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AMI INSTALLED THE FIRST BANK ATM, ESPECIALLY FOR ROLLERBL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2920" y="762120"/>
            <a:ext cx="70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IS THE ONLY STATE THAT HAS 2 RIVERS WITH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ATORADE WAS NAMED FOR THE GATORS OF THE UNIVERSITY OF FLORIDA, WHERE THE DRINK WAS FIRST DEVELO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9760" y="761760"/>
            <a:ext cx="812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MORE SWIMMING POOLS THAN ANY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20% OF FLORIDIANS ARE AGE 65 YEARS OR OL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8840" y="761760"/>
            <a:ext cx="862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RANKED FLORIDA AS THE #1 STATE FOR HIGHER EDUCATION FOR 3 YEARS IN A 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21T16:01:35Z</dcterms:modified>
  <cp:revision>368</cp:revision>
  <dc:subject/>
  <dc:title>Slide 1</dc:title>
</cp:coreProperties>
</file>