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2D3E-13DB-4109-ADCE-63021E812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85D7-CFF9-4AD3-8F1E-B45B0AB1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134A-D14A-4F9B-86ED-69A7C9FF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5F69-97AE-42C0-91F8-03E609AD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4389E-D163-4D70-A50C-22023D48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6B9-C747-44D4-915F-D261DB81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E505-9B3B-47D0-A74C-9C92DD964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A677-5E00-4DA6-9DF9-9E08852A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4A82-9E34-4DBB-AEE7-E80633AC5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C7F93-374B-4447-A232-0A15EEBE2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B7E-755B-45FC-A1A8-683CBAD1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F3FB-E36D-4E8A-8E21-11A22207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60EB-5AE3-4498-B5B8-EA18F7278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D627-FD59-4485-8DCE-DD4280B1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3CE6-3EF8-4DDD-9FF5-5B2E2CCE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3247-6D69-474E-8F2E-71517F47C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EC530-C153-45AA-92E0-F7897C072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7ECCE-2691-4635-94B0-BB4F4BF96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8A89-07BE-41F6-BAF8-11D01B949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568D-2112-4FE2-920A-AD2B0EBD2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8C4E2-109D-494B-AB77-01223F86D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609B-4FEF-479B-9B57-78B5C5065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ADF7-7290-4AD3-8F94-C98C74028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ND NAME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360" y="761760"/>
            <a:ext cx="8315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HE POLICE WAS CHOSEN BECAUSE OF THE CIA CAREER OF THE FATHER OF THE GUITARIST, ANDY SUMM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03280" y="762120"/>
            <a:ext cx="813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OTO WAS CHOSEN BECAUSE IT WAS THE NAME OF DAVID PAICH'S CHILDHOOD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80060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YNYRD SKYNYRD IS NAMED AFTER LEONARD SKINNER, A GYM TEACHER WHO MADE FUN OF THE MEMBERS' LONG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00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96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MEAT LOAF WAS CHOSEN BECAUSE THAT WAS THE FREE MEAL THAT ACCOMPANIED ONE OF HIS FIRST PAID GIG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IDEA FOR THE NAME MÖTLEY CRÜE CAME FROM SOMEONE REFERRING TO THE BAND AS "A MOTLEY LOOKING CR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80060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92200" y="762120"/>
            <a:ext cx="7958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INK FLOYD IS NAMED FOR 2 BLUESMEN: PINK ANDERSON AND FLOYD COUNC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82640" y="762120"/>
            <a:ext cx="7577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ROCOL HARUM WAS THE NAME OF A CAT OWNED BY SOME FRIENDS OF THE B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4800" y="762120"/>
            <a:ext cx="7934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EO SPEEDWAGON WAS NAMED FOR AN ACTUAL VEHI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006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BAND WAS RENAMED RUSH AFTER THEY WERE LATE FOR A PERFORM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LYNYRD SKYNYRD IS NAMED AFTER LEONARD SKINNER, A GYM TEACHER WHO MADE FUN OF THE MEMBERS' LONG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95320" y="771480"/>
            <a:ext cx="73533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ELY DAN IS NAMED FOR A STEAM-POWERED SEX TOY FROM A WILLIAM S. BURROUGHS NOV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0060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HE POLICE WAS CHOSEN BECAUSE OF THE CIA CAREER OF THE FATHER OF THE GUITARIST, ANDY SUMM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25600" y="762120"/>
            <a:ext cx="8092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TOTO WAS CHOSEN BECAUSE IT WAS THE NAME OF DAVID PAICH'S CHILDHOOD DO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41280" y="761760"/>
            <a:ext cx="8461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NAME MEAT LOAF WAS CHOSEN BECAUSE THAT WAS THE FREE MEAL THAT ACCOMPANIED ONE OF HIS FIRST PAID GIG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55760" y="762120"/>
            <a:ext cx="8232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IDEA FOR THE NAME MÖTLEY CRÜE CAME FROM SOMEONE REFERRING TO THE BAND AS "A MOTLEY LOOKING CRE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6520" y="762120"/>
            <a:ext cx="8130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INK FLOYD IS NAMED FOR 2 BLUESMEN: PINK ANDERSON AND FLOYD COUNC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PROCOL HARUM WAS NAME OF A CAT OWNED BY SOME FRIENDS OF THE B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55560" y="761760"/>
            <a:ext cx="783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EO SPEEDWAGON WAS NAMED FOR AN ACTUAL VEHI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61840" y="761760"/>
            <a:ext cx="7420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BAND WAS RENAMED RUSH AFTER THEY WERE LATE FOR A PERFORM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58680" y="761760"/>
            <a:ext cx="7226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STEELY DAN IS NAMED FOR A STEAM-POWERED SEX TOY FROM A WILLIAM S. BURROUGHS NOV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13:15:19Z</dcterms:created>
  <dc:creator>Jennifer Budzinski</dc:creator>
  <dc:description/>
  <dc:language>en-US</dc:language>
  <cp:lastModifiedBy>Erich Friedman</cp:lastModifiedBy>
  <dcterms:modified xsi:type="dcterms:W3CDTF">2021-09-21T10:46:07Z</dcterms:modified>
  <cp:revision>370</cp:revision>
  <dc:subject/>
  <dc:title>Slide 1</dc:title>
</cp:coreProperties>
</file>