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E902-C77C-427A-A6D0-97136433C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8732-CB9F-4D0C-957A-CE6FD48D6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02FC-5C66-4515-922D-0852F15B6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561E-2746-4618-9B63-661048F65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14D0-0BCC-4391-B64D-AAD2FA071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A5B5-5749-4EBE-9577-A391691BF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3678-F615-4235-887A-DAF386F5E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80E7-F765-4A38-AA2E-080C15AAE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4CFA-51F8-484A-9FE9-DED55A04F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8500-88BA-42D8-A463-26A587147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5C52-95F8-401E-B023-E53417CD5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BA7B-0B7E-4F9C-8893-F51C3C601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6A60-6D66-45CC-9E41-7A838398A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AA75-22A1-419D-8359-0FAC66EAC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00E8-ADF0-4B88-9A0B-F9744A464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042E-3757-4B4D-B1FA-96C2DEF06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8564-BB2C-449B-9D05-48611DDFD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D1FA-4B9E-468E-BF44-BE31FE340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BD9B-A1DB-4B6F-87B2-6C675E1A2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6FF1-A95E-4240-BEA3-513EC5D6E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F6A3-E131-45EE-B940-11DC8C417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622C-376C-4170-8DDC-0DA2BB1A9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D1E0-AD4D-49D9-84D0-B8D3C5B34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ND NAME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THE POLICE WAS CHOSEN BECAUSE OF THE CIA CAREER OF THE FATHER OF THE GUITARIST, ANDY SUMM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03280" y="762120"/>
            <a:ext cx="8137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TOTO WAS CHOSEN BECAUSE IT WAS THE NAME OF DAVID PAICH'S CHILDHOOD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0060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LYNYRD SKYNYRD IS NAMED AFTER LEONARD SKINNER, A GYM TEACHER WHO MADE FUN OF THE MEMBERS' LONG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96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MEAT LOAF WAS CHOSEN BECAUSE THAT WAS THE FREE MEAL THAT ACCOMPANIED ONE OF HIS FIRST PAID GI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IDEA FOR THE NAME MÖTLEY CRÜE CAME FROM SOMEONE REFERRING TO THE BAND AS "A MOTLEY LOOKING CRE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92200" y="762120"/>
            <a:ext cx="795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PINK FLOYD IS NAMED FOR 2 BLUESMEN: PINK ANDERSON AND FLOYD COUNC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82640" y="762120"/>
            <a:ext cx="757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PROCOL HARUM WAS THE NAME OF A CAT OWNED BY SOME FRIENDS OF THE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4800" y="762120"/>
            <a:ext cx="793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EO SPEEDWAGON WAS NAMED FOR AN ACTUAL VEHI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BAND WAS RENAMED RUSH AFTER THEY WERE LATE FOR A PERFORM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LYNYRD SKYNYRD IS NAMED AFTER LEONARD SKINNER, A GYM TEACHER WHO MADE FUN OF THE MEMBERS' LONG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95320" y="771480"/>
            <a:ext cx="735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TEELY DAN IS NAMED FOR A STEAM-POWERED SEX TOY FROM A WILLIAM S. BURROUGHS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80880" y="76212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THE POLICE WAS CHOSEN BECAUSE OF THE CIA CAREER OF THE FATHER OF THE GUITARIST, ANDY SUMM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25600" y="762120"/>
            <a:ext cx="8092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TOTO WAS CHOSEN BECAUSE IT WAS THE NAME OF DAVID PAICH'S CHILDHOOD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1280" y="761760"/>
            <a:ext cx="8461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MEAT LOAF WAS CHOSEN BECAUSE THAT WAS THE FREE MEAL THAT ACCOMPANIED ONE OF HIS FIRST PAID GI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55760" y="762120"/>
            <a:ext cx="823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IDEA FOR THE NAME MÖTLEY CRÜE CAME FROM SOMEONE REFERRING TO THE BAND AS "A MOTLEY LOOKING CRE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6520" y="762120"/>
            <a:ext cx="813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PINK FLOYD IS NAMED FOR 2 BLUESMEN: PINK ANDERSON AND FLOYD COUNC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PROCOL HARUM WAS NAME OF A CAT OWNED BY SOME FRIENDS OF THE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55560" y="761760"/>
            <a:ext cx="783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EO SPEEDWAGON WAS NAMED FOR AN ACTUAL VEHI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61840" y="761760"/>
            <a:ext cx="7420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BAND WAS RENAMED RUSH AFTER THEY WERE LATE FOR A PERFORM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58680" y="761760"/>
            <a:ext cx="7226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TEELY DAN IS NAMED FOR A STEAM-POWERED SEX TOY FROM A WILLIAM S. BURROUGHS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1-09-21T10:46:07Z</dcterms:modified>
  <cp:revision>370</cp:revision>
  <dc:subject/>
  <dc:title>Slide 1</dc:title>
</cp:coreProperties>
</file>