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1B35-5AB2-4932-8531-D0916D2F6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33BE-10E4-48D8-9B73-B25B9E827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E3EF-C1BC-4CC7-8F4A-AE05F4750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44E9-B061-43B0-B20E-563EF0B47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CF68-D5ED-411F-8ABD-29FD805EE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D65E-15DD-41FA-A04E-B2D9EBA23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AF49-5B4B-4BFB-9D24-1C86EB156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581D-80D6-4C07-8BFF-C052DAB07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CAB1-6618-4DB4-9A7D-FA6BF82E1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8B5D-BF27-4CB6-9D7D-CDACBE593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3EF8-3147-47F2-9F04-F0252CE50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3D61-FE95-4094-B324-A6BF9AE5A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BB79-8073-4711-963E-CDFC2F6C7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BFD3-3965-412E-A79B-431FD3C8B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5858-F197-4359-BEAC-B84DE8FF4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63CC-E413-4A07-AE1C-523D56BBD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3E37-6E23-4542-9204-478075E86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67DD-C2BC-4342-A6D2-1663183FA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899F-CE49-41AE-A9DF-B551452B3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0B92-C6B4-4E92-A955-0CCCCFF00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5F38-B51A-475E-A82D-2B1F66E2F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A2D3-E1C6-45FF-BC0E-961CA1320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E35B-4E4C-407A-A3C4-67640E88C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09640" y="761760"/>
            <a:ext cx="7524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LUETOOTH TECHNOLOGY WAS NAMED AFTER A NORWEGIAN PIR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73280" y="762120"/>
            <a:ext cx="7596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      BEFORE THE DANGERS OF RADIATION WERE KNOWN, SHOE SHOPS USED X-RAYS TO MEASURE SHOE SIZ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42840" y="762120"/>
            <a:ext cx="7258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CANADA MINTED A LEGAL COIN PICTURING SUPER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92240" y="762120"/>
            <a:ext cx="8758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TELEVISION WAS INVENTED BEFORE COMMERCIALLY AVAILABLE SLICED BR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95280" y="762120"/>
            <a:ext cx="835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JAPANESE CUBICAL WATERMELONS ARE ORNAMENTAL AND INEDI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880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316160" y="762120"/>
            <a:ext cx="65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COLLARS ON MEN'S DRESS SHIRTS USED TO BE DETACH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MAN WHO FOUND THE OLDEST KNOWN EUROPEAN MUMMY IN ICE IN 1991 WAS HIMSELF FOUND DEAD FROZEN IN ICE IN 200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42960" y="762120"/>
            <a:ext cx="7858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EXPEDIA, HOTELS.COM, HOTWIRE, TRIVAGO, TRAVELOCITY,  AND ORBITZ ARE ALL OWNED BY THE SAME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20640" y="762120"/>
            <a:ext cx="7900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MISSING WOMAN IN ICELAND WAS FOUND IN A SEARCH PARTY SEARCHING FOR HERSE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85320" y="762120"/>
            <a:ext cx="7170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CANADA MINTED A LEGAL COIN PICTURING SUP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UNSETS ON MARS ARE GR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66720" y="762120"/>
            <a:ext cx="7810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LUETOOTH TECHNOLOGY WAS NAMED AFTER A NORWEGIAN PI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7304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      BEFORE THE DANGERS OF RADIATION WERE KNOWN, SHOE SHOPS USED X-RAYS TO MEASURE SHOE SIZ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TELEVISION WAS INVENTED BEFORE COMMERCIALLY AVAILABLE SLICED BR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18960" y="762120"/>
            <a:ext cx="850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JAPANESE CUBICAL WATERMELONS ARE ORNAMENTAL AND INEDI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322280" y="762120"/>
            <a:ext cx="6499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COLLARS ON MEN'S DRESS SHIRTS USED TO BE DETACHA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95200" y="761760"/>
            <a:ext cx="855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MAN WHO FOUND THE OLDEST KNOWN EUROPEAN MUMMY IN ICE IN 1991 WAS HIMSELF FOUND DEAD FROZEN IN ICE IN 200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8320" y="761760"/>
            <a:ext cx="7947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EXPEDIA, HOTELS.COM, HOTWIRE, TRIVAGO, TRAVELOCITY, AND ORBITZ ARE ALL OWNED BY THE SAME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4800" y="761760"/>
            <a:ext cx="7934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MISSING WOMAN IN ICELAND WAS FOUND IN A SEARCH PARTY SEARCHING FOR HERSEL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67800" y="761760"/>
            <a:ext cx="780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UNSETS ON MARS ARE GRE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7-12T12:50:29Z</dcterms:modified>
  <cp:revision>369</cp:revision>
  <dc:subject/>
  <dc:title>Slide 1</dc:title>
</cp:coreProperties>
</file>