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D37B-1894-4E8B-85EC-6153BE67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307C-10A9-40EC-BBFE-4E73B2956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C645-B6C7-472B-BBC3-BA66B2BF0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8D9E-900C-452F-BE8F-AE3CFFD35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EAE1-1CF7-440D-8AF2-70FE1C8D6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DCC8-7013-474B-B6C3-DA774747B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8277A-F203-4A34-9093-38C5BA9FC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AE5-3CF8-4771-AE95-E14F569EA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147B-7A24-4A2E-870B-413AE83AF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4840-B745-4689-AEB6-433F00D5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9622-5029-44CA-B722-9E1165D98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4C3D-A2BE-4E17-9FFA-D08D621E5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787A-AC86-4231-87D9-D93AF20A6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D7F8-6B2A-480D-8673-CECBF0B4F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FE8E-740C-402C-8C17-3D1DBC81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FBB5-64CC-471A-8F15-09257E70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C612-37CD-411B-A698-AAA08EA0E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148D-6840-46FE-818C-80DCABF4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0683-CFDC-4F7F-AC2D-55E1185FB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F111-191E-4D87-94F7-CF36F7CF3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C602F-F0D3-493B-9ADA-8F486B1C6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F261-ACC1-4E00-854B-C8A30B364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ABAA9-4E53-46FC-A886-C5255794E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809640" y="761760"/>
            <a:ext cx="752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LUETOOTH TECHNOLOGY WAS NAMED AFTER A NORWEGIAN PI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73280" y="762120"/>
            <a:ext cx="759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BEFORE THE DANGERS OF RADIATION WERE KNOWN, SHOE SHOPS USED X-RAYS TO MEASURE SHOE SI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NADA MINTED A LEGAL COIN PICTURING SUPER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LEVISION WAS INVENTED BEFORE COMMERCIALLY AVAILABLE SLICED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5280" y="762120"/>
            <a:ext cx="8352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PANESE CUBICAL WATERMELONS ARE ORNAMENTAL AND INED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88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316160" y="762120"/>
            <a:ext cx="65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OLLARS ON MEN'S DRESS SHIRTS USED TO BE DETACH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920" y="76212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AN WHO FOUND THE OLDEST KNOWN EUROPEAN MUMMY IN ICE IN 1991 WAS HIMSELF FOUND DEAD FROZEN IN ICE IN 200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42960" y="762120"/>
            <a:ext cx="7858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XPEDIA, HOTELS.COM, HOTWIRE, TRIVAGO, TRAVELOCITY,  AND ORBITZ ARE ALL OWNED BY THE SAME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20640" y="762120"/>
            <a:ext cx="7900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ISSING WOMAN IN ICELAND WAS FOUND IN A SEARCH PARTY SEARCHING FOR HER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85320" y="762120"/>
            <a:ext cx="7170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ANADA MINTED A LEGAL COIN PICTURING SUPER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UNSETS ON MARS ARE GRE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BLUETOOTH TECHNOLOGY WAS NAMED AFTER A NORWEGIAN PI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730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      BEFORE THE DANGERS OF RADIATION WERE KNOWN, SHOE SHOPS USED X-RAYS TO MEASURE SHOE SIZ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TELEVISION WAS INVENTED BEFORE COMMERCIALLY AVAILABLE SLICED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18960" y="762120"/>
            <a:ext cx="850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JAPANESE CUBICAL WATERMELONS ARE ORNAMENTAL AND INED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322280" y="762120"/>
            <a:ext cx="64994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COLLARS ON MEN'S DRESS SHIRTS USED TO BE DETACHAB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95200" y="761760"/>
            <a:ext cx="8553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MAN WHO FOUND THE OLDEST KNOWN EUROPEAN MUMMY IN ICE IN 1991 WAS HIMSELF FOUND DEAD FROZEN IN ICE IN 200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8320" y="761760"/>
            <a:ext cx="7947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EXPEDIA, HOTELS.COM, HOTWIRE, TRIVAGO, TRAVELOCITY, AND ORBITZ ARE ALL OWNED BY THE SAME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04800" y="761760"/>
            <a:ext cx="7934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A MISSING WOMAN IN ICELAND WAS FOUND IN A SEARCH PARTY SEARCHING FOR HER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67800" y="761760"/>
            <a:ext cx="7805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UNSETS ON MARS ARE GRE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1-07-12T12:50:29Z</dcterms:modified>
  <cp:revision>369</cp:revision>
  <dc:subject/>
  <dc:title>Slide 1</dc:title>
</cp:coreProperties>
</file>