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42D2-FBAC-4E23-94B8-BB0F3366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D44B-8F5B-48E2-9F20-00E585CBB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7556-A573-437B-A35F-EEC8A950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CA05-A288-45BB-A7AB-66BCA60A5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2577-09E6-4099-A45D-AED0CD352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4479-C3A4-4C05-BDEC-EEE742D8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567D-E13B-46F6-A6CA-442573A84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EF22-8914-4AD1-A589-F9A709E2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C922-9985-49C2-941C-575A70FDF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3473-3A07-4963-A4CD-18EC6C28A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A18F-F959-4823-8FAF-EF420387D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C224-3E12-4BD1-9606-FD10E507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8D2D-23A0-40AF-B892-A29650F1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42A8-6B15-4805-82FD-7E335073D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4AFD-4EC0-4F47-8C63-CCD7BE490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F0A5-DD39-4A6D-B57F-7239D21D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E005-B6F5-45B6-AB39-394078C87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408D-C885-4011-ADD5-E91839B3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7F4A-4C3D-43E2-A421-C8D7A41F7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822F-008F-4FA4-BCE9-FF6ECD77A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B9DB-3763-4E2F-97A7-FF8DCD99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1983-A39D-4E2F-AEC5-B3038B1B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0637-85A4-47D6-A32F-83FB2D99C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DA6C-BD60-4D7A-960B-F40650539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OHN TRAVOLTA WORE ONLY CLOTHES HE OWNED WHILE FILMING "PULP FIC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98640" y="761760"/>
            <a:ext cx="714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ITLE OF EVERY EPISODE OF "FRIENDS" BEGINS WITH "THE ONE WITH..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CHAEL KEATON'S REAL NAME IS MICHAEL DOUG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43040" y="762120"/>
            <a:ext cx="765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THE CELSIUS SCALE WAS FIRST PROPOSED, 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BOILED AND 1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FRO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98520" y="762120"/>
            <a:ext cx="834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BOOTLEG" COMES FROM THE TALL BOOTS WORN BY ILLEGAL DISTILLERS, CONVENIENT FOR HIDING BOT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NTERN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"i" IN NAMES OF APPLE PRODUCTS (SUCH AS iPAD AND iPHONE) STANDS FOR "INGENU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6800" y="762120"/>
            <a:ext cx="761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EWBORNS HAVE OVER 300 BONES, WHICH GRADUALLY FUSE TOGETHER TO GIVE THE 206 ADULT B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03120" y="762120"/>
            <a:ext cx="853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NORTH AND SOUTH DAKOTA ARE THE 3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TES, NO ONE KNOWS WHICH STATEHOOD DOCUMENT PRESIDENT HARRISON SIGNED FIRST THAT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17680" y="762120"/>
            <a:ext cx="8151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HEATH LEDGER LOCKED HIMSELF IN A HOTEL ROOM FOR A MONTH TO GET IN CHARACTER FOR PLAYING THE J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MA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322280" y="762120"/>
            <a:ext cx="6497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LOSEST U.S. STATE TO AFRICA IS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71400" y="762120"/>
            <a:ext cx="779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OHN TRAVOLTA WORE ONLY CLOTHES HE OWNED WHILE FILMING "PULP FIC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800280" y="4952880"/>
            <a:ext cx="7543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MANY  DO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47880" y="762120"/>
            <a:ext cx="724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ITLE OF EVERY EPISODE OF "FRIENDS" BEGINS WITH "THE ONE WITH..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33520" y="48769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CHAEL KEATON'S REAL NAME IS MICHAEL DOUG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6960" y="762120"/>
            <a:ext cx="7748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EN THE CELSIUS SCALE WAS FIRST PROPOSED, 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BOILED AND 1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AS WHEN WATER FRO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85480" y="761760"/>
            <a:ext cx="8553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BOOTLEG" COMES FROM THE TALL BOOTS WORN BY ILLEGAL DISTILLERS, CONVENIENT FOR HIDING BOT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3796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"i" IN NAMES OF APPLE PRODUCTS (SUCH AS iPAD AND iPHONE) STANDS FOR "INGENU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NEWBORNS HAVE OVER 300 BONES, WHICH GRADUALLY FUSE TOGETHER TO GIVE THE 206 ADULT B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1680" y="761760"/>
            <a:ext cx="854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LE NORTH AND SOUTH DAKOTA ARE THE 39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TATES, NO ONE KNOWS WHICH STATEHOOD DOCUMENT PRESIDENT HARRISON SIGNED FIRST THAT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HEATH LEDGER LOCKED HIMSELF IN A HOTEL ROOM FOR A MONTH TO GET IN CHARACTER FOR PLAYING THE J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05000" y="761760"/>
            <a:ext cx="653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LOSEST U.S. STATE TO AFRICA IS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33:28Z</dcterms:modified>
  <cp:revision>469</cp:revision>
  <dc:subject/>
  <dc:title>Slide 1</dc:title>
</cp:coreProperties>
</file>