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B955-B02C-4DC8-B253-2A34A693F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326F-722E-4552-9A9E-4B10E408A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2537-ABBE-4547-AC85-0A95D1FFD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6433-3A86-415E-BA2A-8E1A46D71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E197-4B8F-4815-9964-E8EB9ECB5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EB66-2350-4F93-B511-AC5EE1402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86F1-AC1D-4D1D-867D-2F17832CB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8F6E-A9A9-4C9D-A1C2-DAF6E5BFE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F02F-410F-4199-AE46-6633EE36C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8410-3FAD-4E74-9DCC-DB7080AE4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C420-4A05-4C6B-A802-8D254F627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EFC4-B3F6-4BE3-A6D0-65F144DC4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C156-4113-41FB-94FA-093A4BD42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F9D3-D943-4E39-B162-CDDAD1887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7484-0E44-4DC4-BB04-261B8328F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DE72-B073-48C3-8D00-9DE99E3E3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575E-E0F2-4C16-A447-3EEF4F97B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D322-CEAF-4BCF-9596-2AFF1D298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8D1C-1123-433B-80B9-CC96F15E2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5F23-8C72-4A12-831C-7BBF8D726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924B-78E5-4DF4-BAFB-1B7BF9DE8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234C-EE04-4BE7-BEDD-677B3CADD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336B-42C9-4F0F-A716-EC20D2F74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80E6-DEAF-415C-B7A6-C4F74D9EA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16040" y="762120"/>
            <a:ext cx="77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JOHN TRAVOLTA WORE ONLY CLOTHES HE OWNED WHILE FILMING "PULP FIC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98640" y="761760"/>
            <a:ext cx="7145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ITLE OF EVERY EPISODE OF "FRIENDS" BEGINS WITH "THE ONE WITH..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ICHAEL KEATON'S REAL NAME IS MICHAEL DOUG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43040" y="762120"/>
            <a:ext cx="7657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HEN THE CELSIUS SCALE WAS FIRST PROPOSED, 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AS WHEN WATER BOILED AND 1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AS WHEN WATER FRO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98520" y="762120"/>
            <a:ext cx="834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WORD "BOOTLEG" COMES FROM THE TALL BOOTS WORN BY ILLEGAL DISTILLERS, CONVENIENT FOR HIDING BOT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INTERN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62080" y="762120"/>
            <a:ext cx="865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"i" IN NAMES OF APPLE PRODUCTS (SUCH AS iPAD AND iPHONE) STANDS FOR "INGENU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66800" y="762120"/>
            <a:ext cx="761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NEWBORNS HAVE OVER 300 BONES, WHICH GRADUALLY FUSE TOGETHER TO GIVE THE 206 ADULT B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03120" y="762120"/>
            <a:ext cx="8537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NORTH AND SOUTH DAKOTA ARE THE 39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4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TATES, NO ONE KNOWS WHICH STATEHOOD DOCUMENT PRESIDENT HARRISON SIGNED FIRST THAT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17680" y="762120"/>
            <a:ext cx="8151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HEATH LEDGER LOCKED HIMSELF IN A HOTEL ROOM FOR A MONTH TO GET IN CHARACTER FOR PLAYING THE JO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MA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322280" y="762120"/>
            <a:ext cx="6497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CLOSEST U.S. STATE TO AFRICA IS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9528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71400" y="762120"/>
            <a:ext cx="7799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JOHN TRAVOLTA WORE ONLY CLOTHES HE OWNED WHILE FILMING "PULP FIC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800280" y="495288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BUT  MANY  DO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947880" y="762120"/>
            <a:ext cx="724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ITLE OF EVERY EPISODE OF "FRIENDS" BEGINS WITH "THE ONE WITH..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533520" y="487692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ICHAEL KEATON'S REAL NAME IS MICHAEL DOUG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96960" y="762120"/>
            <a:ext cx="7748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HEN THE CELSIUS SCALE WAS FIRST PROPOSED, 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AS WHEN WATER BOILED AND 1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AS WHEN WATER FRO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85480" y="761760"/>
            <a:ext cx="8553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WORD "BOOTLEG" COMES FROM THE TALL BOOTS WORN BY ILLEGAL DISTILLERS, CONVENIENT FOR HIDING BOT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37960" y="762120"/>
            <a:ext cx="822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"i" IN NAMES OF APPLE PRODUCTS (SUCH AS iPAD AND iPHONE) STANDS FOR "INGENU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90480" y="762120"/>
            <a:ext cx="7763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NEWBORNS HAVE OVER 300 BONES, WHICH GRADUALLY FUSE TOGETHER TO GIVE THE 206 ADULT B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1680" y="761760"/>
            <a:ext cx="854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NORTH AND SOUTH DAKOTA ARE THE 39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4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TATES, NO ONE KNOWS WHICH STATEHOOD DOCUMENT PRESIDENT HARRISON SIGNED FIRST THAT 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HEATH LEDGER LOCKED HIMSELF IN A HOTEL ROOM FOR A MONTH TO GET IN CHARACTER FOR PLAYING THE JO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05000" y="761760"/>
            <a:ext cx="653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CLOSEST U.S. STATE TO AFRICA IS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30T19:33:28Z</dcterms:modified>
  <cp:revision>469</cp:revision>
  <dc:subject/>
  <dc:title>Slide 1</dc:title>
</cp:coreProperties>
</file>