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88EE-F05E-401B-B261-3DCCBBD81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8469A-FA66-4506-999B-FFF8BDE2C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2E4-A38B-4A89-B13E-7CAF206B7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8934-F09A-45E6-B66A-3A1FCE32C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075-8972-4944-86D6-6B024BFBD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C73E-B006-413D-8452-9FB4D9ACE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512A-E89F-4ECB-8A63-4A419244E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94B2-0320-4F0A-92D5-4A34BA1E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8B25-B534-4BBB-A59F-0FABA847B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31EC-AF01-4ED6-BC5F-120541F7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F5B8-D54A-496B-BDDA-E509990AE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DFD5-AE7D-4607-A732-905EAE816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7439-D299-45EB-95BC-B34F55C9E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B67-00FF-4470-91A1-5CD0BC1B4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53C-A527-4110-95AF-B3BB6BE7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DBF5-8AEF-43B4-B1F7-76BA15296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50E9-AF2E-4F96-BE41-D8026962C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82AE-4086-4786-8B5D-8648AAF09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562-986E-48BB-898F-9F84860DD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60EA-7C25-47A2-A2FC-220B4D0E3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0B11-0CCA-4F02-BFFC-8A46019E9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444-A92F-40A0-9B3C-06864DFB1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F424-F80B-4013-B524-B77B17703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724040" y="1066680"/>
            <a:ext cx="569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INCIDENC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HYSICIST STEPHEN HAWKING HAD THE SAME BIRTHDAY AND DEATH DAY AS GALIL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6720" y="762120"/>
            <a:ext cx="781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BROTHER OF JOHN WILKES BOOTH ONCE SAVED ABRAHAM LINCOLN'S SON FROM FALLING TO HIS DEATH IN A TRAIN S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90440" y="762120"/>
            <a:ext cx="87631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WINS SEPARATED AT BIRTH WERE BOTH NAMED JAMES, MARRIED WOMEN NAMED LINDA AND THEN BETTY, AND EVEN NAMED THEIR DOGS THE S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1360" y="762120"/>
            <a:ext cx="880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NOVEL WAS PUBLISHED ABOUT AN OCEAN LINER SINKING WITH 2207 PASSENGERS, THE SAME NUMBER OF PEOPLE THE TITANIC HAD 19 YEARS L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RK TWAIN WAS BORN ON THE DAY HALLEY'S COMET APPEARED IN 1835, AND DIED ON THE DAY IT REAPPEARED IN 19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660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3840" y="762120"/>
            <a:ext cx="834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IPLETS WHO LIVED IN SEPARATE PARTS OF GERMANY ALL HAD HEART ATTACKS AND DIED ON THE VERY SAME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09520" y="762120"/>
            <a:ext cx="8724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2 BROTHERS WERE KILLED A YEAR APART, BOTH RIDING THE SAME MOPED, STRUCK BY THE SAME TAXI AND DRIVER, CARRYING THE SAME PASSENG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N AMERICAN WOMAN BOUGHT A USED COPY OF HER FAVORITE CHILDHOOD BOOK IN PARIS, AND IT TURNED OUT TO BE THE SAME COP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280" y="762120"/>
            <a:ext cx="883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GEORGE D. BRYSON RECEIVED A LETTER AT HIS HOTEL MEANT FOR THE PREVIOUS PERSON TO STAY IN HIS ROOM, ALSO NAMED GEORGE D. BRYS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62000" y="762120"/>
            <a:ext cx="88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WINS SEPARATED AT BIRTH WERE BOTH NAMED JAMES, MARRIED WOMEN NAMED LINDA AND THEN BETTY, AND EVEN NAMED THEIR DOGS THE S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2120"/>
            <a:ext cx="882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MAN WAS  GRAZED BY A BULLET THAT LODGED IN A LARGE TREE.  YEARS LATER, HE BLEW UP THE TREE CAUSING THAT BULLET TO STRIKE AND KILL H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HYSICIST STEPHEN HAWKING HAD THE SAME BIRTHDAY AND DEATH DAY AS GALIL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BROTHER OF JOHN WILKES BOOTH ONCE SAVED ABRAHAM LINCOLN'S SON FROM FALLING TO HIS DEATH IN A TRAIN ST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1240" y="761760"/>
            <a:ext cx="892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NOVEL WAS PUBLISHED ABOUT AN OCEAN LINER SINKING WITH 2207 PASSENGERS, THE SAME NUMBER OF PEOPLE THE TITANIC HAD 19 YEARS LAT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ARK TWAIN WAS BORN ON THE DAY HALLEY'S COMET APPEARED IN 1835, AND DIED ON THE DAY IT REAPPEARED IN 19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IPLETS WHO LIVED IN SEPARATE PARTS OF GERMANY ALL HAD HEART ATTACKS AND DIED ON THE VERY SAME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2 BROTHERS WERE KILLED A YEAR APART, BOTH RIDING THE SAME MOPED, STRUCK BY THE SAME TAXI AND DRIVER, CARRYING THE SAME PASSENG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N AMERICAN WOMAN BOUGHT A USED COPY OF HER FAVORITE CHILDHOOD BOOK IN PARIS, AND IT TURNED OUT TO BE THE SAME COP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GEORGE D. BRYSON RECEIVED A LETTER AT HIS HOTEL MEANT FOR THE PREVIOUS PERSON TO STAY IN HIS ROOM, ALSO NAMED GEORGE D. BRYS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A MAN WAS  GRAZED BY A BULLET THAT LODGED IN A LARGE TREE.  YEARS LATER, HE BLEW UP THE TREE CAUSING THAT BULLET TO STRIKE AND KILL HI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4-27T14:11:49Z</dcterms:modified>
  <cp:revision>352</cp:revision>
  <dc:subject/>
  <dc:title>Slide 1</dc:title>
</cp:coreProperties>
</file>