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B977-20F6-4D14-9B63-F84BBA653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72F5-4E6E-4F1C-A0C7-9962D36BC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341E-0133-42F2-8CF5-F5010B31E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1DF2-926C-4634-A443-F54389986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EFC4-9887-449F-9B0A-E13661013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2C56-0FEF-42F1-9DD2-53D7ED413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3B73-B749-4CCB-9DF4-A14E412F1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2245-BDEA-4019-A48C-5061541DE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FFD3-594B-4D41-862F-D65E757C6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AC34-C9D0-4E24-A4AD-F1A7E795A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0040-6CA8-463A-B991-A5A0CA6AC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3202-2F01-4F45-94FB-E876243A5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431B-E9B3-4DC2-BE90-1A781C540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FCED-C0B0-448A-B241-B9E97C516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937A-BD89-45FF-85A9-3C8F6830A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DB72-F5A0-402B-A970-0DE58C13C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1643-C173-46C4-96DA-3D8635039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6CEC-5ADD-4CBD-973C-39596E272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FA25-6715-4BD6-9A55-F91120A1B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068C-8125-4130-BBC2-A547846D3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CF63-8490-41D4-8AEF-E9E94BE89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CEF5-2A53-4409-AD7A-7FA367A77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A247-8782-47A5-BB6A-333E12F26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24040" y="1066680"/>
            <a:ext cx="569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INCIDENCE 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PHYSICIST STEPHEN HAWKING HAD THE SAME BIRTHDAY AND DEATH DAY AS GALILE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66720" y="762120"/>
            <a:ext cx="7810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THE BROTHER OF JOHN WILKES BOOTH ONCE SAVED ABRAHAM LINCOLN'S SON FROM FALLING TO HIS DEATH IN A TRAIN ST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90440" y="762120"/>
            <a:ext cx="876312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TWINS SEPARATED AT BIRTH WERE BOTH NAMED JAMES, MARRIED WOMEN NAMED LINDA AND THEN BETTY, AND EVEN NAMED THEIR DOGS THE S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71360" y="762120"/>
            <a:ext cx="8801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A NOVEL WAS PUBLISHED ABOUT AN OCEAN LINER SINKING WITH 2207 PASSENGERS, THE SAME NUMBER OF PEOPLE THE TITANIC HAD 19 YEARS LA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14440" y="762120"/>
            <a:ext cx="811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ARK TWAIN WAS BORN ON THE DAY HALLEY'S COMET APPEARED IN 1835, AND DIED ON THE DAY IT REAPPEARED IN 19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36600" y="4952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93840" y="762120"/>
            <a:ext cx="8343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RIPLETS WHO LIVED IN SEPARATE PARTS OF GERMANY ALL HAD HEART ATTACKS AND DIED ON THE VERY SAME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09520" y="762120"/>
            <a:ext cx="8724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2 BROTHERS WERE KILLED A YEAR APART, BOTH RIDING THE SAME MOPED, STRUCK BY THE SAME TAXI AND DRIVER, CARRYING THE SAME PASSENG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AN AMERICAN WOMAN BOUGHT A USED COPY OF HER FAVORITE CHILDHOOD BOOK IN PARIS, AND IT TURNED OUT TO BE THE SAME COP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52280" y="762120"/>
            <a:ext cx="8839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GEORGE D. BRYSON RECEIVED A LETTER AT HIS HOTEL MEANT FOR THE PREVIOUS PERSON TO STAY IN HIS ROOM, ALSO NAMED GEORGE D. BRYS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62000" y="762120"/>
            <a:ext cx="8820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TWINS SEPARATED AT BIRTH WERE BOTH NAMED JAMES, MARRIED WOMEN NAMED LINDA AND THEN BETTY, AND EVEN NAMED THEIR DOGS THE SAM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62000" y="762120"/>
            <a:ext cx="8820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A MAN WAS  GRAZED BY A BULLET THAT LODGED IN A LARGE TREE.  YEARS LATER, HE BLEW UP THE TREE CAUSING THAT BULLET TO STRIKE AND KILL HI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0280" y="76212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PHYSICIST STEPHEN HAWKING HAD THE SAME BIRTHDAY AND DEATH DAY AS GALILE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THE BROTHER OF JOHN WILKES BOOTH ONCE SAVED ABRAHAM LINCOLN'S SON FROM FALLING TO HIS DEATH IN A TRAIN ST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1240" y="761760"/>
            <a:ext cx="892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A NOVEL WAS PUBLISHED ABOUT AN OCEAN LINER SINKING WITH 2207 PASSENGERS, THE SAME NUMBER OF PEOPLE THE TITANIC HAD 19 YEARS LAT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14440" y="762120"/>
            <a:ext cx="811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ARK TWAIN WAS BORN ON THE DAY HALLEY'S COMET APPEARED IN 1835, AND DIED ON THE DAY IT REAPPEARED IN 19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RIPLETS WHO LIVED IN SEPARATE PARTS OF GERMANY ALL HAD HEART ATTACKS AND DIED ON THE VERY SAME 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2 BROTHERS WERE KILLED A YEAR APART, BOTH RIDING THE SAME MOPED, STRUCK BY THE SAME TAXI AND DRIVER, CARRYING THE SAME PASSENG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AN AMERICAN WOMAN BOUGHT A USED COPY OF HER FAVORITE CHILDHOOD BOOK IN PARIS, AND IT TURNED OUT TO BE THE SAME COP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3200" y="761760"/>
            <a:ext cx="8877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GEORGE D. BRYSON RECEIVED A LETTER AT HIS HOTEL MEANT FOR THE PREVIOUS PERSON TO STAY IN HIS ROOM, ALSO NAMED GEORGE D. BRYS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320" y="761760"/>
            <a:ext cx="8991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A MAN WAS  GRAZED BY A BULLET THAT LODGED IN A LARGE TREE.  YEARS LATER, HE BLEW UP THE TREE CAUSING THAT BULLET TO STRIKE AND KILL HI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4-27T14:11:49Z</dcterms:modified>
  <cp:revision>352</cp:revision>
  <dc:subject/>
  <dc:title>Slide 1</dc:title>
</cp:coreProperties>
</file>