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B171D-6A04-4ECC-A9D1-388498EAA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37FB-E1DE-42AC-B1DB-47D15D120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98B-492C-44A5-B632-EA383B960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3DC3-FF01-4ABC-8FC7-E08D5AC9B1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C692-D18F-4532-BC7B-AB3A62113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659D-4839-4B6F-9753-CA8C1CF60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F0350-0EDA-4F1D-9799-C935539BA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3F56-4EBC-4B31-A4E4-57B857959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531A-7A24-4410-A8E7-EE988C7E3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8C03-5FFF-4619-938F-66A114433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F65A-A1FA-4ABB-BBF5-D6BF7792C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9A7-4F35-422F-AC53-E6655E19D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4C7-4100-4702-BA7E-006072815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2B86-83A2-4C23-8B51-A3174B964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0403-1173-4779-A268-D979B52F8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928D-3A35-45B5-9AF7-20F83141F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61E1-604D-4376-AF3D-568202F6E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16EA-50BB-4556-A6C6-2D40EABD5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CA4E-3603-4903-B485-F61ABD1E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AE72-DCFF-446F-98DB-F377F2E9E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F4A4-C343-42CF-9110-1368AD626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E8F7-0BFE-4C9B-924E-7F7AE997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2206-49E1-4243-8309-E62BB9C5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80B6-26EC-4074-9AED-EDC922C3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ALT DISNEY'S BODY WAS CRYOGENICALLY FROZ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33320" y="761760"/>
            <a:ext cx="7677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ADAM AND EVE WERE CONVINCED TO EAT AN APPLE BY A SNA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093680" y="762120"/>
            <a:ext cx="695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ST COMMON CAUSE OF POWER OUTAGES IN THE U.S. IS SQUIRRE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932040" y="762120"/>
            <a:ext cx="727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A CORNFLAKE SHAPED   LIKE ILLINOIS SOLD ON EBAY IN 2008 FOR $13,5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41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IT  WAS  BECAUSE  HE  WAS  ANGRY  AT  PAUL  GAUGU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835200" y="762120"/>
            <a:ext cx="7473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VINCENT VAN GOGH CUT OFF HIS EAR TO IMPRESS A 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Y  WON  2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RIZ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Y PLAYING THE NUMBERS OBTAINED FROM A FORTUNE COOKIE, MORE THAN 100 PEOPLE WON AT POWERBALL IN 200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SHE  HAD  2  UTERUS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92000" y="762120"/>
            <a:ext cx="75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WOMAN GAVE BIRTH TO HEALTHY TWINS LESS THAN A MONTH AFTER SHE GAVE BIRTH TO ANOTHER HEALTHY BAB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RAINBOWS  MADE FROM LIGHT OF THE MO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60200" y="762120"/>
            <a:ext cx="8823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AMES CAMERON SOLD THE SCRIPT FOR "THE TERMINATOR" FOR $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IGATORS LIVE IN THE NYC SE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ALT DISNEY'S BODY WAS CRYOGENICALLY FROZ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1219320" y="4419720"/>
            <a:ext cx="67053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"FRUIT  FROM  THE  TREE  OF  KNOWLEDGE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789120" y="762120"/>
            <a:ext cx="7564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IBLE SAYS ADAM AND EVE WERE CONVINCED TO EAT AN APPLE BY A SNA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95400" y="762120"/>
            <a:ext cx="715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OST COMMON CAUSE OF POWER OUTAGES IN THE U.S. IS SQUIRREL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11160" y="762120"/>
            <a:ext cx="732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A CORNFLAKE SHAPED   LIKE ILLINOIS SOLD ON EBAY IN 2008 FOR $13,5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819000" y="761760"/>
            <a:ext cx="750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VINCENT VAN GOGH CUT OFF HIS EAR TO IMPRESS A LOVER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46120" y="762120"/>
            <a:ext cx="8051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Y PLAYING THE NUMBERS OBTAINED FROM A FORTUNE COOKIE, MORE THAN 100 PEOPLE WON AT POWERBALL IN 2005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5280" y="762120"/>
            <a:ext cx="7813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WOMAN GAVE BIRTH TO HEALTHY TWINS LESS THAN A MONTH AFTER SHE GAVE BIRTH TO ANOTHER HEALTHY BAB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ARE RAINBOWS  MADE FROM LIGHT OF THE MO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0360" y="761760"/>
            <a:ext cx="896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AMES CAMERON SOLD THE SCRIPT FOR "THE TERMINATOR" FOR $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0040" y="761760"/>
            <a:ext cx="8143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LIGATORS LIVE IN THE NYC SE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2T12:13:48Z</dcterms:modified>
  <cp:revision>382</cp:revision>
  <dc:subject/>
  <dc:title>Slide 1</dc:title>
</cp:coreProperties>
</file>