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26367-C901-44FC-9C34-B89A2644C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312A7-AC3C-49E8-BF5B-8E86CAB8A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0F97D-B981-42BC-BCAC-290966BAF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F16A3-7A38-4942-B757-4E401FE1B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38EBC-ADC5-4D55-AEBC-AD3D6E70C8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0F5C3-4185-4879-B819-FBCEBC83E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2A28B-6DA9-4977-A2BD-927800356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D7B23-0A82-4BF2-93FE-40C9993602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D47C2-8EDD-42C4-BBC5-95B9C5E82E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20767-D779-457A-8933-38B446E5D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7D294-2216-4DEC-B41A-D5BCF5336A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52EE4-9DEC-4034-8D57-BED2618F9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37EBF-E59D-4AB6-95A9-EFCF8E1F8B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AE25B-F71B-4817-916B-4759EE692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99065-3E6F-498E-88EE-F1B14BB30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653DE-4D32-4F1F-99B7-4675D9EC0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DFE74-2176-441B-B1FF-EFCD96BDEC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A91CE-ADD2-4F43-962D-65627D77E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810F8-0938-4CFF-B7FA-4323215B0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BF102-6137-4029-868C-CBD55F277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B0552-3651-46FC-AAAE-8486A8DAE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AEE95-42F8-44D7-8D14-1FC924AFB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5F83C-D980-47B6-8D72-C476E0D7C5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8EE46-5685-48F4-B121-301C73673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6858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COME TO THURSDAY NIGHT TRIVIA AT THE ELUSIVE GRA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54040" y="761760"/>
            <a:ext cx="803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WALT DISNEY'S BODY WAS CRYOGENICALLY FROZ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733320" y="761760"/>
            <a:ext cx="7677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IBLE SAYS ADAM AND EVE WERE CONVINCED TO EAT AN APPLE BY A SNAK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1093680" y="762120"/>
            <a:ext cx="6956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MOST COMMON CAUSE OF POWER OUTAGES IN THE U.S. IS SQUIRRELS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1066680" y="495288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932040" y="762120"/>
            <a:ext cx="7279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A CORNFLAKE SHAPED   LIKE ILLINOIS SOLD ON EBAY IN 2008 FOR $13,50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457200" y="44197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  (IT  WAS  BECAUSE  HE  WAS  ANGRY  AT  PAUL  GAUGUI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835200" y="762120"/>
            <a:ext cx="7473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VINCENT VAN GOGH CUT OFF HIS EAR TO IMPRESS A LOV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  (THEY  WON  2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PRIZ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BY PLAYING THE NUMBERS OBTAINED FROM A FORTUNE COOKIE, MORE THAN 100 PEOPLE WON AT POWERBALL IN 2005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  (SHE  HAD  2  UTERUS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792000" y="762120"/>
            <a:ext cx="75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A WOMAN GAVE BIRTH TO HEALTHY TWINS LESS THAN A MONTH AFTER SHE GAVE BIRTH TO ANOTHER HEALTHY BAB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RE ARE RAINBOWS  MADE FROM LIGHT OF THE MO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160200" y="762120"/>
            <a:ext cx="8823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JAMES CAMERON SOLD THE SCRIPT FOR "THE TERMINATOR" FOR $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UE OR FALS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143000" y="4952880"/>
            <a:ext cx="68580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36480" y="762120"/>
            <a:ext cx="7871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ALLIGATORS LIVE IN THE NYC SEW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533520" y="762120"/>
            <a:ext cx="80769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WALT DISNEY'S BODY WAS CRYOGENICALLY FROZ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1219320" y="4419720"/>
            <a:ext cx="67053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  ("FRUIT  FROM  THE  TREE  OF  KNOWLEDGE"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789120" y="762120"/>
            <a:ext cx="75643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IBLE SAYS ADAM AND EVE WERE CONVINCED TO EAT AN APPLE BY A SNA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995400" y="762120"/>
            <a:ext cx="7153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MOST COMMON CAUSE OF POWER OUTAGES IN THE U.S. IS SQUIRRELS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911160" y="762120"/>
            <a:ext cx="7321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A CORNFLAKE SHAPED   LIKE ILLINOIS SOLD ON EBAY IN 2008 FOR $13,50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819000" y="761760"/>
            <a:ext cx="7506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VINCENT VAN GOGH CUT OFF HIS EAR TO IMPRESS A LOVER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546120" y="762120"/>
            <a:ext cx="8051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BY PLAYING THE NUMBERS OBTAINED FROM A FORTUNE COOKIE, MORE THAN 100 PEOPLE WON AT POWERBALL IN 2005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65280" y="762120"/>
            <a:ext cx="78134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A WOMAN GAVE BIRTH TO HEALTHY TWINS LESS THAN A MONTH AFTER SHE GAVE BIRTH TO ANOTHER HEALTHY BAB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47840" y="762120"/>
            <a:ext cx="8248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RE ARE RAINBOWS  MADE FROM LIGHT OF THE MO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90360" y="761760"/>
            <a:ext cx="896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JAMES CAMERON SOLD THE SCRIPT FOR "THE TERMINATOR" FOR $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00040" y="761760"/>
            <a:ext cx="8143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ALLIGATORS LIVE IN THE NYC SEW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2-07-12T12:13:48Z</dcterms:modified>
  <cp:revision>382</cp:revision>
  <dc:subject/>
  <dc:title>Slide 1</dc:title>
</cp:coreProperties>
</file>