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E68A-7B4F-4B07-AA23-E613CAA7E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0612-8F7B-48E2-8BBA-5F301951F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5C4C-B457-49B4-A1F9-9DB0211B7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C6F2-894D-45EF-8074-550103393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BCD1-3A03-4FA8-BB3F-CAFC08F3A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B023-CD0A-4D0E-BD39-7362E2476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2485-648F-4823-A51A-85AD581EC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102C-FE9F-4AA6-B667-00CD175DE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6806-8F6D-47E7-8F7E-AF153CB22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C43C-8FA0-4C5A-BC1C-56B228BBC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2245-38CE-438B-A6C6-F8CC9F4A8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9C17-CDB2-4FAD-BF8E-675F592F3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9AB6-8370-4622-A4EE-BAD681A4C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B6E6-531E-4FF7-98B4-18CE8DA2F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0F39-0C21-4322-AE37-E5298F0EB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4565-AAE5-46F3-9ED6-459712A54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154E-F610-4E5E-8BF9-63244FE49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B533-6833-44D0-9409-8A52343E0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56BE-E53B-4F1D-8CE2-47CD331C7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2739-0C94-4E8D-9356-BF500AF69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B690-BBF5-49FD-8F7E-72487633A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E24A-7786-4B3A-8E10-8E70D4BF3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BDF3-97FC-4CBB-A83D-3D42A7570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6360" y="761760"/>
            <a:ext cx="799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RE THAN ¼ OF ALL DIVORCE FILINGS IN THE U.S. CONTAIN THE WORD "FACEBOO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69720" y="762120"/>
            <a:ext cx="8404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LED ZEPPELIN TURNED DOWN $1 BILLION TO DO A REUNION TO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ONLY  48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04800" y="762120"/>
            <a:ext cx="7932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N UGANDA,  MORE THAN HALF OF THE POPULATION IS UNDER 15 YEARS OL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BABYLONIA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33520" y="762120"/>
            <a:ext cx="80769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OLDEST KNOWN "YOUR MAMMA" JOKE IS DUE TO THE ANCIENT GREEK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SAINT  LUCI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28800" y="762120"/>
            <a:ext cx="72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NO COUNTRY ON EARTH IS NAMED FOR A WO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52280" y="762120"/>
            <a:ext cx="8839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VIE TRAILERS ARE CALLED THAT BECAUSE THEY USED TO BE SHOWN AT THE END OF MOV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ABOUT  250,00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52480" y="762120"/>
            <a:ext cx="7439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N ANTARCTICA, THERE IS OVER 1 MILLION CUBIC MILES OF PENGUIN UR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31880" y="762120"/>
            <a:ext cx="7680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ERCEDES AND BENZ FLIPPED A COIN TO SEE WHOSE NAME WOULD COME FIRST IN THEIR HYPHENATED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LARR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347840" y="762120"/>
            <a:ext cx="6448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TWITTER BIRD IS NAMED INDI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1200" y="762120"/>
            <a:ext cx="7939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N UGANDA,  MORE THAN HALF OF THE POPULATION IS UNDER 15 YEARS OL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IKE TYSON ATTEMPTED TO BRIBE A ZOO KEEPER TO LET HIM FIGHT A GORIL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62040" y="762120"/>
            <a:ext cx="78199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RE THAN ¼ OF ALL DIVORCE FILINGS IN THE U.S. CONTAIN THE WORD "FACEBOO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90600" y="762120"/>
            <a:ext cx="8362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LED ZEPPELIN TURNED DOWN $1 BILLION TO DO A REUNION TO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39200" y="761760"/>
            <a:ext cx="8263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OLDEST KNOWN "YOUR MAMMA" JOKE IS DUE TO THE ANCIENT GREEK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76320" y="762120"/>
            <a:ext cx="718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NO COUNTRY ON EARTH IS NAMED FOR A WO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33200" y="762120"/>
            <a:ext cx="8877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VIE TRAILERS ARE CALLED THAT BECAUSE THEY USED TO BE SHOWN AT THE END OF MOV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74800" y="762120"/>
            <a:ext cx="7392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N ANTARCTICA, THERE IS OVER 1 MILLION CUBIC MILES OF PENGUIN UR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23880" y="761760"/>
            <a:ext cx="7896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ERCEDES AND BENZ FLIPPED A COIN TO SEE WHOSE NAME WOULD COME FIRST IN THEIR HYPHENATED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87360" y="761760"/>
            <a:ext cx="6569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TWITTER BIRD IS NAMED INDI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61480" y="761760"/>
            <a:ext cx="7418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IKE TYSON ATTEMPTED TO BRIBE A ZOO KEEPER TO LET HIM FIGHT A GORILL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8-21T18:29:49Z</dcterms:modified>
  <cp:revision>385</cp:revision>
  <dc:subject/>
  <dc:title>Slide 1</dc:title>
</cp:coreProperties>
</file>