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1005-5AB4-4A2B-9D28-188F6E42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034-E277-43B8-93BB-BA6B37FE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849-AEDA-400D-9484-D0205411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849-2BDA-422C-BBEC-1DA3ADCB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6715-08BA-4420-9873-C1049DFF0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339-E45C-4C97-971A-A6B3DB13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459C-EC4E-463C-95DC-6FE5D644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E4C-9F89-4C0A-8939-3B47D645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A73-0769-4112-8C04-7697DDCB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9A5E-A819-4FFF-A241-48810C2F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A683-8E56-401E-88AE-99AE367C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7334-FDDA-4F2E-964F-713E36F2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E79-BAD4-4043-A6B9-AF201FF5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B47C-1BF3-4C12-943D-C886B5D4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9A03-C44A-4C28-9C11-B7ACDFF3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5FB-C0CC-4160-8DAC-868439835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A9A0-E937-428C-AA9B-3235175E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F176-7D10-4991-B2E3-950CF477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E5B-E916-4C8C-BFEE-2A495282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B0B-104C-46CE-A646-B3E2618D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484D-A024-400C-ADD3-9B9E4D68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819-6F77-4882-B4A5-C7859545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49FA-A1AE-4C38-8184-145DD5F1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¼ OF ALL DIVORCE FILINGS IN THE U.S. CONTAIN THE WORD "FACEBO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9720" y="762120"/>
            <a:ext cx="840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ED ZEPPELIN TURNED DOWN $1 BILLION TO DO A REUNION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ONLY  4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4800" y="762120"/>
            <a:ext cx="793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UGANDA,  MORE THAN HALF OF THE POPULATION IS UNDER 15 YEARS O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ABYLONIA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LDEST KNOWN "YOUR MAMMA" JOKE IS DUE TO THE ANCIENT GREEK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SAINT  LUC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76212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COUNTRY ON EARTH IS NAMED FOR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VIE TRAILERS ARE CALLED THAT BECAUSE THEY USED TO BE SHOWN AT THE END OF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ABOUT  250,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ANTARCTICA, THERE IS OVER 1 MILLION CUBIC MILES OF PENGUIN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ERCEDES AND BENZ FLIPPED A COIN TO SEE WHOSE NAME WOULD COME FIRST IN THEIR HYPHENATED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LAR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47840" y="762120"/>
            <a:ext cx="6448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WITTER BIRD IS NAMED INDI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UGANDA,  MORE THAN HALF OF THE POPULATION IS UNDER 15 YEARS OL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KE TYSON ATTEMPTED TO BRIBE A ZOO KEEPER TO LET HIM FIGHT A GORI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2040" y="762120"/>
            <a:ext cx="7819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¼ OF ALL DIVORCE FILINGS IN THE U.S. CONTAIN THE WORD "FACEBO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ED ZEPPELIN TURNED DOWN $1 BILLION TO DO A REUNION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LDEST KNOWN "YOUR MAMMA" JOKE IS DUE TO THE ANCIENT GREE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6320" y="762120"/>
            <a:ext cx="71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COUNTRY ON EARTH IS NAMED FOR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3200" y="762120"/>
            <a:ext cx="887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VIE TRAILERS ARE CALLED THAT BECAUSE THEY USED TO BE SHOWN AT THE END OF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ANTARCTICA, THERE IS OVER 1 MILLION CUBIC MILES OF PENGUIN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ERCEDES AND BENZ FLIPPED A COIN TO SEE WHOSE NAME WOULD COME FIRST IN THEIR HYPHENATED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7360" y="761760"/>
            <a:ext cx="656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WITTER BIRD IS NAMED INDI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480" y="761760"/>
            <a:ext cx="741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KE TYSON ATTEMPTED TO BRIBE A ZOO KEEPER TO LET HIM FIGHT A GORI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1T18:29:49Z</dcterms:modified>
  <cp:revision>385</cp:revision>
  <dc:subject/>
  <dc:title>Slide 1</dc:title>
</cp:coreProperties>
</file>