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D988-27BC-4843-AA67-984266DD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9FCD-364A-446B-BD19-BEFE6103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879D-ED75-444C-9801-66DA20EE4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839-D2CE-41E6-BA3B-8FD1F84B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B56C-DC64-47A9-8DA9-8D685DCF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CD2C-E2AE-439A-A412-32CDEBABA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87A-8C83-4CF6-B2ED-8581A547B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584A-344B-43F3-B981-55279F5D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70F1-9426-4F33-B06A-49D179A3E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AB60-D069-4B1F-88B9-B6BAC5B40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822F-28F8-4B85-9B0E-5BA269D3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E1F4-7AAA-4069-A395-578AB9BB6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4FEA-E034-42E8-AB45-CC63AE74F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689E-CB54-4ACB-A956-957FE668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A446-92EF-426D-8F42-D3851D39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2E0-AC7D-42AC-A8CD-B0B78B76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7152-1562-4590-87AF-E0DD8D03E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43ED-79F5-4320-8F66-4B22BABC8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F93C-1F09-4F96-99F9-5FDB0CCFD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EE9A-093B-494C-8A97-48695261F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2E0E-C98C-4B5A-8DE7-E004A59EC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B2A9-ECA2-430A-BBC9-307D4EC7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F69A-0696-44B0-BD1F-345755BD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645A-F0D9-41CF-A5D5-BF2C8BEE5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UMBER OF SHARK BITES WORLDWIDE IS FEWER THAN THE NUMBER OF HUMANS BITING OTHER HUMANS IN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D CHIMPS SOMETIMES GET DRUNK FROM FERMENTED TREE S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MADILLOS ALWAYS GIVE BIRTH TO IDENTICAL TRIP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EART OF A SHRIMP IS LOCATED IN ITS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VER 5%    OF THE ICE IN ANTARCTIC GLACIERS IS PENGUIN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90640" y="762120"/>
            <a:ext cx="73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KOALA FINGERPRINTS ARE INDISTINGUISHABLE FROM THOSE OF HUM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ORN OF A RHINOCEROS IS MADE OF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01880" y="762120"/>
            <a:ext cx="71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ATS ALWAYS TURN LEFT WHEN LEAVING A C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26920" y="762120"/>
            <a:ext cx="749016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IRAFFES HAVE NO VOCAL CH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N OSTRICH'S EYE IS BIGGER THAN ITS B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UMBER OF SHARK BITES WORLDWIDE IS FEWER THAN THE NUMBER OF HUMANS BITING OTHER HUMANS IN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38120" y="762120"/>
            <a:ext cx="8248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D CHIMPS SOMETIMES GET DRUNK FROM FERMENTED TREE S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RMADILLOS ALWAYS GIVE BIRTH TO IDENTICAL TRIPL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EART OF A SHRIMP IS LOCATED IN ITS 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VER 5%    OF THE ICE IN ANTARCTIC GLACIERS IS PENGUIN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KOALA FINGERPRINTS ARE INDISTINGUISHABLE FROM THOSE OF HUMA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621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HORN OF A RHINOCEROS IS MADE OF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52640" y="761760"/>
            <a:ext cx="703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ATS ALWAYS TURN LEFT WHEN LEAVING A C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GIRAFFES HAVE NO VOCAL CH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N OSTRICH'S EYE IS BIGGER THAN ITS B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9-20T18:05:59Z</dcterms:modified>
  <cp:revision>358</cp:revision>
  <dc:subject/>
  <dc:title>Slide 1</dc:title>
</cp:coreProperties>
</file>