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902-887C-40B4-B0F7-983E5A65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7572-7614-4881-8B11-FDC51369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B925-D375-4CD8-84D5-809EDE52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8563-B55A-460A-924B-7C9115DED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8697-777E-4208-822C-B8D6666E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306-2E07-47CB-9BB1-5F9C2C3D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0EF-0039-484E-8E02-39525B2D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8BF5-1B3A-43BE-B503-836086E1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CFB7-C390-4252-8D54-8B8CE385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626-D2FC-4264-AD63-19EFA973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67B9-36CB-433F-9393-294F8D786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CA65-837D-457D-AE51-8F3DC0C2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5A44-9E45-4FF9-BBF4-1D0714D4B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A520-215D-4B9B-9AD3-92E80C7C2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35CB-C301-4F66-B4BE-6FE14523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C56B-EE4A-4605-81BE-2D94A124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0771-C94F-4A10-A3DB-17842BF5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D088-70EE-45AD-94A7-D7EAD5F3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5DB6-259F-4A88-8ED8-A5649C04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6C6-269D-4466-9337-3F806024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6F4-47FA-4EF2-877A-CB4F40E9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3BD-0B68-48A3-B1D9-0A7BBF03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F3F8-E531-40A9-8646-D9D8487E9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E8D-E2FA-4EE6-A0F8-48FA3AEB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UMBER OF SHARK BITES WORLDWIDE IS FEWER THAN THE NUMBER OF HUMANS BITING OTHER HUMANS IN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D CHIMPS SOMETIMES GET DRUNK FROM FERMENTED TREE S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MADILLOS ALWAYS GIVE BIRTH TO IDENTICAL TRIPL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00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EART OF A SHRIMP IS LOCATED IN ITS 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VER 5%    OF THE ICE IN ANTARCTIC GLACIERS IS PENGUIN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90640" y="762120"/>
            <a:ext cx="73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KOALA FINGERPRINTS ARE INDISTINGUISHABLE FROM THOSE OF HUM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ORN OF A RHINOCEROS IS MADE OF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01880" y="762120"/>
            <a:ext cx="71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ATS ALWAYS TURN LEFT WHEN LEAVING A C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26920" y="762120"/>
            <a:ext cx="749016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IRAFFES HAVE NO VOCAL CH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N OSTRICH'S EYE IS BIGGER THAN ITS B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UMBER OF SHARK BITES WORLDWIDE IS FEWER THAN THE NUMBER OF HUMANS BITING OTHER HUMANS IN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38120" y="762120"/>
            <a:ext cx="8248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D CHIMPS SOMETIMES GET DRUNK FROM FERMENTED TREE S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MADILLOS ALWAYS GIVE BIRTH TO IDENTICAL TRIPL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EART OF A SHRIMP IS LOCATED IN ITS 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VER 5%    OF THE ICE IN ANTARCTIC GLACIERS IS PENGUIN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KOALA FINGERPRINTS ARE INDISTINGUISHABLE FROM THOSE OF HUM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5400" y="7621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ORN OF A RHINOCEROS IS MADE OF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52640" y="761760"/>
            <a:ext cx="703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ATS ALWAYS TURN LEFT WHEN LEAVING A C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IRAFFES HAVE NO VOCAL CH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N OSTRICH'S EYE IS BIGGER THAN ITS B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9-20T18:05:59Z</dcterms:modified>
  <cp:revision>358</cp:revision>
  <dc:subject/>
  <dc:title>Slide 1</dc:title>
</cp:coreProperties>
</file>