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0FF-BD9D-4644-8F8D-2A592C438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994E-6EFE-414F-BE5B-ED76C8E7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2A93-89CE-48DD-BC55-7C1474AB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40B-298A-45CB-BCBE-AB49736DE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BD5C-177F-4457-926A-AF13E3FC6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7B81-847C-4A85-A1D8-68C12C6C7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9B66-E317-4561-9B52-A5E410CE7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6934-871A-4288-87BE-C16A5BCDE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B6C1-B159-4AB1-ABB0-5346B37EE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A406-0AD1-46D4-8E39-5C7EEE98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B49B-0DD4-4208-8914-DF4921E80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0811-E823-4201-BBEF-41949883D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B889-EA53-42C9-9C45-F4516960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B5D-BC25-4802-98EE-360932D00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E5E4-E9EA-4B9D-88F3-17554A059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4FED-6432-459F-AB8C-19C020849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1F3-BB20-47DF-98EF-4ADB0EE8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CFD5-971F-41FF-A179-A517131A6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712E-532F-432D-A293-91FCFE575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E55E-F382-47AB-9AD6-C985E02E2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AB7A-45A1-4BDF-A232-BD85AE07A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49B2-5F26-40FB-8138-401C483FD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35A1-090C-45B8-8883-83B9B0DC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UTER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THE WORLD'S POPULATION ACCESSES THE INTERNET DA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WEBCAM WAS OF A COFFEE MAKER TO ENSURE THAT NO TRIPS WERE MADE TO AN EMPTY P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USING A COMPUTER, PEOPLE BLINK 1/3 AS OFTEN AS NOR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5920" y="762120"/>
            <a:ext cx="83721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COMPUTER BUG" CAME FROM A MOTH STUCK IN THE RELAY OF AN EARLY COMPU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90640" y="762120"/>
            <a:ext cx="73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COMPUTER MOUSE WAS MADE OF GLA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1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IGHTS IN PHILADELPHIA WOULD DIM WHEN ONE OF THE FIRST COMPUTERS LOCATED THERE WAS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30280" y="762120"/>
            <a:ext cx="6281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OF ALL EMAILS ARE SP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26920" y="762120"/>
            <a:ext cx="749016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PPLE, HP, AND MICROSOFT WERE ALL STARTED IN A GA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PULAR MECHAN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DE THE PREDICTION "COMPUTERS IN THE FUTURE MAY WEIGH NO MORE THAN 3000 POU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USING A COMPUTER, PEOPLE BLINK 1/3 AS OFTEN AS NOR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1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IT WAS "00000000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ASSWORD FOR LAUNCHING NUCLEAR MISSILES WAS "PASSWORD" FOR 8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THE WORLD'S POPULATION ACCESSES THE INTERNET DA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WEBCAM WAS OF A COFFEE MAKER TO ENSURE THAT NO TRIPS WERE MADE TO AN EMPTY P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COMPUTER BUG" CAME FROM A MOTH STUCK IN THE RELAY OF AN EARLY COMPU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COMPUTER MOUSE WAS MADE OF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11280" y="762120"/>
            <a:ext cx="7920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IGHTS IN PHILADELPHIA WOULD DIM WHEN ONE OF THE FIRST COMPUTERS LOCATED THERE WAS U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66920" y="761760"/>
            <a:ext cx="640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HALF OF ALL EMAILS ARE SP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PPLE, HP, AND MICROSOFT WERE ALL STARTED IN A GA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OPULAR MECHANIC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DE THE PREDICTION "COMPUTERS IN THE FUTURE MAY WEIGH NO MORE THAN 3000 POU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PASSWORD FOR LAUNCHING NUCLEAR MISSILES WAS "PASSWORD" FOR 8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1:49Z</dcterms:modified>
  <cp:revision>365</cp:revision>
  <dc:subject/>
  <dc:title>Slide 1</dc:title>
</cp:coreProperties>
</file>