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589-6F60-4C45-90A6-7F7778B2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ED6E-11DC-42DA-A906-890F6289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95E-27AE-4357-BD81-86F4893E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0093-2E94-429F-B333-F2ED167FB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893-D33A-4AAB-ACA0-0D873D29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8C29-BBCF-42E2-AD06-9B2BB91ED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8300-FA4A-4050-846F-84626DAC8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5CF-93ED-4DCD-88D7-0D7E27BCB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10CC-6530-4715-A0F1-158849C7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BF04-8AEA-49E3-948F-66730BA5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22E8-7EC7-4948-B7AF-50E03FA9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9E41-0AD4-42B7-9647-FBC0FC92A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7A1A-7E27-4F2E-9FE8-FA82BFF0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B2C-F593-4238-BFA1-41902C6D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6D23-A922-4FD6-9C85-3F60073DA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F9C9-F286-4B28-A283-4926F3CE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74EE-5F27-4DE4-A93C-8EC5157E9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24DB-1740-4D3A-832C-74709BCF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F274-B28D-40F4-A8C7-BF100B26B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54B9-84F3-4391-92CA-5F9C9EA5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7CF0-F19C-4B63-ACA1-FBFCA056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E9ED-CC75-40D9-A904-B7B744B9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21D5-4054-48A4-A29A-2D99CEFEE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THE WORLD'S POPULATION ACCESSES THE INTERNET DA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WEBCAM WAS OF A COFFEE MAKER TO ENSURE THAT NO TRIPS WERE MADE TO AN EMPTY P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USING A COMPUTER, PEOPLE BLINK 1/3 AS OFTEN AS NOR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5920" y="762120"/>
            <a:ext cx="8372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COMPUTER BUG" CAME FROM A MOTH STUCK IN THE RELAY OF AN EARLY COMPU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90640" y="762120"/>
            <a:ext cx="73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COMPUTER MOUSE WAS MADE OF GLA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1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1040" y="762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IGHTS IN PHILADELPHIA WOULD DIM WHEN ONE OF THE FIRST COMPUTERS LOCATED THERE WAS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30280" y="762120"/>
            <a:ext cx="628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OF ALL EMAILS ARE SP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26920" y="762120"/>
            <a:ext cx="749016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PPLE, HP, AND MICROSOFT WERE ALL STARTED IN A GA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PULAR MECHAN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DE THE PREDICTION "COMPUTERS IN THE FUTURE MAY WEIGH NO MORE THAN 3000 POU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USING A COMPUTER, PEOPLE BLINK 1/3 AS OFTEN AS NOR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1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IT WAS "00000000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ASSWORD FOR LAUNCHING NUCLEAR MISSILES WAS "PASSWORD" FOR 8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THE WORLD'S POPULATION ACCESSES THE INTERNET DA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WEBCAM WAS OF A COFFEE MAKER TO ENSURE THAT NO TRIPS WERE MADE TO AN EMPTY P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COMPUTER BUG" CAME FROM A MOTH STUCK IN THE RELAY OF AN EARLY COMPU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COMPUTER MOUSE WAS MADE OF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11280" y="762120"/>
            <a:ext cx="7920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IGHTS IN PHILADELPHIA WOULD DIM WHEN ONE OF THE FIRST COMPUTERS LOCATED THERE WAS U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66920" y="761760"/>
            <a:ext cx="640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OF ALL EMAILS ARE SP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PPLE, HP, AND MICROSOFT WERE ALL STARTED IN A GA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PULAR MECHAN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DE THE PREDICTION "COMPUTERS IN THE FUTURE MAY WEIGH NO MORE THAN 3000 POU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ASSWORD FOR LAUNCHING NUCLEAR MISSILES WAS "PASSWORD" FOR 8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1:49Z</dcterms:modified>
  <cp:revision>365</cp:revision>
  <dc:subject/>
  <dc:title>Slide 1</dc:title>
</cp:coreProperties>
</file>