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AA89-CDE8-4AA3-AFF4-DC6D6D9A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8EA-6618-4C9C-9420-AE34130E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3E3-E260-4304-A32F-AB01E893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CBF7-A6D4-4B11-B393-C59EBA4D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272-3C67-43D2-9FF8-A60F1989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6FE-1C44-4D5C-A05A-B284FE5C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0BB-0862-43FC-93A8-1F1F40A3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6BA0-E6D8-4852-814B-C139184D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FC0-3681-4346-BC0E-76998456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0226-30FC-49AC-AEA6-6C8BD568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642B-2021-4801-A2D1-CF8662E4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54E-EE53-42DA-B51D-F6DE98E9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515C-CBD7-47A9-8A63-F636167C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324-2932-41E4-BC91-935BFFB9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B98-1E12-494C-82BB-75EDF642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2C7-B1E2-40DF-9F86-F87353C0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5B9-0C14-426C-A391-B5E9C503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373-968E-460C-8545-2FE2F35E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94F-3A7E-4E94-BBB5-C3035410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5B25-492D-44E8-A0A9-46D18D78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5156-DFB3-401B-9BB6-A781563D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042-9A3C-4BDF-AFE9-D8B36D86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5FF-7C6C-437D-A6EE-7DE5E7E4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THE WORLD'S POPULATION ACCESSES THE INTERNET DA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WEBCAM WAS OF A COFFEE MAKER TO ENSURE THAT NO TRIPS WERE MADE TO AN EMPTY P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USING A COMPUTER, PEOPLE BLINK 1/3 AS OFTEN AS NOR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5920" y="762120"/>
            <a:ext cx="8372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COMPUTER BUG" CAME FROM A MOTH STUCK IN THE RELAY OF AN EARLY COMPU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90640" y="762120"/>
            <a:ext cx="73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COMPUTER MOUSE WAS MADE OF GL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1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IGHTS IN PHILADELPHIA WOULD DIM WHEN ONE OF THE FIRST COMPUTERS LOCATED THERE WAS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30280" y="762120"/>
            <a:ext cx="628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OF ALL EMAILS ARE SP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26920" y="762120"/>
            <a:ext cx="749016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PPLE, HP, AND MICROSOFT WERE ALL STARTED IN A GA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DE THE PREDICTION "COMPUTERS IN THE FUTURE MAY WEIGH NO MORE THAN 3000 P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USING A COMPUTER, PEOPLE BLINK 1/3 AS OFTEN AS NOR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1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T WAS "00000000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ASSWORD FOR LAUNCHING NUCLEAR MISSILES WAS "PASSWORD" FOR 8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THE WORLD'S POPULATION ACCESSES THE INTERNET DA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WEBCAM WAS OF A COFFEE MAKER TO ENSURE THAT NO TRIPS WERE MADE TO AN EMPTY P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COMPUTER BUG" CAME FROM A MOTH STUCK IN THE RELAY OF AN EARLY COMPU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COMPUTER MOUSE WAS MADE OF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11280" y="762120"/>
            <a:ext cx="7920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IGHTS IN PHILADELPHIA WOULD DIM WHEN ONE OF THE FIRST COMPUTERS LOCATED THERE WAS 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66920" y="761760"/>
            <a:ext cx="640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OF ALL EMAILS ARE SP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PPLE, HP, AND MICROSOFT WERE ALL STARTED IN A GA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DE THE PREDICTION "COMPUTERS IN THE FUTURE MAY WEIGH NO MORE THAN 3000 POU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ASSWORD FOR LAUNCHING NUCLEAR MISSILES WAS "PASSWORD" FOR 8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1:49Z</dcterms:modified>
  <cp:revision>365</cp:revision>
  <dc:subject/>
  <dc:title>Slide 1</dc:title>
</cp:coreProperties>
</file>