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347-BB1B-44A2-B26E-EEDD6F6C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A8E-768F-436C-AFCC-28FF31AE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BF44-D681-4067-99C4-C9A2D443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C1F-7158-46FF-A6EF-B1DD2426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82B7-E849-4C7D-9D9C-2590BA287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291-D8D9-453F-B859-1BDCEA58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A11-25B5-4100-A988-98B9A7DC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1AD2-3235-4EF9-8E4E-7F8B85B8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959-F5A7-4F69-9D39-43E9FC38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60DB-C30A-4379-8F58-02C6E608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63A8-3934-4716-98CD-46241894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DF49-C6FF-44F4-ADEF-ADF19483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FCE-76DD-4B88-A0FB-61D9E161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2F0A-3016-4C5E-9292-ECE052F68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F96-6240-47F2-BAE0-1AFA05C9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2C7-43FC-44BE-8522-5F5B1FFE3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7BB-58BD-4EAD-860E-C52CCE22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C9F0-C8F4-4C73-BB8D-C8945507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6457-EE03-4C6F-9F80-259BEDA3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CCB-5B15-4B2C-88C8-5D5A3CB61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D681-4E63-4F2A-A66E-F0315089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BD3F-ED7E-4361-B974-546D357F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CC9-6146-453B-A8CE-C482FB8E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080" y="76176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542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03320" y="762120"/>
            <a:ext cx="713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47640" y="765000"/>
            <a:ext cx="784872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DIVER WAS SCOOPED UP BY A FIREFIGHTING PLANE PICKING UP WATER TO DUMP ON A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685440"/>
            <a:ext cx="803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762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19240" y="761760"/>
            <a:ext cx="870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 DIVER WAS SCOOPED UP BY A FIREFIGHTING PLANE PICKING UP WATER TO DUMP ON A F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7:31:44Z</dcterms:created>
  <dc:creator>Jennifer Budzinski</dc:creator>
  <dc:description/>
  <dc:language>en-US</dc:language>
  <cp:lastModifiedBy>Erich Friedman</cp:lastModifiedBy>
  <dcterms:modified xsi:type="dcterms:W3CDTF">2020-08-26T19:02:58Z</dcterms:modified>
  <cp:revision>349</cp:revision>
  <dc:subject/>
  <dc:title>Slide 1</dc:title>
</cp:coreProperties>
</file>