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F1E-CBF1-4982-8681-079B11F4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CDA7-A57E-4B75-B760-B3441703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22FD-720D-4E63-B9C0-0D49A987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8F07-9F7B-4C81-9C55-1B7CB8B10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1F94-4C86-424E-9655-5E72AF6B4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7D47-C3FD-4032-B093-56A6303CC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BDBC-F3CA-4B1D-833D-8BF345A67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2198-BF11-4442-BE8E-A2CAC1E2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625D-B052-4EB1-B2EA-F19503E0D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7390-4E52-479E-B796-D4F2CDD1C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B9F4-F405-4C8C-8E13-36BB7261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1C17-1F6A-4F09-A9C7-F478AC676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ACAB-8238-4267-8109-06406BD6B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366E-7A0C-4C0B-AFE7-598067BE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935-2252-4D9B-9BA3-C9548D4BF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922C-BE7F-484E-ADDC-7D9370B5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6D82-EC75-4E24-B517-DA926DE2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9CAA6-9F34-4E9D-B6AD-E0BCA83FD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7A5-DDB6-4029-AD98-42B2B556D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1750-A535-4F31-8CD7-B719564C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FAD-DB68-4DBB-9F22-DDC33C1C1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F32D-AA5C-4977-8683-0E2484387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6DA0-4EA0-489B-A712-11EDB3B91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6080" y="761760"/>
            <a:ext cx="90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48765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542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03320" y="762120"/>
            <a:ext cx="713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47640" y="765000"/>
            <a:ext cx="784872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DIVER WAS SCOOPED UP BY A FIREFIGHTING PLANE PICKING UP WATER TO DUMP ON A F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685440"/>
            <a:ext cx="803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TTY WHITE IS OLDER THAN COMMERCIALLY AVAILABLE SLICED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762120"/>
            <a:ext cx="8991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EXPRESSION "RULE OF THUMB" ORIGINATED FROM AN OLD BRITISH LAW ALLOWING A MAN TO BEAT HIS WIFE WITH A STICK NO THICKER THAN HIS THUM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OTHER PLANETS WOULD FIT BETWEEN THE EARTH AND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 THE GOLD IN THE WORLD WOULD FIT INSIDE AN OLYMPIC SWIMMING P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MORE PLASTIC FLAMINGOS IN THE WORLD THAN REAL 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AN ONCE ATE AN ENTIRE AIR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 HAS LIVING GRAND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 SATURN, IT RAINS DIAM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19240" y="761760"/>
            <a:ext cx="870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SCUBA  DIVER WAS SCOOPED UP BY A FIREFIGHTING PLANE PICKING UP WATER TO DUMP ON A F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WINKIES HAVE A SHELF LIFE OF OVE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7:31:44Z</dcterms:created>
  <dc:creator>Jennifer Budzinski</dc:creator>
  <dc:description/>
  <dc:language>en-US</dc:language>
  <cp:lastModifiedBy>Erich Friedman</cp:lastModifiedBy>
  <dcterms:modified xsi:type="dcterms:W3CDTF">2020-08-26T19:02:58Z</dcterms:modified>
  <cp:revision>349</cp:revision>
  <dc:subject/>
  <dc:title>Slide 1</dc:title>
</cp:coreProperties>
</file>