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279-4037-4C26-852D-CC806DF4C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5E18-6D0E-430F-9B92-D809D6D4C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FBD1-A66A-423C-95A8-1AD36935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E4D9-77B9-4153-B21A-03A3F85C7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A057-B1E5-4892-AEEE-1437E5EF0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3A3D-0936-40C2-A0E8-09282861B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EB79-02F1-4449-8DA8-DA2EBBF2F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2ED-8127-4D61-9229-9BDACAAE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1DA5-D586-4908-94E9-D4BC9461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968D-A6F4-4FBC-B6B6-BAC62B2F5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915-F9BA-4DDE-99D6-F76D645B4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4C40-7221-4127-B058-C49A87BAC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A7CC-3479-4BAE-BB3D-53CB29E1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F5BA-9173-41CC-A5F4-5BAE3BFA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45B-50F4-40EB-9791-EDEDDFF0D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6C34-ADD2-43DE-B501-25DC46C1F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282-321B-428B-9055-AFBCB6C4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22B4-F629-4393-81F4-D8ADCBBB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039F-67DE-4DF8-A607-BD42231A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DF6C-E774-4582-BC5C-0332B75B5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01B3-BDA5-4B8E-A962-60C172DFF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C554-E64B-4E67-B358-AEC0B2BD1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EB8E-AC35-44BC-BC46-09B3EE40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6080" y="76176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EXPRESSION "RULE OF THUMB" ORIGINATED FROM AN OLD BRITISH LAW ALLOWING A MAN TO BEAT HIS WIFE WITH A STICK NO THICKER THAN HIS THUMB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OTHER PLANETS WOULD FIT BETWEEN THE EARTH AND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876560" cy="24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6720" y="762120"/>
            <a:ext cx="7810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TTY WHITE IS OLDER THAN COMMERCIALLY AVAILABLE SLICED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GOLD IN THE WORLD WOULD FIT INSIDE AN OLYMPIC SWIMMING P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542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MORE PLASTIC FLAMINGOS IN THE WORLD THAN REAL 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AN ONCE ATE AN ENTIRE AIR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03320" y="762120"/>
            <a:ext cx="7137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HAS LIVING GRAND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47640" y="765000"/>
            <a:ext cx="784872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 SATURN, IT RAINS DIAM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SCUBA DIVER WAS SCOOPED UP BY A FIREFIGHTING PLANE PICKING UP WATER TO DUMP ON A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2600" y="685440"/>
            <a:ext cx="803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TTY WHITE IS OLDER THAN COMMERCIALLY AVAILABLE SLICED B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WINKIES HAVE A SHELF LIFE OF OVER 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76320" y="762120"/>
            <a:ext cx="8991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EXPRESSION "RULE OF THUMB" ORIGINATED FROM AN OLD BRITISH LAW ALLOWING A MAN TO BEAT HIS WIFE WITH A STICK NO THICKER THAN HIS THUM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OTHER PLANETS WOULD FIT BETWEEN THE EARTH AND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GOLD IN THE WORLD WOULD FIT INSIDE AN OLYMPIC SWIMMING P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MORE PLASTIC FLAMINGOS IN THE WORLD THAN REAL 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AN ONCE ATE AN ENTIRE AIR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HAS LIVING GRAND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 SATURN, IT RAINS DIAM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19240" y="761760"/>
            <a:ext cx="870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SCUBA  DIVER WAS SCOOPED UP BY A FIREFIGHTING PLANE PICKING UP WATER TO DUMP ON A F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WINKIES HAVE A SHELF LIFE OF OVER 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7:31:44Z</dcterms:created>
  <dc:creator>Jennifer Budzinski</dc:creator>
  <dc:description/>
  <dc:language>en-US</dc:language>
  <cp:lastModifiedBy>Erich Friedman</cp:lastModifiedBy>
  <dcterms:modified xsi:type="dcterms:W3CDTF">2020-08-26T19:02:58Z</dcterms:modified>
  <cp:revision>349</cp:revision>
  <dc:subject/>
  <dc:title>Slide 1</dc:title>
</cp:coreProperties>
</file>