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46DF-E28F-4898-91B2-A824CEF5E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BD4A-9DB4-4300-85E5-3E6286984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83DC-4BA2-4C43-B57C-A27740F1C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705C-85D8-4032-98B4-E6FF98036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DFCA-4948-4D1D-B741-850B53E68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2B61-D1BA-419D-B4CC-2FE020C81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89DA-34AD-48BC-A244-DA51C50A9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D967-283E-4FA2-B118-80EF4FD3D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CF28-D412-45C2-957E-1E34D319E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6390-910A-486E-B59D-06C56D480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B7E2-6F2E-4699-82AC-0A56D8D09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01A8-424B-40AA-BAB5-C9CCE3790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C6D4-B609-42CC-B7E1-7834575AB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E1C3-6B2D-4883-B6F8-9E40F34B5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B464-C997-4560-91DD-1A40DFCB4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801F-F1DC-4FBA-9A31-6B50DA61F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E403-A4A1-4753-95D5-A55E26152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C2F6-DA25-4339-9984-35FCDA152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75B2-64E7-42BD-A6EE-D36F3E174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246B-3944-495E-A2C2-4ACF2E530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5063-70B4-45BD-AE3C-E149383F2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D15C-E64A-462E-B822-7422220FB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A656-7183-435E-92AC-ADBAF05BF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066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ND NAME ORIGINS TRUE /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"KISS" WAS CHOSEN BECAUSE ONE OF THE MEMBERS OF THE BAND PREVIOUSLY PLAYED IN A BAND NAMED "LIP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09520" y="762120"/>
            <a:ext cx="8724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LED ZEPPELIN" WAS CHOSEN BECAUSE THE MEMBERS FEARED THEIR NEW BAND WOULD GO OVER LIKE A LEAD BALL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0060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BAD COMPANY" WAS NAMED AFTER THE NAME OF A 1972 JEFF BRIDGES WESTERN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"THE BEATLES" WAS INSPIRED BY THE CRICKETS, THE BACKUP BAND FOR BUDDY HO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74640" y="762120"/>
            <a:ext cx="779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OB DYLAN CHOSE THAT PSEUDONYM BECAUSE HE WAS A FAN OF MATT DILLON, THE SHERIFF ON "GUNSMOK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9160" y="762120"/>
            <a:ext cx="8905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STEPHEN STILLS CHOSE "BUFFALO SPRINGFIELD" BECAUSE HE WAS BORN IN A SMALL TOWN NEAR BUFFALO AND SPRINGFIE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71440" y="762120"/>
            <a:ext cx="859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"FOREIGNER" WAS CHOSEN BECAUSE THEY WERE 3 BRITS AND 3 AMERICANS, SO HALF OF THEM WOULD BE FOREIGNERS WHEREVER THEY PLAY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26920" y="762120"/>
            <a:ext cx="7490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GOLDEN EARRING" WAS NAMED FOR A SONG SUNG BY THE BAND FOR WHICH THEY USED TO O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85840" y="762120"/>
            <a:ext cx="8572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JETHRO TULL" WAS NAMED AFTER THE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MAN WHO INVENTED THE HORSE-DRAWN HO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BAD COMPANY" WAS NAMED AFTER THE NAME OF A 1972 JEFF BRIDGES WESTERN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"JOURNEY" WAS THE WINNER OF A RADIO CONTEST TO NAME THE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"KISS" WAS CHOSEN BECAUSE ONE OF THE MEMBERS OF THE BAND PREVIOUSLY PLAYED IN A BAND NAMED "LIP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92240" y="762120"/>
            <a:ext cx="8799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LED ZEPPELIN" WAS CHOSEN BECAUSE THE MEMBERS FEARED THEIR NEW BAND WOULD GO OVER LIKE A LEAD BALL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6200" y="761760"/>
            <a:ext cx="7851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"THE BEATLES" WAS INSPIRED BY THE CRICKETS, THE BACKUP BAND FOR BUDDY HO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1120" y="762120"/>
            <a:ext cx="778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OB DYLAN CHOSE THAT PSEUDONYM BECAUSE HE WAS A FAN OF MATT DILLON, THE SHERIFF ON "GUNSMOK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6840" y="762120"/>
            <a:ext cx="895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STEPHEN STILLS CHOSE "BUFFALO SPRINGFIELD" BECAUSE HE WAS BORN IN A SMALL TOWN NEAR BUFFALO AND SPRINGFIE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"FOREIGNER" WAS CHOSEN BECAUSE THEY WERE 3 BRITS AND 3 AMERICANS, SO HALF OF THEM WOULD BE FOREIGNERS WHEREVER THEY PLAY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76160" y="761760"/>
            <a:ext cx="759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GOLDEN EARRING" WAS NAMED FOR A SONG SUNG BY THE BAND FOR WHICH THEY USED TO OP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39760" y="761760"/>
            <a:ext cx="8663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JETHRO TULL" WAS NAMED AFTER THE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MAN WHO INVENTED THE HORSE-DRAWN HO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30200" y="761760"/>
            <a:ext cx="828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"JOURNEY" WAS THE WINNER OF A RADIO CONTEST TO NAME THE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0-08-26T19:03:45Z</dcterms:modified>
  <cp:revision>368</cp:revision>
  <dc:subject/>
  <dc:title>Slide 1</dc:title>
</cp:coreProperties>
</file>