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3B65-632E-42A5-83E2-B32297EB4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4EAD-1844-46CB-8360-C209654F3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4B64-1BF2-401B-9439-EF1CC9D60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50CD-15AD-4B03-8866-0F4CDAE1F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EC9A-7843-4DC0-9965-81755C7DA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A665-644F-48A7-AB1A-C392A9913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A57A-BBAE-4BC8-8483-7A7786CCA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F5C2-E195-405B-8777-2BB826B5C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C572-1714-4F63-A03B-C9ABF9C85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222A-C73E-4901-B7EA-D4192D912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E013-2005-45A5-9666-4FB912390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93ED-331C-49AD-9882-CF05C2F8D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266F-7293-42EB-93FD-F8FB71CD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C51E-5306-4512-BE60-F0B4EB0FC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2A43-0FB6-462C-827F-8DF555760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0216-A529-47D9-AE78-DAE317711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2710-9714-4998-A0D0-F57FB059F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AF34-064F-45D3-8A32-33BFA1C1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398E-9A10-401A-A99B-BBE4A786C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3C39-AD22-4444-B4C2-CCDA4A88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B997-E11D-444C-AF86-0249F8E22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834A-81E2-49F9-8FA3-712377CA7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9AE2-66F2-4469-932E-EE609D2B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ND NAME ORIGINS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KISS" WAS CHOSEN BECAUSE ONE OF THE MEMBERS OF THE BAND PREVIOUSLY PLAYED IN A BAND NAMED "LIP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LED ZEPPELIN" WAS CHOSEN BECAUSE THE MEMBERS FEARED THEIR NEW BAND WOULD GO OVER LIKE A LEAD BALL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BAD COMPANY" WAS NAMED AFTER THE NAME OF A 1972 JEFF BRIDGES WESTER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THE BEATLES" WAS INSPIRED BY THE CRICKETS, THE BACKUP BAND FOR BUDDY HO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74640" y="762120"/>
            <a:ext cx="779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DYLAN CHOSE THAT PSEUDONYM BECAUSE HE WAS A FAN OF MATT DILLON, THE SHERIFF ON "GUNSMO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9160" y="762120"/>
            <a:ext cx="890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TEPHEN STILLS CHOSE "BUFFALO SPRINGFIELD" BECAUSE HE WAS BORN IN A SMALL TOWN NEAR BUFFALO AND SPRING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71440" y="762120"/>
            <a:ext cx="859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"FOREIGNER" WAS CHOSEN BECAUSE THEY WERE 3 BRITS AND 3 AMERICANS, SO HALF OF THEM WOULD BE FOREIGNERS WHEREVER THEY PLAY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26920" y="762120"/>
            <a:ext cx="749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GOLDEN EARRING" WAS NAMED FOR A SONG SUNG BY THE BAND FOR WHICH THEY USED TO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85840" y="762120"/>
            <a:ext cx="857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JETHRO TULL" WAS NAMED AFTER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MAN WHO INVENTED THE HORSE-DRAWN H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BAD COMPANY" WAS NAMED AFTER THE NAME OF A 1972 JEFF BRIDGES WESTERN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JOURNEY" WAS THE WINNER OF A RADIO CONTEST TO NAME THE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KISS" WAS CHOSEN BECAUSE ONE OF THE MEMBERS OF THE BAND PREVIOUSLY PLAYED IN A BAND NAMED "LIP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92240" y="762120"/>
            <a:ext cx="8799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LED ZEPPELIN" WAS CHOSEN BECAUSE THE MEMBERS FEARED THEIR NEW BAND WOULD GO OVER LIKE A LEAD BALL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THE BEATLES" WAS INSPIRED BY THE CRICKETS, THE BACKUP BAND FOR BUDDY HO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1120" y="762120"/>
            <a:ext cx="778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DYLAN CHOSE THAT PSEUDONYM BECAUSE HE WAS A FAN OF MATT DILLON, THE SHERIFF ON "GUNSMO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6840" y="762120"/>
            <a:ext cx="895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TEPHEN STILLS CHOSE "BUFFALO SPRINGFIELD" BECAUSE HE WAS BORN IN A SMALL TOWN NEAR BUFFALO AND SPRINGFI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"FOREIGNER" WAS CHOSEN BECAUSE THEY WERE 3 BRITS AND 3 AMERICANS, SO HALF OF THEM WOULD BE FOREIGNERS WHEREVER THEY PLAY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GOLDEN EARRING" WAS NAMED FOR A SONG SUNG BY THE BAND FOR WHICH THEY USED TO OP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39760" y="761760"/>
            <a:ext cx="866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JETHRO TULL" WAS NAMED AFTER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MAN WHO INVENTED THE HORSE-DRAWN H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JOURNEY" WAS THE WINNER OF A RADIO CONTEST TO NAME THE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9:03:45Z</dcterms:modified>
  <cp:revision>368</cp:revision>
  <dc:subject/>
  <dc:title>Slide 1</dc:title>
</cp:coreProperties>
</file>