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742B-732A-4713-A002-78DEC5A53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DA5C-367E-4F52-80BC-A99A606BB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C328-0CB6-4D41-B0DC-842A86F93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95A3-B5E8-4132-87CE-DC63B4238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C8A3-2BF4-4B44-872F-42FE25151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710C-E25C-4198-81E0-5B1F5FA8B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F700-9F5B-42C6-847F-C957F6D66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5C46-E433-46E4-8074-31A080208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724B-609C-40CC-A4C5-9C0EBA99E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C2D4-7734-43D2-B2E9-FC4BC0016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12C9-2E5E-40BF-AC79-F693D2E10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61AB-69DD-479D-98B5-0C88E0FAE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962B-F2AA-493C-B385-E2E9400AB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A0A2-60CB-4177-B059-7C19A45E8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17EA-909B-4738-9B97-898553C11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06B2-F054-4A9D-A103-375782724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1A31-A450-4EB3-A99A-AC9FAE238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F2C8-AC92-4AD5-8211-EC7D11F55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3BED-9C51-4521-9A0D-C43C00BFA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2AA2-46F9-4006-A1E7-D3CDD25EA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3C04-1AEA-458A-BD6E-15717067A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D127-A010-4D2A-BF2E-F16372BD7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F29B-BC43-4163-9904-8E3499C3E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066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ND NAME ORIGINS TRUE / 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"KISS" WAS CHOSEN BECAUSE ONE OF THE MEMBERS OF THE BAND PREVIOUSLY PLAYED IN A BAND NAMED "LIP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09520" y="762120"/>
            <a:ext cx="8724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LED ZEPPELIN" WAS CHOSEN BECAUSE THE MEMBERS FEARED THEIR NEW BAND WOULD GO OVER LIKE A LEAD BALL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0060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BAD COMPANY" WAS NAMED AFTER THE NAME OF A 1972 JEFF BRIDGES WESTERN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"THE BEATLES" WAS INSPIRED BY THE CRICKETS, THE BACKUP BAND FOR BUDDY HO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74640" y="762120"/>
            <a:ext cx="779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OB DYLAN CHOSE THAT PSEUDONYM BECAUSE HE WAS A FAN OF MATT DILLON, THE SHERIFF ON "GUNSMOK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9160" y="762120"/>
            <a:ext cx="8905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STEPHEN STILLS CHOSE "BUFFALO SPRINGFIELD" BECAUSE HE WAS BORN IN A SMALL TOWN NEAR BUFFALO AND SPRINGFIE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71440" y="762120"/>
            <a:ext cx="859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"FOREIGNER" WAS CHOSEN BECAUSE THEY WERE 3 BRITS AND 3 AMERICANS, SO HALF OF THEM WOULD BE FOREIGNERS WHEREVER THEY PLAY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26920" y="762120"/>
            <a:ext cx="7490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GOLDEN EARRING" WAS NAMED FOR A SONG SUNG BY THE BAND FOR WHICH THEY USED TO O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85840" y="762120"/>
            <a:ext cx="8572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JETHRO TULL" WAS NAMED AFTER THE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MAN WHO INVENTED THE HORSE-DRAWN HO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BAD COMPANY" WAS NAMED AFTER THE NAME OF A 1972 JEFF BRIDGES WESTERN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"JOURNEY" WAS THE WINNER OF A RADIO CONTEST TO NAME THE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"KISS" WAS CHOSEN BECAUSE ONE OF THE MEMBERS OF THE BAND PREVIOUSLY PLAYED IN A BAND NAMED "LIP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92240" y="762120"/>
            <a:ext cx="8799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LED ZEPPELIN" WAS CHOSEN BECAUSE THE MEMBERS FEARED THEIR NEW BAND WOULD GO OVER LIKE A LEAD BALL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6200" y="761760"/>
            <a:ext cx="7851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"THE BEATLES" WAS INSPIRED BY THE CRICKETS, THE BACKUP BAND FOR BUDDY HO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1120" y="762120"/>
            <a:ext cx="7780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OB DYLAN CHOSE THAT PSEUDONYM BECAUSE HE WAS A FAN OF MATT DILLON, THE SHERIFF ON "GUNSMOK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6840" y="762120"/>
            <a:ext cx="895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STEPHEN STILLS CHOSE "BUFFALO SPRINGFIELD" BECAUSE HE WAS BORN IN A SMALL TOWN NEAR BUFFALO AND SPRINGFIE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"FOREIGNER" WAS CHOSEN BECAUSE THEY WERE 3 BRITS AND 3 AMERICANS, SO HALF OF THEM WOULD BE FOREIGNERS WHEREVER THEY PLAY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76160" y="761760"/>
            <a:ext cx="759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GOLDEN EARRING" WAS NAMED FOR A SONG SUNG BY THE BAND FOR WHICH THEY USED TO OP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39760" y="761760"/>
            <a:ext cx="8663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JETHRO TULL" WAS NAMED AFTER THE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MAN WHO INVENTED THE HORSE-DRAWN HO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30200" y="761760"/>
            <a:ext cx="828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"JOURNEY" WAS THE WINNER OF A RADIO CONTEST TO NAME THE 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0-08-26T19:03:45Z</dcterms:modified>
  <cp:revision>368</cp:revision>
  <dc:subject/>
  <dc:title>Slide 1</dc:title>
</cp:coreProperties>
</file>