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FCD3-8F26-4705-BF31-4B6C3A887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322F-F0D6-4EDA-8235-C2DB65E67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5981-5C5B-44A9-B2AE-A4463BAFC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96BA-3BB3-4F54-9897-009FD4230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6038-7B35-42B5-B77F-4FD33364C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37D7-62A9-433D-A699-0141843CE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1D24-4712-4C58-91EE-CA0DB4F17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7950-40AB-44CE-85CE-996A53D95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8D17-4D8B-4F68-ACF4-F4B61DB3B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7817-2E11-4270-B50C-6C880F01E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2245-73EB-45CD-9984-24CF69776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2513-08CD-417F-B7BD-266C99CFC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47EA-442E-4EA7-A8A3-49CF15DAB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0F2A-E451-4DD9-8592-F0B239837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BC69-97D1-4356-AF15-546CF2F1E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EB14-D948-4FFB-9DF7-311A05187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1909-F50D-41FE-A152-B8CAB15E9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AA5E-AFC3-430D-9385-07F373620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244D-960D-4741-86FC-62F996CD2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9D30-9906-4F1F-8C6C-226DA2512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C759-B13E-4534-9392-5AF33BCE8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036B-6062-4962-8828-2DC6FE86A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993E-AED3-488D-8DA9-8A2F3ECCE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SSIA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 PRODUCES MORE OIL THAN ANY OTHER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76120" y="762120"/>
            <a:ext cx="8591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NS WEAR THEIR WEDDING RINGS ON THEIR RIGHT H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6600" y="762120"/>
            <a:ext cx="7930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RUSSIA, IT IS CONSIDERED RUDE TO GIVE SOMEONE AN EVEN NUMBER OF FLO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92240" y="762120"/>
            <a:ext cx="8758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NS DRINK THE MOST ALCOHOL OF ANY COUNTRY PER CAPI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17400" y="762120"/>
            <a:ext cx="790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SCOW  IS HOME TO MORE BILLIONAIRES THAN ANY OTHER CIT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85840" y="76212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RUSSIAN TEAM WAS 12 DAYS LATE SHOWING UP FOR THE 1908 OLYMPICS BECAUSE THEY WERE STILL   USING THE JULIAN CALEND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HILE MORE THAN ¾ OF RUSSIA'S LAND IS IN ASIA, MORE THAN ¾ OF RUSSIA'S POPULATION LIVES IN EU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90400" y="762120"/>
            <a:ext cx="796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RAFFIC IN MOSCOW IS SO BAD THAT BILLIONAIRES HIRE FAKE AMBULANCES TO GET    THEM THROUGH TRAFF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28680" y="762120"/>
            <a:ext cx="8486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 AND JAPAN HAVE NOT YET SIGNED A PEACE TREATY ENDING WWII, BECAUSE OF A DISPUTE OVER SOME IS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39360" y="762120"/>
            <a:ext cx="7862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RUSSIA, IT IS CONSIDERED RUDE TO GIVE SOMEONE AN EVEN NUMBER OF FLO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3 MOST POPULAR SPORTS IN RUSSIA ARE SOCCER, HOCKEY, AND SPEED SK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66720" y="762120"/>
            <a:ext cx="7810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 PRODUCES MORE OIL THAN ANY OTHER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NS WEAR THEIR WEDDING RINGS ON THEIR RIGHT H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NS DRINK THE MOST ALCOHOL OF ANY COUNTRY PER CAPI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17400" y="762120"/>
            <a:ext cx="790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SCOW  IS HOME TO MORE BILLIONAIRES THAN ANY OTHER CIT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54160" y="762120"/>
            <a:ext cx="8635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RUSSIAN TEAM WAS 12 DAYS LATE SHOWING UP FOR THE 1908 OLYMPICS BECAUSE THEY WERE STILL   USING THE JULIAN CALEND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2960" y="761760"/>
            <a:ext cx="7858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HILE MORE THAN ¾ OF RUSSIA'S LAND IS IN ASIA, MORE THAN ¾ OF RUSSIA'S POPULATION LIVES IN EUR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RAFFIC IN MOSCOW IS SO BAD THAT BILLIONAIRES HIRE FAKE AMBULANCES TO GET    THEM THROUGH TRAFF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 AND JAPAN HAVE NOT YET SIGNED A PEACE TREATY ENDING WWII, BECAUSE OF A DISPUTE OVER SOME ISL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92200" y="761760"/>
            <a:ext cx="7958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3 MOST POPULAR SPORTS IN RUSSIA ARE SOCCER, HOCKEY, AND SPEED SKA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9:04:27Z</dcterms:modified>
  <cp:revision>367</cp:revision>
  <dc:subject/>
  <dc:title>Slide 1</dc:title>
</cp:coreProperties>
</file>