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DF6B-B922-476A-9DBA-E176160D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2666-6D7A-4534-AF68-ED615C25C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560-0E90-4504-A6D4-655A4197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3A7C-BEB4-4441-BD78-835A2A02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663-5E69-439B-A722-CB9DBDD6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DB3D-2EBC-4EC2-96FC-5BBE64F9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2D1-A701-49F9-8C4A-97D9E4D4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AD4F-4353-4563-8A2D-C4A3BF4F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2EFC-769C-441F-A1DA-694C66C19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FBC-2BA2-4FB0-BBC3-EA0F8438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8BBC-3A1B-4011-A854-3209290C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8D5-D04B-473A-AE95-D0F70B06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F8EB-8953-43A6-9C80-F0420517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8F0-8EEE-4143-84C7-3B8347E9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D879-6DE8-4B4C-9302-168D9352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AB9-E61D-4595-BEDC-99FDCA5B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4B39-5D56-4A13-8C3C-F29E2381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42A-B836-4CB4-B2DC-6B21DEE2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E177-8512-47A5-8871-D43FFF40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F50A-7DBE-4CC7-8405-17EE1FC4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6998-885E-4987-9DCD-A27DB3D0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E6BB-AC4E-40FF-82CC-894D759BA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6F3A-E776-44A4-9F47-B6944575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PRODUCES MORE OIL THAN ANY 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6120" y="762120"/>
            <a:ext cx="859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WEAR THEIR WEDDING RINGS ON THEIR RIGHT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6600" y="762120"/>
            <a:ext cx="793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RUSSIA, IT IS CONSIDERED RUDE TO GIVE SOMEONE AN EVEN NUMBER OF FL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DRINK THE MOST ALCOHOL OF ANY COUNTRY PER CAPI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SCOW  IS HOME TO MORE BILLIONAIRES THAN ANY OTHER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RUSSIAN TEAM WAS 12 DAYS LATE SHOWING UP FOR THE 1908 OLYMPICS BECAUSE THEY WERE STILL   USING THE JULIAN CALEND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ILE MORE THAN ¾ OF RUSSIA'S LAND IS IN ASIA, MORE THAN ¾ OF RUSSIA'S POPULATION LIVES I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AFFIC IN MOSCOW IS SO BAD THAT BILLIONAIRES HIRE FAKE AMBULANCES TO GET    THEM THROUGH TRAFF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8680" y="762120"/>
            <a:ext cx="84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AND JAPAN HAVE NOT YET SIGNED A PEACE TREATY ENDING WWII, BECAUSE OF A DISPUTE OVER SOME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9360" y="762120"/>
            <a:ext cx="7862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RUSSIA, IT IS CONSIDERED RUDE TO GIVE SOMEONE AN EVEN NUMBER OF FL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3 MOST POPULAR SPORTS IN RUSSIA ARE SOCCER, HOCKEY, AND SPEED SK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PRODUCES MORE OIL THAN ANY 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WEAR THEIR WEDDING RINGS ON THEIR RIGHT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DRINK THE MOST ALCOHOL OF ANY COUNTRY PER CAPI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SCOW  IS HOME TO MORE BILLIONAIRES THAN ANY OTHER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4160" y="762120"/>
            <a:ext cx="863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RUSSIAN TEAM WAS 12 DAYS LATE SHOWING UP FOR THE 1908 OLYMPICS BECAUSE THEY WERE STILL   USING THE JULIAN CALEND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2960" y="761760"/>
            <a:ext cx="7858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ILE MORE THAN ¾ OF RUSSIA'S LAND IS IN ASIA, MORE THAN ¾ OF RUSSIA'S POPULATION LIVES IN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AFFIC IN MOSCOW IS SO BAD THAT BILLIONAIRES HIRE FAKE AMBULANCES TO GET    THEM THROUGH TRAFF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AND JAPAN HAVE NOT YET SIGNED A PEACE TREATY ENDING WWII, BECAUSE OF A DISPUTE OVER SOME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3 MOST POPULAR SPORTS IN RUSSIA ARE SOCCER, HOCKEY, AND SPEED SK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4:27Z</dcterms:modified>
  <cp:revision>367</cp:revision>
  <dc:subject/>
  <dc:title>Slide 1</dc:title>
</cp:coreProperties>
</file>