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8EA29-6968-4235-A6AC-C09177B090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0D77-3228-44F0-96D5-BDCF69FCC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FDDBC-2BE1-42A4-903E-681FEE129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03E5-85D8-4404-9E9C-3FE38B5B8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0650B-6A27-463D-9AC7-2593AF300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4576F-7627-47BA-A1F4-D7797622D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50AB-FC1E-46CA-AA28-4A9E251B8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18C60-C262-425E-BC27-27ECCBE32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75C6-941B-4418-BD90-594A39547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B27C-C60D-4F31-9172-6CB0443674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89CD8-2F07-4824-9A38-92E553A07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71894-B5BF-4C08-83AB-1A8A91028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CB7D-DEB9-4898-A85B-834FAFB10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6CFBB-B452-4846-8CCC-DA6DDEBEF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CAB2-B27C-4CF5-8997-D9643A5482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24E3-5A91-46A7-A557-9B8AB22D8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407F9-C840-4812-8160-99D194C7B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52E2A-E506-4D30-B8F6-D55574E50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11A9-9095-4B1B-802B-AFCCFBBB0B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9AF4-33D2-4E70-8A28-E622FBB15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8413-A9F0-4E26-9536-F34773DFD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3E96B-0974-40FB-BBB6-37A654043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3D02-604D-4E3D-925B-E94F1BDA2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874680"/>
            <a:ext cx="822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236196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874680"/>
            <a:ext cx="40158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236196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874680"/>
            <a:ext cx="26496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" name="Picture 7" descr="logo"/>
          <p:cNvPicPr/>
          <p:nvPr/>
        </p:nvPicPr>
        <p:blipFill>
          <a:blip r:embed="rId2"/>
          <a:stretch/>
        </p:blipFill>
        <p:spPr>
          <a:xfrm>
            <a:off x="3365640" y="5791320"/>
            <a:ext cx="2425680" cy="946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>
            <a:off x="12240" y="166680"/>
            <a:ext cx="292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8b1ff"/>
                </a:solidFill>
                <a:latin typeface="Harrington"/>
              </a:rPr>
              <a:t>Trivia Thurs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6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body"/>
          </p:nvPr>
        </p:nvSpPr>
        <p:spPr>
          <a:xfrm>
            <a:off x="45720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236520" indent="-236520"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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36520" indent="-236520" algn="ctr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36520" indent="-236520" algn="ct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/>
          </p:nvPr>
        </p:nvSpPr>
        <p:spPr>
          <a:xfrm>
            <a:off x="799920" y="1523880"/>
            <a:ext cx="7543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USSIA TRUE / FAL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/>
          </p:nvPr>
        </p:nvSpPr>
        <p:spPr>
          <a:xfrm>
            <a:off x="781200" y="761760"/>
            <a:ext cx="7581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 PRODUCES MORE OIL THAN ANY OTHER COUNTRY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2"/>
          <p:cNvSpPr/>
          <p:nvPr/>
        </p:nvSpPr>
        <p:spPr>
          <a:xfrm>
            <a:off x="276120" y="762120"/>
            <a:ext cx="85917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NS WEAR THEIR WEDDING RINGS ON THEIR RIGHT H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NSWERS  WILL  BE  PROVIDED  SHORTLY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3"/>
          <p:cNvSpPr/>
          <p:nvPr/>
        </p:nvSpPr>
        <p:spPr>
          <a:xfrm>
            <a:off x="1066680" y="4952880"/>
            <a:ext cx="70106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"/>
          <p:cNvSpPr/>
          <p:nvPr/>
        </p:nvSpPr>
        <p:spPr>
          <a:xfrm>
            <a:off x="606600" y="762120"/>
            <a:ext cx="79308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RUSSIA, IT IS CONSIDERED RUDE TO GIVE SOMEONE AN EVEN NUMBER OF FLOWER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"/>
          <p:cNvSpPr/>
          <p:nvPr/>
        </p:nvSpPr>
        <p:spPr>
          <a:xfrm>
            <a:off x="192240" y="762120"/>
            <a:ext cx="87580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NS DRINK THE MOST ALCOHOL OF ANY COUNTRY PER CAPIT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"/>
          <p:cNvSpPr/>
          <p:nvPr/>
        </p:nvSpPr>
        <p:spPr>
          <a:xfrm>
            <a:off x="617400" y="762120"/>
            <a:ext cx="790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SCOW  IS HOME TO MORE BILLIONAIRES THAN ANY OTHER CIT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43080" y="4952880"/>
            <a:ext cx="8458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285840" y="762120"/>
            <a:ext cx="8572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RUSSIAN TEAM WAS 12 DAYS LATE SHOWING UP FOR THE 1908 OLYMPICS BECAUSE THEY WERE STILL   USING THE JULIAN CALEND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3"/>
          <p:cNvSpPr/>
          <p:nvPr/>
        </p:nvSpPr>
        <p:spPr>
          <a:xfrm>
            <a:off x="457200" y="4952880"/>
            <a:ext cx="82296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1000"/>
          </a:bodyPr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40400" indent="-140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2"/>
          <p:cNvSpPr/>
          <p:nvPr/>
        </p:nvSpPr>
        <p:spPr>
          <a:xfrm>
            <a:off x="609480" y="762120"/>
            <a:ext cx="792504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ILE MORE THAN ¾ OF RUSSIA'S LAND IS IN ASIA, MORE THAN ¾ OF RUSSIA'S POPULATION LIVES IN EUROP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"/>
          <p:cNvSpPr/>
          <p:nvPr/>
        </p:nvSpPr>
        <p:spPr>
          <a:xfrm>
            <a:off x="590400" y="762120"/>
            <a:ext cx="79632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RAFFIC IN MOSCOW IS SO BAD THAT BILLIONAIRES HIRE FAKE AMBULANCES TO GET    THEM THROUGH TRAFFIC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1143000" y="4952880"/>
            <a:ext cx="6858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328680" y="762120"/>
            <a:ext cx="848664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 AND JAPAN HAVE NOT YET SIGNED A PEACE TREATY ENDING WWII, BECAUSE OF A DISPUTE OVER SOME ISL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639360" y="762120"/>
            <a:ext cx="786276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IN RUSSIA, IT IS CONSIDERED RUDE TO GIVE SOMEONE AN EVEN NUMBER OF FLOWER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3"/>
          <p:cNvSpPr/>
          <p:nvPr/>
        </p:nvSpPr>
        <p:spPr>
          <a:xfrm>
            <a:off x="457200" y="4952880"/>
            <a:ext cx="8229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2"/>
          <p:cNvSpPr/>
          <p:nvPr/>
        </p:nvSpPr>
        <p:spPr>
          <a:xfrm>
            <a:off x="609480" y="762120"/>
            <a:ext cx="7925040" cy="40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3 MOST POPULAR SPORTS IN RUSSIA ARE SOCCER, HOCKEY, AND SPEED SKAT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3"/>
          <p:cNvSpPr/>
          <p:nvPr/>
        </p:nvSpPr>
        <p:spPr>
          <a:xfrm>
            <a:off x="380880" y="4952880"/>
            <a:ext cx="83822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5000"/>
          </a:bodyPr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FA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2"/>
          <p:cNvSpPr/>
          <p:nvPr/>
        </p:nvSpPr>
        <p:spPr>
          <a:xfrm>
            <a:off x="666720" y="762120"/>
            <a:ext cx="78105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9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 PRODUCES MORE OIL THAN ANY OTHER COUNT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3"/>
          <p:cNvSpPr/>
          <p:nvPr/>
        </p:nvSpPr>
        <p:spPr>
          <a:xfrm>
            <a:off x="457200" y="495288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4000"/>
          </a:bodyPr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Arial"/>
              </a:rPr>
              <a:t>TR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185040" indent="-185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2"/>
          <p:cNvSpPr/>
          <p:nvPr/>
        </p:nvSpPr>
        <p:spPr>
          <a:xfrm>
            <a:off x="266760" y="762120"/>
            <a:ext cx="86104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10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NS WEAR THEIR WEDDING RINGS ON THEIR RIGHT H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/>
          </p:nvPr>
        </p:nvSpPr>
        <p:spPr>
          <a:xfrm>
            <a:off x="228600" y="7617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2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NS DRINK THE MOST ALCOHOL OF ANY COUNTRY PER CAPITA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617400" y="762120"/>
            <a:ext cx="79092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MOSCOW  IS HOME TO MORE BILLIONAIRES THAN ANY OTHER CITY IN THE WORL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254160" y="762120"/>
            <a:ext cx="8635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4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RUE OR FALSE?  THE RUSSIAN TEAM WAS 12 DAYS LATE SHOWING UP FOR THE 1908 OLYMPICS BECAUSE THEY WERE STILL   USING THE JULIAN CALENDAR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/>
          </p:nvPr>
        </p:nvSpPr>
        <p:spPr>
          <a:xfrm>
            <a:off x="642960" y="761760"/>
            <a:ext cx="78580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5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WHILE MORE THAN ¾ OF RUSSIA'S LAND IS IN ASIA, MORE THAN ¾ OF RUSSIA'S POPULATION LIVES IN EUROPE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/>
          </p:nvPr>
        </p:nvSpPr>
        <p:spPr>
          <a:xfrm>
            <a:off x="600120" y="761760"/>
            <a:ext cx="7943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6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RAFFIC IN MOSCOW IS SO BAD THAT BILLIONAIRES HIRE FAKE AMBULANCES TO GET    THEM THROUGH TRAFFIC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371520" y="761760"/>
            <a:ext cx="8400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7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RUSSIA AND JAPAN HAVE NOT YET SIGNED A PEACE TREATY ENDING WWII, BECAUSE OF A DISPUTE OVER SOME ISLAND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592200" y="761760"/>
            <a:ext cx="7958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stion 8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RUE OR FALSE?  THE 3 MOST POPULAR SPORTS IN RUSSIA ARE SOCCER, HOCKEY, AND SPEED SKATING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0T17:42:29Z</dcterms:created>
  <dc:creator>Jennifer Budzinski</dc:creator>
  <dc:description/>
  <dc:language>en-US</dc:language>
  <cp:lastModifiedBy>Erich Friedman</cp:lastModifiedBy>
  <dcterms:modified xsi:type="dcterms:W3CDTF">2020-08-26T19:04:27Z</dcterms:modified>
  <cp:revision>367</cp:revision>
  <dc:subject/>
  <dc:title>Slide 1</dc:title>
</cp:coreProperties>
</file>