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8DB9-2501-4171-9926-8E74DBAB9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0EB2-5B16-4781-8659-63B70E84D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E480-2E51-4259-8828-A06882F99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60CB-77A2-4565-90E3-D79DF22EC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CEBB-B29C-4BB2-8293-440CCF79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2806-DB3D-416D-8A2C-375FF8E84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EF4-2DD3-4D80-9A00-CE52F98A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26EE-518A-4BCA-9A67-AF2B3EE5A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C735-40E5-42CE-94AD-0432A6AE5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9408-559B-4BE9-98A0-CF82E522C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6AF4-34A2-4163-A3AF-43DBFF615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AF7C-0209-4BD7-A276-8FE8134F2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E0FF-558B-4EB4-B616-7954EA874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587-9C5E-4A33-A098-3197ED4F3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4DC1-2E0F-4A1A-ABF5-835F1D5C2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ECA-E675-4120-83E9-6D457C14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E7C0-AA08-4631-BC21-8DE216C6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2952-3129-41D7-98E3-9C6358698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AE99-1547-44F3-925B-38682E080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D1CE0-E565-4843-9B07-40FDCC81B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680E-60C6-4F19-BD48-A971F225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16FA-0CDB-4A22-992C-726380725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AC91-27A9-46A3-B88D-8CED02B07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T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1961, A HENRI MATISSE PAINTING WAS ACCIDENTALLY HUNG UPSIDE DOWN AT NYC'S MOMA FOR MORE THAN A MON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25560" y="762120"/>
            <a:ext cx="72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IST PAUL GAUGIN ONCE WORKED AS A LABORER ON THE PANAMA CA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NY ROMAN STATUES HAD DETACHABLE AND INTERCHANGEABLE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61920" y="762120"/>
            <a:ext cx="7220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 INVOLVING SPORTS WAS AN OLYMPIC EVENT  BETWEEN 1912 AND 19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36520" y="76212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NA LISA HAS HER OWN MAILBOX IN THE LOUVRE BECAUSE OF ALL THE LOVE LETTERS SHE RECE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77720" y="762120"/>
            <a:ext cx="818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ROSS DID AN ENTIRE EPISODE OF "THE JOY OF PAINTING" USING ONLY SHADES OF GRAY FOR HIS COLORBLIND VIE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0328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RANT WOOD USED HIS POSTMAN AS A MODEL FOR THE FARMER  IN "AMERICAN GOTH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AS CONVINCED HE WAS THE REINCARNATION OF HIS OLDER BROTHER SALVADOR WHO DIED BEFORE HE WAS BOR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0640" y="762120"/>
            <a:ext cx="7900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THE     LAST SUPPER" ORIGINALLY INCLUDED JESUS' FEET,   BUT THEY WERE REMOVED ACCIDENTLY BY BUIL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NY ROMAN STATUES HAD DETACHABLE AND INTERCHANGEABLE HE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EXPENSIVE PAINTING EVER SOLD COST MORE THAN HALF A BILLION DOLLA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4120" y="762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1961, A HENRI MATISSE PAINTING WAS ACCIDENTALLY HUNG UPSIDE DOWN AT NYC'S MOMA FOR MORE THAN A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IST PAUL GAUGIN ONCE WORKED AS A LABORER ON THE PANAMA CAN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T INVOLVING SPORTS WAS AN OLYMPIC EVENT  BETWEEN 1912 AND 19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36520" y="76212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NA LISA HAS HER OWN MAILBOX IN THE LOUVRE BECAUSE OF ALL THE LOVE LETTERS SHE RECE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84200" y="762120"/>
            <a:ext cx="817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ROSS DID AN ENTIRE EPISODE OF "THE JOY OF PAINTING" USING ONLY SHADES OF GRAY FOR HIS COLORBLIND VIE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RANT WOOD USED HIS POSTMAN AS A MODEL FOR THE FARMER  IN "AMERICAN GOTH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5160" y="761760"/>
            <a:ext cx="901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AS CONVINCED HE WAS THE REINCARNATION OF HIS OLDER BROTHER SALVADOR WHO DIED BEFORE HE WAS BOR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THE     LAST SUPPER" ORIGINALLY INCLUDED JESUS' FEET,   BUT THEY WERE REMOVED ACCIDENTLY BY BUIL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1120" y="761760"/>
            <a:ext cx="7781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EXPENSIVE PAINTING EVER SOLD COST MORE THAN HALF A BILLION DOLLA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9:04:57Z</dcterms:modified>
  <cp:revision>372</cp:revision>
  <dc:subject/>
  <dc:title>Slide 1</dc:title>
</cp:coreProperties>
</file>