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A554-ACDA-48FB-B832-42E3EB7C1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1982-E90B-426D-88B2-0AF76C23C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E5AE-BAA4-4040-92B6-367AB6C42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9B41-BDB2-4F06-BA8E-1B3064966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0824-9E6C-4A57-8065-22767BB42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E2DD-1C70-47D0-B49F-BA29A41AA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C435-99C5-49F8-B8BC-BC9B2DD12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52C6-EB0C-41ED-BE6D-C6944FA16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710E-5B24-4A55-94A9-A8CDC7D68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82F6-DC48-49FA-AED1-BB6C418B3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AF2A-8E70-4AE7-B15B-26CFBEFA2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87A7-ABED-4ACF-AB84-4C26B42E4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0714-CC3B-46C3-919B-E9A6A4E6A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5009-954A-466C-AE92-4D62C4610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0598-5510-499B-BACC-5DE66B27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7E39-E9D3-4238-9E38-2FCA07EF6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B224-8A9C-4F4C-97FD-D8C95F974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9280-8586-42B4-BCBA-0FDBEA3F9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6B4A-D2CF-4F50-9FE3-B3A2B1A44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3EBB-1A96-4CC2-96C4-A0BEF4A69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CF85-446F-4DC3-A66F-A08D78716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B3C4-06BE-4EB2-9DD9-320DF9155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FA97-80BE-46AC-920B-BA80B9ECE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1961, A HENRI MATISSE PAINTING WAS ACCIDENTALLY HUNG UPSIDE DOWN AT NYC'S MOMA FOR MORE THAN A MON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25560" y="762120"/>
            <a:ext cx="729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TIST PAUL GAUGIN ONCE WORKED AS A LABORER ON THE PANAMA CA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ANY ROMAN STATUES HAD DETACHABLE AND INTERCHANGEABLE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61920" y="762120"/>
            <a:ext cx="7220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T INVOLVING SPORTS WAS AN OLYMPIC EVENT  BETWEEN 1912 AND 19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36520" y="762120"/>
            <a:ext cx="867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MONA LISA HAS HER OWN MAILBOX IN THE LOUVRE BECAUSE OF ALL THE LOVE LETTERS SHE RECE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77720" y="762120"/>
            <a:ext cx="8186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OB ROSS DID AN ENTIRE EPISODE OF "THE JOY OF PAINTING" USING ONLY SHADES OF GRAY FOR HIS COLORBLIND VIE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0328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GRANT WOOD USED HIS POSTMAN AS A MODEL FOR THE FARMER  IN "AMERICAN GOTH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SALVADOR DALI WAS CONVINCED HE WAS THE REINCARNATION OF HIS OLDER BROTHER SALVADOR WHO DIED BEFORE HE WAS BOR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0640" y="762120"/>
            <a:ext cx="7900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THE     LAST SUPPER" ORIGINALLY INCLUDED JESUS' FEET,   BUT THEY WERE REMOVED ACCIDENTLY BY BUIL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2960" y="762120"/>
            <a:ext cx="7856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ANY ROMAN STATUES HAD DETACHABLE AND INTERCHANGEABLE HEA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EXPENSIVE PAINTING EVER SOLD COST MORE THAN HALF A BILLION DOLLA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4120" y="76212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1961, A HENRI MATISSE PAINTING WAS ACCIDENTALLY HUNG UPSIDE DOWN AT NYC'S MOMA FOR MORE THAN A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TIST PAUL GAUGIN ONCE WORKED AS A LABORER ON THE PANAMA CA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T INVOLVING SPORTS WAS AN OLYMPIC EVENT  BETWEEN 1912 AND 194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36520" y="762120"/>
            <a:ext cx="867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MONA LISA HAS HER OWN MAILBOX IN THE LOUVRE BECAUSE OF ALL THE LOVE LETTERS SHE RECE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84200" y="762120"/>
            <a:ext cx="817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OB ROSS DID AN ENTIRE EPISODE OF "THE JOY OF PAINTING" USING ONLY SHADES OF GRAY FOR HIS COLORBLIND VIE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GRANT WOOD USED HIS POSTMAN AS A MODEL FOR THE FARMER  IN "AMERICAN GOTH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5160" y="761760"/>
            <a:ext cx="901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SALVADOR DALI WAS CONVINCED HE WAS THE REINCARNATION OF HIS OLDER BROTHER SALVADOR WHO DIED BEFORE HE WAS BOR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4800" y="761760"/>
            <a:ext cx="793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THE     LAST SUPPER" ORIGINALLY INCLUDED JESUS' FEET,   BUT THEY WERE REMOVED ACCIDENTLY BY BUIL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1120" y="761760"/>
            <a:ext cx="7781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EXPENSIVE PAINTING EVER SOLD COST MORE THAN HALF A BILLION DOLLA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9:04:57Z</dcterms:modified>
  <cp:revision>372</cp:revision>
  <dc:subject/>
  <dc:title>Slide 1</dc:title>
</cp:coreProperties>
</file>