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DC551-0119-4538-A445-1B66A8AA3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EDFCE-7416-4A13-A738-F7EE411B9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E9ADC-2932-408E-848A-62658EB31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3506D-6A69-4FC2-9999-691C0CCD7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B088B-4FF8-4AFB-9E95-37AE447B6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83710-7FAC-4F28-BCED-19FD8FCB8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557C3-0926-46F0-AA3A-67AC01A5F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5EFF3-B3C2-4A26-AF25-4498081E8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BD8CB-F636-47F5-B373-FAF1D72E32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2E020-50C3-4439-9370-8DBF049F3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ABFC7-7BCC-4FD1-810A-C35BC4D31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FB358-5506-4757-9DF3-9755967704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9ED1F-06DF-4D5D-8498-3C1373823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5D80B-47AB-42C1-8389-FAF5E939C0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3FEDF-5425-4696-AB3C-5CB3219044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F1372-52CB-4127-8989-6E4A04B00D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81ED4-3C86-4F88-A5C0-1F8FB74C88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D8331-FE1C-4D36-A19A-6133F74E2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0B1E4-6048-42AD-809E-C9EE0DA12F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98C8B-F6B7-4CBF-A785-96F6A16EE4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D6AE8-57CE-41EF-8199-DD4BB92F76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075D4-1CF8-4A68-983C-5589ECE622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15806-B189-4BCC-B38C-946F640009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RT TRUE / FAL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52440" y="761760"/>
            <a:ext cx="8439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IN 1961, A HENRI MATISSE PAINTING WAS ACCIDENTALLY HUNG UPSIDE DOWN AT NYC'S MOMA FOR MORE THAN A MONT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925560" y="762120"/>
            <a:ext cx="72914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ARTIST PAUL GAUGIN ONCE WORKED AS A LABORER ON THE PANAMA CAN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9528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23960" y="762120"/>
            <a:ext cx="76960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MANY ROMAN STATUES HAD DETACHABLE AND INTERCHANGEABLE HEA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61920" y="762120"/>
            <a:ext cx="72201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ART INVOLVING SPORTS WAS AN OLYMPIC EVENT  BETWEEN 1912 AND 194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236520" y="762120"/>
            <a:ext cx="8670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MONA LISA HAS HER OWN MAILBOX IN THE LOUVRE BECAUSE OF ALL THE LOVE LETTERS SHE RECEIV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77720" y="762120"/>
            <a:ext cx="8186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BOB ROSS DID AN ENTIRE EPISODE OF "THE JOY OF PAINTING" USING ONLY SHADES OF GRAY FOR HIS COLORBLIND VIEW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0328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GRANT WOOD USED HIS POSTMAN AS A MODEL FOR THE FARMER  IN "AMERICAN GOTHIC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23800" y="762120"/>
            <a:ext cx="8096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E OR FALSE?  SALVADOR DALI WAS CONVINCED HE WAS THE REINCARNATION OF HIS OLDER BROTHER SALVADOR WHO DIED BEFORE HE WAS BOR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9528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20640" y="762120"/>
            <a:ext cx="7900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"THE     LAST SUPPER" ORIGINALLY INCLUDED JESUS' FEET,   BUT THEY WERE REMOVED ACCIDENTLY BY BUILD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42960" y="762120"/>
            <a:ext cx="7856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MANY ROMAN STATUES HAD DETACHABLE AND INTERCHANGEABLE HEA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47640" y="762120"/>
            <a:ext cx="7848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E OR FALSE?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OST EXPENSIVE PAINTING EVER SOLD COST MORE THAN HALF A BILLION DOLLAR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84120" y="762120"/>
            <a:ext cx="83818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IN 1961, A HENRI MATISSE PAINTING WAS ACCIDENTALLY HUNG UPSIDE DOWN AT NYC'S MOMA FOR MORE THAN A MON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914400" y="762120"/>
            <a:ext cx="7315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ARTIST PAUL GAUGIN ONCE WORKED AS A LABORER ON THE PANAMA CAN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009800" y="761760"/>
            <a:ext cx="7124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ART INVOLVING SPORTS WAS AN OLYMPIC EVENT  BETWEEN 1912 AND 194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236520" y="762120"/>
            <a:ext cx="8670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MONA LISA HAS HER OWN MAILBOX IN THE LOUVRE BECAUSE OF ALL THE LOVE LETTERS SHE RECEIV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84200" y="762120"/>
            <a:ext cx="8175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BOB ROSS DID AN ENTIRE EPISODE OF "THE JOY OF PAINTING" USING ONLY SHADES OF GRAY FOR HIS COLORBLIND VIEW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2520" y="761760"/>
            <a:ext cx="82389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GRANT WOOD USED HIS POSTMAN AS A MODEL FOR THE FARMER  IN "AMERICAN GOTHIC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5160" y="761760"/>
            <a:ext cx="9013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E OR FALSE?  SALVADOR DALI WAS CONVINCED HE WAS THE REINCARNATION OF HIS OLDER BROTHER SALVADOR WHO DIED BEFORE HE WAS BOR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04800" y="761760"/>
            <a:ext cx="7934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"THE     LAST SUPPER" ORIGINALLY INCLUDED JESUS' FEET,   BUT THEY WERE REMOVED ACCIDENTLY BY BUILD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81120" y="761760"/>
            <a:ext cx="7781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E OR FALSE?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OST EXPENSIVE PAINTING EVER SOLD COST MORE THAN HALF A BILLION DOLLAR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7:42:29Z</dcterms:created>
  <dc:creator>Jennifer Budzinski</dc:creator>
  <dc:description/>
  <dc:language>en-US</dc:language>
  <cp:lastModifiedBy>Erich Friedman</cp:lastModifiedBy>
  <dcterms:modified xsi:type="dcterms:W3CDTF">2020-08-26T19:04:57Z</dcterms:modified>
  <cp:revision>372</cp:revision>
  <dc:subject/>
  <dc:title>Slide 1</dc:title>
</cp:coreProperties>
</file>