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6F7A-8C19-473D-83E2-ADCA66ED9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407D-4594-40B1-9F59-F32D0D80A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5AD9-CA14-402A-AE3B-FDD539B7C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1ED6-28A6-4AD6-B9B0-40100B5C9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F440-4D98-453D-A6CF-2314D3E53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BD679-5E37-4E7A-AA76-8CB42EB3F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256E-9BF9-4879-BB28-1EBD54775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F5A1-85F0-4900-9B42-AB1389E10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E963-4551-4719-9F17-96A563921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1CB3-310F-42A9-9D55-7DCACFC99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2F34-BA49-4FFC-9A05-FBEF0539C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ECDF0-102A-4B14-ACA6-9EE7900E5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36BA7-0A8C-46FF-8B41-DCC0D5D8C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16D2-6226-41F5-BE04-2E52622E7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B4DD-C656-41A0-A42F-05D5C18A7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6893-9C10-434D-A677-B2E249EF9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1784-48FC-45EC-AEF2-50FE5EE42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C1E9-8948-4630-92F9-D4FDA4A6B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5551-F23F-4950-BCC1-806FF19D1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2EF1-5295-443A-BF5C-7D04E1D9D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5DC1-09E2-4638-9577-4727EC91B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6DEE-A66A-48D4-8024-D2267687E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8B20-6E69-4F28-9378-F49377E18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09640" y="761760"/>
            <a:ext cx="7524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YOU ARE MORE LIKELY TO GET A COMPUTER VIRUS FROM A RELIGIOUS WEBSITE THAN FROM A PORN SI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04640" y="762120"/>
            <a:ext cx="8332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SCIENTOLOGISTS BOUGHT AND DISMANTLED A TV NETWORK AFTER IT WAS CRITICAL OF THEIR RELIG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76160" y="762120"/>
            <a:ext cx="7591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RE HASN'T BEEN A MURDER IN THE ENTIRE COUNTRY OF LICHTENSTEIN IN THE 2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82640" y="762120"/>
            <a:ext cx="757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VIAGRA, WHEN DISSOLVED IN WATER, WILL ALSO KEEP PLANT LEAVES ERE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236520" y="771480"/>
            <a:ext cx="8670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ONE MAN DEVELOPED THE VACCINATIONS FOR HEPATITIS A &amp; B, MEASLES, MUMPS, CHICKENPOX, MENINGITIS, AND PNEUMO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5928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20640" y="773280"/>
            <a:ext cx="790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ORE THAN 100 TIMES AS MANY PEOPLE ARE KILLED BY DOGS EVERY YEAR THAN BY SHAR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JUSTIN BIEBER ONCE HELD UP A SIGN FROM HIS HOTEL ROOM WINDOW SAYING "GO TO MCDONALD’S AND GET ME A BIG MAC", AND HE GOT 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69920" y="762120"/>
            <a:ext cx="8804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DRUGS WERE SMUGGLED INTO AN OHIO PRISON BY TAPING THEM TO A GROUNDHOG, WHO WAS TRAINED TO BURROW UNDER THE PRISON F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73160" y="762120"/>
            <a:ext cx="8797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SALVADOR DALI WOULD GET OUT OF PAYING FOR DRINKS BY DRAWING ART ON THE CHECKS, MAKING THE BAR OWNERS UNWILLING TO CASH THE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6640" y="762120"/>
            <a:ext cx="7470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RE HASN'T BEEN A MURDER IN THE ENTIRE COUNTRY OF LICHTENSTEIN IN THE 2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52600" y="762120"/>
            <a:ext cx="8038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WORD "DEADLINE" COMES FROM CIVIL WAR PRISON CAMPS, WHEN THOSE WHO CROSSED A LINE WOULD BE KI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52400" y="762120"/>
            <a:ext cx="76392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YOU ARE MORE LIKELY TO GET A COMPUTER VIRUS FROM A RELIGIOUS WEBSITE THAN FROM A PORN SI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7304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SCIENTOLOGISTS BOUGHT AND DISMANTLED A TV NETWORK AFTER IT WAS CRITICAL OF THEIR RELIG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VIAGRA, WHEN DISSOLVED IN WATER, WILL ALSO KEEP PLANT LEAVES EREC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98360" y="762120"/>
            <a:ext cx="8747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ONE MAN DEVELOPED THE VACCINATIONS FOR HEPATITIS A &amp; B, MEASLES, MUMPS, CHICKENPOX, MENINGITIS, AND PNEUMO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09760" y="762120"/>
            <a:ext cx="8124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ORE THAN 100 TIMES AS MANY PEOPLE ARE KILLED BY DOGS EVERY YEAR THAN BY SHAR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95200" y="761760"/>
            <a:ext cx="8553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JUSTIN BIEBER ONCE HELD UP A SIGN FROM HIS HOTEL ROOM WINDOW SAYING "GO TO MCDONALD’S AND GET ME A BIG MAC", AND HE GOT ON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9440" y="761760"/>
            <a:ext cx="8925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DRUGS WERE SMUGGLED INTO AN OHIO PRISON BY TAPING THEM TO A GROUNDHOG, WHO WAS TRAINED TO BURROW UNDER THE PRISON FENC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50840" y="761760"/>
            <a:ext cx="8842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SALVADOR DALI WOULD GET OUT OF PAYING FOR DRINKS BY DRAWING ART ON THE CHECKS, MAKING THE BAR OWNERS UNWILLING TO CASH THEM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63400" y="761760"/>
            <a:ext cx="8017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WORD "DEADLINE" COMES FROM CIVIL WAR PRISON CAMPS, WHEN THOSE WHO CROSSED A LINE WOULD BE KI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08-26T19:05:57Z</dcterms:modified>
  <cp:revision>378</cp:revision>
  <dc:subject/>
  <dc:title>Slide 1</dc:title>
</cp:coreProperties>
</file>