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3DA9-D142-497A-8155-177351E57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5B85-66A7-4A9C-A6A2-AF632E7E9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0C31-F5F4-436E-9D2E-14DB80AC8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AB4D-7BBE-4E57-AD49-030D9C105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FEF7-DBA2-41DB-ABE5-D847EF6B2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86E8-8FAD-44E0-BA8B-7DE559A8D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8E76-A7F2-48DF-922B-9995C448F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3056-BB85-4583-813C-B0E31EDCB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5721-F80B-44EC-A70D-3471FF34E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11B1-D25F-419B-9967-AFBE927CA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B503-CC5E-40DC-9BAF-997F67FD5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5BF9-C2A4-4B8F-AFC7-4945FA124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9284-83BB-405D-BA34-1FB2BCDEB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0EDD-FBAA-45DE-A683-1D41AC3D8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0104-98A5-4725-8C70-9EA871ACA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8129-9238-4A1F-81F7-17DF6F739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16CA-A80A-414D-81F4-E6054F234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130C-626E-4E14-8477-3A8D43304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AD46-6183-4952-8A39-2B17F7635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51DE-0AB3-48BB-BF40-A56410744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BF91-9BEA-4958-ABFF-ACCFCB81A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E700-9DDD-4BE0-B50E-CBB27371F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6DC0-3D0E-41CE-B974-65139F33C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09640" y="761760"/>
            <a:ext cx="7524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YOU ARE MORE LIKELY TO GET A COMPUTER VIRUS FROM A RELIGIOUS WEBSITE THAN FROM A PORN S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04640" y="762120"/>
            <a:ext cx="8332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CIENTOLOGISTS BOUGHT AND DISMANTLED A TV NETWORK AFTER IT WAS CRITICAL OF THEIR RELIG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76160" y="762120"/>
            <a:ext cx="759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HASN'T BEEN A MURDER IN THE ENTIRE COUNTRY OF LICHTENSTEIN IN THE 2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82640" y="762120"/>
            <a:ext cx="757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VIAGRA, WHEN DISSOLVED IN WATER, WILL ALSO KEEP PLANT LEAVES ER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36520" y="771480"/>
            <a:ext cx="867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NE MAN DEVELOPED THE VACCINATIONS FOR HEPATITIS A &amp; B, MEASLES, MUMPS, CHICKENPOX, MENINGITIS, AND PNEUMO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592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20640" y="773280"/>
            <a:ext cx="790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100 TIMES AS MANY PEOPLE ARE KILLED BY DOGS EVERY YEAR THAN BY SHA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JUSTIN BIEBER ONCE HELD UP A SIGN FROM HIS HOTEL ROOM WINDOW SAYING "GO TO MCDONALD’S AND GET ME A BIG MAC", AND HE GOT 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69920" y="762120"/>
            <a:ext cx="880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DRUGS WERE SMUGGLED INTO AN OHIO PRISON BY TAPING THEM TO A GROUNDHOG, WHO WAS TRAINED TO BURROW UNDER THE PRISON F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73160" y="762120"/>
            <a:ext cx="8797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SALVADOR DALI WOULD GET OUT OF PAYING FOR DRINKS BY DRAWING ART ON THE CHECKS, MAKING THE BAR OWNERS UNWILLING TO CASH TH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6640" y="762120"/>
            <a:ext cx="747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HASN'T BEEN A MURDER IN THE ENTIRE COUNTRY OF LICHTENSTEIN IN THE 2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52600" y="762120"/>
            <a:ext cx="8038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WORD "DEADLINE" COMES FROM CIVIL WAR PRISON CAMPS, WHEN THOSE WHO CROSSED A LINE WOULD BE KI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52400" y="762120"/>
            <a:ext cx="7639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YOU ARE MORE LIKELY TO GET A COMPUTER VIRUS FROM A RELIGIOUS WEBSITE THAN FROM A PORN S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7304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CIENTOLOGISTS BOUGHT AND DISMANTLED A TV NETWORK AFTER IT WAS CRITICAL OF THEIR RELIG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VIAGRA, WHEN DISSOLVED IN WATER, WILL ALSO KEEP PLANT LEAVES ER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98360" y="762120"/>
            <a:ext cx="8747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NE MAN DEVELOPED THE VACCINATIONS FOR HEPATITIS A &amp; B, MEASLES, MUMPS, CHICKENPOX, MENINGITIS, AND PNEUMO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09760" y="762120"/>
            <a:ext cx="812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100 TIMES AS MANY PEOPLE ARE KILLED BY DOGS EVERY YEAR THAN BY SHAR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95200" y="761760"/>
            <a:ext cx="855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JUSTIN BIEBER ONCE HELD UP A SIGN FROM HIS HOTEL ROOM WINDOW SAYING "GO TO MCDONALD’S AND GET ME A BIG MAC", AND HE GOT 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9440" y="761760"/>
            <a:ext cx="892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DRUGS WERE SMUGGLED INTO AN OHIO PRISON BY TAPING THEM TO A GROUNDHOG, WHO WAS TRAINED TO BURROW UNDER THE PRISON FEN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0840" y="761760"/>
            <a:ext cx="8842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SALVADOR DALI WOULD GET OUT OF PAYING FOR DRINKS BY DRAWING ART ON THE CHECKS, MAKING THE BAR OWNERS UNWILLING TO CASH THE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63400" y="761760"/>
            <a:ext cx="8017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WORD "DEADLINE" COMES FROM CIVIL WAR PRISON CAMPS, WHEN THOSE WHO CROSSED A LINE WOULD BE KI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19:05:57Z</dcterms:modified>
  <cp:revision>378</cp:revision>
  <dc:subject/>
  <dc:title>Slide 1</dc:title>
</cp:coreProperties>
</file>