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89BF-9846-4207-829B-2F116D743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12988-A8EB-421A-90D0-05A8CB180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8100-9300-499D-92BA-E680D4157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44F2-B1A8-4108-B409-7B25A95D9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9702-E546-450C-BE8C-EF0FC5F3B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F64F-F4CB-4F46-9818-407835082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51828-CA8E-453E-8267-692DCD4F2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A4CA-CD34-4633-89C1-CED82AD0D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E9B2-17AE-45CB-B0E1-299031FF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EB3A-5ED9-4ECE-BA63-5C5CEC6F3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700D-9EF9-439C-AFEE-CB4D8443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ACC2-3748-492E-8179-6A169875B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C3F1-742C-4007-A0AE-31880254D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2A84C-4D30-4B68-86A4-6AA78FF0F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BE79-83D4-485A-894B-3DDA44B4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430FA-E304-4C07-A900-6B217C82D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1DDD-63B8-4C4F-8A1B-EAF0EAE1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5FE6-52BD-4916-8E07-7280E88B6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ECA2-BF91-45D2-B540-AD1A42349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4D02-20CA-416D-A3AC-95255AE2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88CD-BEF4-40A2-9A5A-8BFF8934C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F094-AC00-4BF8-B9C5-67437A7F9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EAE0-583F-4EEF-AEA6-BE49A646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RISTMAS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EVER TEXT MESSAGE WAS "MERRY CHRISTM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17400" y="762120"/>
            <a:ext cx="7909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ATALAN NATIVITY SCENES TYPICALLY FEATURE A DEFECATING PEAS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714680" y="4343400"/>
            <a:ext cx="5715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Y  BEGIN  ON   DECEMBER  25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2 DAYS OF CHRISTMAS BEGIN ON DECEMBER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3434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THE  DUTCH WORDS  FOR  THUNDER  AND  LIGHT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NER AND BLITZEN WERE ORIGINALLY KNOWN AS DUNDER AND BLIX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333440" y="4343400"/>
            <a:ext cx="64771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HE  WAS  PLAYED  BY  MICHAEL  CAI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"THE MUPPET CHRISTMAS CAROL", EBENEZER SCROOGE IS PLAYED BY STA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92200" y="762120"/>
            <a:ext cx="79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ILLIAM SHAKESPEARE WAS BORN ON CHRISTMAS DAY AND DIED ON CHRISTMAS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4120" y="762120"/>
            <a:ext cx="83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WHITE CHRISTMAS" BY BING CROSBY IS THE ALL-TIME BEST SELLING SINGLE WORLDWI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THEY  ARE  WH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4800" y="762120"/>
            <a:ext cx="793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STLETOE HAS RED BER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BBREVIATION "XMAS" COMES FROM THE GREEK NAME FOR CHRIST, "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ΧΡΙΣΤΌ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90560" y="762120"/>
            <a:ext cx="7562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12 DAYS OF CHRISTMAS BEGIN ON DECEMBER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3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57080" y="762120"/>
            <a:ext cx="7629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INGLE BELLS" WAS ORIGINALLY WRITTEN AS A THANKSGIVING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FIRST EVER TEXT MESSAGE WAS "MERRY CHRISTM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25600" y="762120"/>
            <a:ext cx="809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ATALAN NATIVITY SCENES TYPICALLY FEATURE A DEFECATING PEAS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88960" y="761760"/>
            <a:ext cx="7964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NER AND BLITZEN WERE ORIGINALLY KNOWN AS DUNDER AND BLIX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5760" y="762120"/>
            <a:ext cx="823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"THE MUPPET CHRISTMAS CAROL", EBENEZER SCROOGE IS PLAYED BY STAT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ILLIAM SHAKESPEARE WAS BORN ON CHRISTMAS DAY AND DIED ON CHRISTMAS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WHITE CHRISTMAS" BY BING CROSBY IS THE ALL-TIME BEST SELLING SINGLE WORLDWI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55560" y="761760"/>
            <a:ext cx="783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ISTLETOE HAS RED BER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30200" y="761760"/>
            <a:ext cx="828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ABBREVIATION "XMAS" COMES FROM THE GREEK NAME FOR CHRIST, "</a:t>
            </a:r>
            <a:r>
              <a:rPr b="0" lang="el-GR" sz="4000" spc="-1" strike="noStrike">
                <a:solidFill>
                  <a:srgbClr val="ffffff"/>
                </a:solidFill>
                <a:latin typeface="Arial"/>
              </a:rPr>
              <a:t>ΧΡΙΣΤΌΣ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37800" y="761760"/>
            <a:ext cx="726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"JINGLE BELLS" WAS ORIGINALLY WRITTEN AS A THANKSGIVING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9:06:25Z</dcterms:modified>
  <cp:revision>373</cp:revision>
  <dc:subject/>
  <dc:title>Slide 1</dc:title>
</cp:coreProperties>
</file>