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1FEF-B365-4203-BA32-4BC55E7C7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8031-3D1C-4027-8FE3-3C888422F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88CB-ADCD-42A0-AF3D-614FDC771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2F92-78D3-4DD7-8599-7DBDE3C49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D9DA-4258-4CC6-9755-B0D72EEA5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BF21-AF29-485C-99AD-CAAE76D93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C487-8844-4FE5-A203-518C55C5B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2A4E-686D-4216-B5C6-8C3289AE8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47BB-EC5D-404E-9306-AA1B7C658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303D-4155-4EA5-8ACE-7580E772E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0B7E-2EF1-4161-850B-CF2D7696C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1A42-9058-4EE6-BEB7-26ABD5ED0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2781-113C-4317-8408-1C564EE72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2DEA-D49D-4ED5-8241-1271B8DF0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46D0-4D72-483C-B474-355A74016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5282-757A-4A87-AD53-979307F57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430E-D354-4896-8B8C-B2A26FB3F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C181-6EB5-4089-94D0-C3463AB72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88AE-19B7-4C48-983C-453C00C43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4C8C-6248-4292-BAF0-BE0DCFA92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18CB-5FC6-4E51-BA98-38B6C4810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703B-6194-429B-B076-2E0AE0CA9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CFEE-070D-4053-8515-45F24C940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RISTMAS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FIRST EVER TEXT MESSAGE WAS "MERRY CHRISTM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17400" y="762120"/>
            <a:ext cx="7909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CATALAN NATIVITY SCENES TYPICALLY FEATURE A DEFECATING PEAS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714680" y="4343400"/>
            <a:ext cx="5715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THEY  BEGIN  ON   DECEMBER  25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12 DAYS OF CHRISTMAS BEGIN ON DECEMBER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3434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(THE  DUTCH WORDS  FOR  THUNDER  AND  LIGHTN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DONNER AND BLITZEN WERE ORIGINALLY KNOWN AS DUNDER AND BLIX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333440" y="4343400"/>
            <a:ext cx="6477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HE  WAS  PLAYED  BY  MICHAEL  CA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"THE MUPPET CHRISTMAS CAROL", EBENEZER SCROOGE IS PLAYED BY STAT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92200" y="762120"/>
            <a:ext cx="795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ILLIAM SHAKESPEARE WAS BORN ON CHRISTMAS DAY AND DIED ON CHRISTMAS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4120" y="762120"/>
            <a:ext cx="8339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WHITE CHRISTMAS" BY BING CROSBY IS THE ALL-TIME BEST SELLING SINGLE WORLDW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THEY  ARE  WH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4800" y="762120"/>
            <a:ext cx="7934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ISTLETOE HAS RED BER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ABBREVIATION "XMAS" COMES FROM THE GREEK NAME FOR CHRIST, "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</a:rPr>
              <a:t>ΧΡΙΣΤΌ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0560" y="762120"/>
            <a:ext cx="7562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12 DAYS OF CHRISTMAS BEGIN ON DECEMBER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36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57080" y="762120"/>
            <a:ext cx="7629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JINGLE BELLS" WAS ORIGINALLY WRITTEN AS A THANKSGIVING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FIRST EVER TEXT MESSAGE WAS "MERRY CHRIST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25600" y="762120"/>
            <a:ext cx="8092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CATALAN NATIVITY SCENES TYPICALLY FEATURE A DEFECATING PEAS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88960" y="761760"/>
            <a:ext cx="7964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DONNER AND BLITZEN WERE ORIGINALLY KNOWN AS DUNDER AND BLIX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5760" y="762120"/>
            <a:ext cx="823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"THE MUPPET CHRISTMAS CAROL", EBENEZER SCROOGE IS PLAYED BY STAT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06520" y="762120"/>
            <a:ext cx="8130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ILLIAM SHAKESPEARE WAS BORN ON CHRISTMAS DAY AND DIED ON CHRISTMAS 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WHITE CHRISTMAS" BY BING CROSBY IS THE ALL-TIME BEST SELLING SINGLE WORLDW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55560" y="761760"/>
            <a:ext cx="783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ISTLETOE HAS RED BER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30200" y="761760"/>
            <a:ext cx="8282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ABBREVIATION "XMAS" COMES FROM THE GREEK NAME FOR CHRIST, "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</a:rPr>
              <a:t>ΧΡΙΣΤΌ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37800" y="761760"/>
            <a:ext cx="726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JINGLE BELLS" WAS ORIGINALLY WRITTEN AS A THANKSGIVING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0-08-26T19:06:25Z</dcterms:modified>
  <cp:revision>373</cp:revision>
  <dc:subject/>
  <dc:title>Slide 1</dc:title>
</cp:coreProperties>
</file>