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9CFE-7675-4E0C-BEE0-9DC3709A4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B5AD-26D3-4C03-8094-95DEF105A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A1CF-D128-409E-BFF0-1A56F33B1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0F2E1-C2E9-4D9A-8BE5-A8083920D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A28D-7F3E-499B-AAD8-58C87E83C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14A8-6DE1-42AC-8D06-8D8424F03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DBB5-1E78-40F7-9D7E-9C0FDA355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CCF0-395E-4655-AE38-1D00DDF94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1713-384B-41E1-A641-04ABB644A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2E31C-48AC-4DE1-8151-4CEDC223B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41E2-460F-484C-872B-3F9725144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4CC3-636A-465D-86C7-3360C697E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4F485-1F2E-4CF7-AA6E-E0471E386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4EC6-A2DA-45E4-91DA-ED5F3D2EA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0910-2112-4577-BB0D-1581BC670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2C5A-A5AA-410D-B45F-436054935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DEFA-F0AF-44EE-BD19-05F0D66E2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5649-7226-4551-96AC-F65207C349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F3B94-92A7-4BD5-B14C-AAD6C9B75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944B4-9BF5-4828-A979-2E744986B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22ED-0D74-47A7-A925-C15C0A288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4E13-71C7-4E0C-BD16-0AB639024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3C46-59B2-4FDE-91D7-16982C003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562040"/>
            <a:ext cx="71625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OALA'S TEETH ARE YELLOW WHEN THEY ARE CL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UBBLE GUM CONTAINS RUBB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52440" y="762120"/>
            <a:ext cx="8439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NEW YORK TIMES'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BITUARY OF ELIZABETH TAYLOR, WHO DIED IN 2011, WAS WRITTEN BY SOMEONE WHO DIED IN 20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8  VS.  9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76160"/>
            <a:ext cx="7772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ELIZABETH TAYLOR WAS MARRIED MORE TIMES THAN ALL 4 BEATLES COMBIN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30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POLK  HAD  NON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71520" y="768240"/>
            <a:ext cx="8400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DONALD TRUMP IS THE ONLY U.S. PRESIDENT THAT DID NOT HAVE A PET IN WHITE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54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ONLY  ONE  HALF  CA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71640" y="73980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F YOU CUT AN EARTHWORM IN HALF, BOTH HALVES CAN REGROW THEIR BO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066680" y="4343400"/>
            <a:ext cx="7010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(BUT  THE  SKIN  AROUND  THEM  RETRAC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61960" y="762120"/>
            <a:ext cx="8020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FINGERNAILS AND HAIR KEEP GROWING AFTER YOU DI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OWNER OF THE COMPANY THAT MAKES SEGWAYS DIED AFTER ACCIDENTALLY DRIVING HIS SEGWAY OFF A CLIF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            THE ORIGINAL NAME OF PAC-MAN WAS PUCK-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52440" y="762120"/>
            <a:ext cx="8439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NEW YORK TIMES'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BITUARY OF ELIZABETH TAYLOR, WHO DIED IN 2011, WAS WRITTEN BY SOMEONE WHO DIED IN 20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N ENGLISH, THERE ARE MORE 5-LETTER WORDS THAN 12-LETTER WO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66880" y="762120"/>
            <a:ext cx="7410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KOALA'S TEETH ARE YELLOW WHEN THEY ARE CL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019160" y="762120"/>
            <a:ext cx="7105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UBBLE GUM CONTAINS RUBB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IZABETH TAYLOR WAS MARRIED MORE TIMES THAN ALL 4 BEATLES COMBIN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52440" y="762120"/>
            <a:ext cx="843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DONALD TRUMP IS THE ONLY U.S. PRESIDENT THAT DID NOT HAVE A PET IN WHITE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CUT AN EARTHWORM IN HALF, BOTH HALVES CAN REGROW THEIR BO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61960" y="761760"/>
            <a:ext cx="8020080" cy="33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NGERNAILS AND HAIR KEEP GROWING AFTER YOU DI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47840" y="761760"/>
            <a:ext cx="8248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WNER OF THE COMPANY THAT MAKES SEGWAYS DIED AFTER ACCIDENTALLY DRIVING HIS SEGWAY OFF A CLIF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          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RIGINAL NAME OF PAC-MAN WAS PUCK-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ENGLISH, THERE ARE MORE 5-LETTER WORDS THAN 12-LETTER WO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8-26T19:07:06Z</dcterms:modified>
  <cp:revision>344</cp:revision>
  <dc:subject/>
  <dc:title>Slide 1</dc:title>
</cp:coreProperties>
</file>