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5A3-95AB-4C3D-A0B8-F955756F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3C7-34B8-4711-B9EA-E96FE87C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777-7640-4E5F-8D76-1845D725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5ADB-7821-4E5C-A394-0A4D8EF9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D1F-9D2B-4FAE-86E7-7DEBEEB3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32C6-D046-4017-9C0F-069C3FBA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7375-0D86-4721-8EDD-FB73B5D2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1E2-3E79-443F-B94C-F45A24E4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ED1-FE48-42AE-8B20-09F7E5F0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30E-79E8-4C35-9831-4C521F1F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382-037B-4972-B8CC-5B9FEBA9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884E-74AB-49E8-8358-AD3A3ABF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B293-88C4-4FC3-9E7A-8D65325F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BA86-6C7E-4B7B-84B6-0666F26B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EE8-8515-4A9D-BFE8-DB1DB9F0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2F6-C3A7-4D4D-A452-8F34F226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C09-39AF-42B1-B728-F77E5C7C0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615-C19B-4BDE-AC72-F83AE26D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CE0-2E2C-453E-A260-CEE9DA65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93A-57D8-4B4E-AE5D-03EC18D1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B22-F37E-4060-83AD-AAE192BA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6F4-3D41-4CDB-BFA4-3EFEE20F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6DF-AAD2-4894-AB55-5BEA10A6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6204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ALA'S TEETH ARE YELLOW WHEN THEY ARE CL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8  VS.  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7616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LIZABETH TAYLOR WAS MARRIED MORE TIMES THAN ALL 4 BEATLES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POLK  HAD  N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1520" y="768240"/>
            <a:ext cx="84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ONLY  ONE  HALF  C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1640" y="7398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F YOU CUT AN EARTHWORM IN HALF, BOTH HALVES CAN REGROW THEIR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  SKIN  AROUND  THEM  RETRAC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INGERNAILS AND HAIR KEEP GROWING AFTER YOU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WNER OF THE COMPANY THAT MAKES SEGWAYS DIED AFTER ACCIDENTALLY DRIVING HIS SEGWAY OFF A CLI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THE ORIGINAL NAME OF PAC-MAN WAS PUCK-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ENGLISH, THERE ARE MORE 5-LETTER WORDS THAN 12-LETTER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66880" y="762120"/>
            <a:ext cx="7410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KOALA'S TEETH ARE YELLOW WHEN THEY ARE CL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19160" y="762120"/>
            <a:ext cx="7105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MORE TIMES THAN ALL 4 BEATLES COMB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CUT AN EARTHWORM IN HALF, BOTH HALVES CAN REGROW THEIR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GERNAILS AND HAIR KEEP GROWING AFTER YOU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WNER OF THE COMPANY THAT MAKES SEGWAYS DIED AFTER ACCIDENTALLY DRIVING HIS SEGWAY OFF A CLI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RIGINAL NAME OF PAC-MAN WAS PUCK-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THERE ARE MORE 5-LETTER WORDS THAN 12-LETTER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19:07:06Z</dcterms:modified>
  <cp:revision>344</cp:revision>
  <dc:subject/>
  <dc:title>Slide 1</dc:title>
</cp:coreProperties>
</file>