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BD99-6BA0-4E7D-BFCC-3A84864D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4C99-9F9A-4DC4-9A29-B377D234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0520-27E4-4B22-ACD3-2C6CE85B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499-BA11-428E-9689-D2462152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FEED-3CA8-48A6-9B12-CD0C2093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F4E-7A6D-4C24-8689-96B3F3E4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6953-37D7-4C84-A5A1-C867121F4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4161-F750-44AB-9CDD-4B14A0D4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7E8B-A18B-47E6-81B2-673F1FFC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1110-8E56-47F6-BE61-0B87E27A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9402-9380-4B80-BCD3-724427299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AD9D-B944-43A1-A5E5-E690ABBFE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3B67-1AF1-4FD5-A2B6-6E811CDEE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3EB2-AB6B-461F-9DD4-ABBFA2CA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0000-C7A0-4AB2-9F3A-86900DF3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640E-5193-4576-B160-F1741908A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6544-8270-4C2E-8D03-F493FD70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156A-83BF-47C3-AD8E-CE354498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45F8-0FCC-4298-939E-2DE4005B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394E-69E4-42FD-BED1-9650F3448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4D66-3C3C-4357-994D-E931257C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A84-6FF3-4531-A59B-DC5EF9A02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9CA-52B0-4D62-A5C3-6946C125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6204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ALA'S TEETH ARE YELLOW WHEN THEY ARE CL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UBBLE GUM CONTAINS RUB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5244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'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BITUARY OF ELIZABETH TAYLOR, WHO DIED IN 2011, WAS WRITTEN BY SOMEONE WHO DIED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8  VS.  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7616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ELIZABETH TAYLOR WAS MARRIED MORE TIMES THAN ALL 4 BEATLES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POLK  HAD  NO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71520" y="768240"/>
            <a:ext cx="840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IS THE ONLY U.S. PRESIDENT THAT DID NOT HAVE A PET I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ONLY  ONE  HALF  C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71640" y="7398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F YOU CUT AN EARTHWORM IN HALF, BOTH HALVES CAN REGROW THEIR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3434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UT  THE  SKIN  AROUND  THEM  RETRAC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INGERNAILS AND HAIR KEEP GROWING AFTER YOU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WNER OF THE COMPANY THAT MAKES SEGWAYS DIED AFTER ACCIDENTALLY DRIVING HIS SEGWAY OFF A CLI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      THE ORIGINAL NAME OF PAC-MAN WAS PUCK-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'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BITUARY OF ELIZABETH TAYLOR, WHO DIED IN 2011, WAS WRITTEN BY SOMEONE WHO DIED IN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ENGLISH, THERE ARE MORE 5-LETTER WORDS THAN 12-LETTER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66880" y="762120"/>
            <a:ext cx="7410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KOALA'S TEETH ARE YELLOW WHEN THEY ARE CL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19160" y="762120"/>
            <a:ext cx="7105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UBBLE GUM CONTAINS RUB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MORE TIMES THAN ALL 4 BEATLES COMBI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IS THE ONLY U.S. PRESIDENT THAT DID NOT HAVE A PET I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CUT AN EARTHWORM IN HALF, BOTH HALVES CAN REGROW THEIR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GERNAILS AND HAIR KEEP GROWING AFTER YOU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WNER OF THE COMPANY THAT MAKES SEGWAYS DIED AFTER ACCIDENTALLY DRIVING HIS SEGWAY OFF A CLI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RIGINAL NAME OF PAC-MAN WAS PUCK-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THERE ARE MORE 5-LETTER WORDS THAN 12-LETTER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19:07:06Z</dcterms:modified>
  <cp:revision>344</cp:revision>
  <dc:subject/>
  <dc:title>Slide 1</dc:title>
</cp:coreProperties>
</file>