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78D2-AE22-4894-9DCB-65847CE3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2DD-5E16-4505-9F7B-A2739A1ED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1B75-222B-43E5-B952-403A90CE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B0A9-CDA6-4B33-B06D-9CA9EF9D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8FE-8198-40F6-A6E4-910FF701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9DBD-45AB-4CF0-B349-24FBF3A0E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C5A1-2B9E-453E-B4E5-8A1610457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8D1C-2610-4EFB-BB9C-303C6CF5C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B4DC-490B-489D-A909-F008A3BD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1D49-9385-419D-B945-9EB41BD7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5B27-5F38-4F73-82A4-D7B12E48C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0F29-3DC5-4B22-BFD9-49FFB078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A4DD-7811-4078-858C-70FA238C3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20F9-B457-4CF1-A439-0B6698660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FA3D-3724-43D4-BDB1-F00154533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E1E9-EC2A-4AD9-BC47-B7208777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E55-79A1-47CD-B75D-BA1BE209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C787-87C8-4206-A6AC-BB17A345C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8E76-29F1-4BB0-BD72-75830914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088-2F5B-4EEA-8FDB-58A7D03C1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1BC9-F3AF-465C-A729-8E1DB11D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57E5-BF88-4C56-AA89-CB159FB9E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E03-A60F-4BFE-8806-8D8EE5E7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33344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LAYED THE PRESIDENT ON THESE TV SHOW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LOUIS–DREY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ENA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GOLDW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U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EST 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HAYS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IL TO THE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EP" (SEASONS 4 AND 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MMANDER IN C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IGNATED SURVIV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77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CAND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1600 PEN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4" (SEASONS 2 AND 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5:15:31Z</dcterms:created>
  <dc:creator>Jennifer Budzinski</dc:creator>
  <dc:description/>
  <dc:language>en-US</dc:language>
  <cp:lastModifiedBy>Erich Friedman</cp:lastModifiedBy>
  <dcterms:modified xsi:type="dcterms:W3CDTF">2020-09-04T14:20:46Z</dcterms:modified>
  <cp:revision>328</cp:revision>
  <dc:subject/>
  <dc:title>Slide 1</dc:title>
</cp:coreProperties>
</file>