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B7E-B1E9-4084-A273-0D8F95002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8B3-1096-44EB-8527-6842309C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66C-14BD-4E1A-BA80-261CB36E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C6E1-83B4-4119-9C7D-0DF01F7C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41C-4DFD-444C-B81E-F02F52D6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A6A-8FF4-405A-A399-53316C64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22C-DDBA-4555-BD65-1AFD6E22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422-FA8F-480A-953C-B99F723B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C2E3-F75C-4864-A5A6-442813A3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163-13AE-4F0F-99EF-65D484B6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7F5D-4413-4A05-99C7-74BD54E1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3C8-2557-416F-9AA7-D009D60A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313-EAB9-46EC-AF84-20525916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C91-8E81-4E6C-88EF-7D0282D9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F9AC-E645-43CA-BE79-64CA5DDBF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CDCD-72C9-48DD-AD50-F27E4057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AD8E-ED85-46A4-BDB1-58A8FB83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9B6-C3FF-48F3-91A7-6EBB757E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C9D0-0688-4519-BBCE-FE5A2CFF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315-E181-432F-BA5F-8B3E937F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540-11F3-483A-9364-81FBEDE8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A77-D011-4000-861A-D713CEB2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CCE-EAE1-4F30-B09F-75DDD4406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33344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LAYED THE PRESIDENT ON THESE TV SHOW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LOUIS–DREY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ENA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GOLDW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HAYS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5:15:31Z</dcterms:created>
  <dc:creator>Jennifer Budzinski</dc:creator>
  <dc:description/>
  <dc:language>en-US</dc:language>
  <cp:lastModifiedBy>Erich Friedman</cp:lastModifiedBy>
  <dcterms:modified xsi:type="dcterms:W3CDTF">2020-09-04T14:20:46Z</dcterms:modified>
  <cp:revision>328</cp:revision>
  <dc:subject/>
  <dc:title>Slide 1</dc:title>
</cp:coreProperties>
</file>