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42E9-639D-4117-A956-90D94423D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A06D-22A8-4EDB-9BE8-9BD42C275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4F53-6C9E-46CA-A754-F39C959AC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DF65-B226-41ED-9D24-D2494B0A1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E984-06DA-4C4C-BF38-5113EF5EF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359B-7FBB-4154-8C8E-7CD554904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EEBD-9B91-40F4-A8EB-3C0DC69CD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21CB-41B7-48DE-83E9-693E94354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8B25-1C0F-4012-BF63-EFD4438D4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EF30-3DC9-48A0-AB49-18BC81946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AC88-87CB-49E4-9A3F-929502CFA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5FDC-30D8-417B-BC5B-1F1C12A7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29A9-71FF-4C95-AB70-8DC98BF68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26A0-6C72-40B0-812C-068252F7D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E4DA-18A2-4060-A1EC-E460D3BF9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7DDE-3CAE-48E8-A659-07E5B8566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9B99-A667-4C57-8DF6-2CE698AE0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CF79-8D25-44D6-AF84-8CA6B4786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9D52-BD4B-474A-8FE4-E73DC9731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5578-4A70-4789-8DEB-A605D18F8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D593-455C-4D76-B4D3-D844F6CCB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C95A-823D-4331-BA16-CAE6EE835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0146-2951-4895-8FC8-DC939E5B8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133344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PLAYED THE PRESIDENT ON THESE TV SHOW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IL TO THE CHIE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DAM  SECRE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SH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638360" y="762120"/>
            <a:ext cx="5867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WEST W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LOUIS–DREYF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EEP" (SEASONS 4 AND 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ENA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MMANDER IN CHI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EFER  SUTH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SIGNATED SURVIV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GOLDWY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CAND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SPAC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CA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PULL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1600 PEN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WEST W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NIS  HAYS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4" (SEASONS 2 AND 3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Y  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IL TO THE CHI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CARRAD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DAM  SECRE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EEP" (SEASONS 4 AND 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MMANDER IN CHI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SIGNATED SURVIV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CAND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CAR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1600 PEN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4" (SEASONS 2 AND 3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5:15:31Z</dcterms:created>
  <dc:creator>Jennifer Budzinski</dc:creator>
  <dc:description/>
  <dc:language>en-US</dc:language>
  <cp:lastModifiedBy>Erich Friedman</cp:lastModifiedBy>
  <dcterms:modified xsi:type="dcterms:W3CDTF">2020-09-04T14:20:46Z</dcterms:modified>
  <cp:revision>328</cp:revision>
  <dc:subject/>
  <dc:title>Slide 1</dc:title>
</cp:coreProperties>
</file>