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6043-9201-451A-9039-85383F415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F3E0-ECE0-4DCC-89F2-40EB1A15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3AA4-10E3-460A-B3A6-7859ACC6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DBE4-EAD5-400E-993A-040321F1B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7061-6F18-4ABA-BDC1-5E5F82655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8EE1-32CE-4AF0-A9E0-8F2AB52AE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3FA4-D6B7-410B-8E97-D9011735F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9C61-DE9B-4C24-B1AB-1D4220516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5CF5-A8C3-4194-A151-43407BB4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1C16-537E-4B26-894B-245638052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781A-8AC9-4A02-A52B-0C90F84F2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69EE-B952-4C8C-AD84-D3F5D9A04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573A-89C8-4AB9-9254-DBFD2F33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AAC8-6B80-478B-89EF-4C1022E71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AC90-E566-42C5-8084-AC4031E24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FE33-04A6-4257-A6A4-91784CC05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2359-E385-45FF-809E-D94A586B6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C1F5-04DC-4E28-BB19-FBABF2BB8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64D6-9426-4324-A600-F81B8FCB2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EB07-EA3B-4C3A-8BEF-3818CB23A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D463-C458-4778-949B-C89F8DAAA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5191-A3BD-4DF9-B447-C450ADCAF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F32-D172-489F-952D-5111133BF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NEIGHB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9040" y="761760"/>
            <a:ext cx="776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ANN ROMANO AND HER DAUGHTERS ON "ONE DAY AT A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95240" y="762120"/>
            <a:ext cx="7551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THEODORE MATHERS ON "LEAVE IT TO B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D  FL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24040" y="762120"/>
            <a:ext cx="7494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TV NEIGHBOR ON "THE SIMP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3280" y="762120"/>
            <a:ext cx="8675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LEONARD AND SHELDON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  QUAGM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5280" y="762120"/>
            <a:ext cx="781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PETER AND LOIS GRIFFIN ON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UR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84320" y="762120"/>
            <a:ext cx="877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CARL AND HARRIETTE WINSLOW ON "FAMILY MAT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  W.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7484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TIM AND JILL TAYLOR ON "HOME IMPROVE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1720" y="762120"/>
            <a:ext cx="808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N "DENNIS THE MEN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MY  GI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4200" y="762120"/>
            <a:ext cx="763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DANNY TANNER ON "FULL 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TV NEIGHBOR ON "THE SIMP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BENT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68160" y="762120"/>
            <a:ext cx="780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N "THE JEFFER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YNE  SCHNE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6720" y="762120"/>
            <a:ext cx="7810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ANN ROMANO AND HER DAUGHTERS ON "ONE DAY AT A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HASK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THEODORE MATHERS ON "LEAVE IT TO B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89000" y="761760"/>
            <a:ext cx="876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LEONARD AND SHELDON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1400" y="762120"/>
            <a:ext cx="78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PETER AND LOIS GRIFFIN ON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02680" y="762120"/>
            <a:ext cx="8736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CARL AND HARRIETTE WINSLOW ON "FAMILY MATT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TIM AND JILL TAYLOR ON "HOME IMPROVEM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N "DENNIS THE MEN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F DANNY TANNER ON "FULL 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82480" y="761760"/>
            <a:ext cx="797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TV NEIGHBOR ON "THE JEFFER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3-02T12:49:14Z</dcterms:modified>
  <cp:revision>378</cp:revision>
  <dc:subject/>
  <dc:title>Slide 1</dc:title>
</cp:coreProperties>
</file>