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4B5D-CF1C-407F-9732-48F1FC445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D9B5-58DD-4D53-92C0-047C4A79F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3738-FB61-4726-A1B2-B291DAD86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6A62-3526-4835-B2D2-4B561D53B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238C-7205-47D5-B203-4D23D56D8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F381-6D63-4640-946F-44AEC269B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C00B-0264-4992-9E8C-57784A368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4BB2-4098-4682-B577-F909A6C1D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5865-137D-4D65-8F6B-54B886A9A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E2E0-651C-4ED8-AC69-F538F1240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187B-AED3-4D56-8E98-E49FE0BB3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3AA1-61FB-4A2F-A4B1-0BF7ED9DB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1EB2-365B-4CE4-813C-D873B2466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AC07-FDC7-476B-883C-979101AF4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8E00-98CD-4F3B-969E-89EC61860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D284-E5A9-4D7C-8BAC-98B3F4209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05C1-DE44-4FA8-AAB5-2E1B56888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299B-C22F-4865-8A80-09187316C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EE33-8F5B-447C-84D0-A7BB0F5B5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35D7-BAF2-4F25-84B9-75BEF852C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6289-5A13-43B3-91A6-BF24924CB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45C6-6C8F-4036-B97A-F5B806E31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33D3-F755-4ED7-8B13-766569741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NEIGHB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9040" y="761760"/>
            <a:ext cx="776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ANN ROMANO AND HER DAUGHTERS ON "ONE DAY AT A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95240" y="762120"/>
            <a:ext cx="7551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THEODORE MATHERS ON "LEAVE IT TO BEA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D  FL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24040" y="762120"/>
            <a:ext cx="7494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TV NEIGHBOR ON "THE SIMPS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3280" y="762120"/>
            <a:ext cx="8675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LEONARD AND SHELDON ON "THE BIG BANG THE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  QUAGM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65280" y="762120"/>
            <a:ext cx="781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PETER AND LOIS GRIFFIN ON "FAMILY GU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UR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84320" y="762120"/>
            <a:ext cx="877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CARL AND HARRIETTE WINSLOW ON "FAMILY MATT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  W.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7484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TIM AND JILL TAYLOR ON "HOME IMPROVEM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1720" y="762120"/>
            <a:ext cx="808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N "DENNIS THE MEN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MY  GIB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54200" y="762120"/>
            <a:ext cx="763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DANNY TANNER ON "FULL HO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8640" y="762120"/>
            <a:ext cx="7685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TV NEIGHBOR ON "THE SIMPSO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BENT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68160" y="762120"/>
            <a:ext cx="7807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N "THE JEFFERS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AYNE  SCHNE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66720" y="762120"/>
            <a:ext cx="78105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ANN ROMANO AND HER DAUGHTERS ON "ONE DAY AT A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HASK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THEODORE MATHERS ON "LEAVE IT TO BEA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89000" y="761760"/>
            <a:ext cx="876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LEONARD AND SHELDON ON "THE BIG BANG THE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71400" y="762120"/>
            <a:ext cx="780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PETER AND LOIS GRIFFIN ON "FAMILY GU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02680" y="762120"/>
            <a:ext cx="8736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CARL AND HARRIETTE WINSLOW ON "FAMILY MATT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3440" y="761760"/>
            <a:ext cx="8277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TIM AND JILL TAYLOR ON "HOME IMPROVEM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41440" y="761760"/>
            <a:ext cx="806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N "DENNIS THE MEN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12800" y="761760"/>
            <a:ext cx="7718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DANNY TANNER ON "FULL HOU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82480" y="761760"/>
            <a:ext cx="7979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N "THE JEFFERSO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3-02T12:49:14Z</dcterms:modified>
  <cp:revision>378</cp:revision>
  <dc:subject/>
  <dc:title>Slide 1</dc:title>
</cp:coreProperties>
</file>