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65F7-34AD-46C7-B77B-A5CA8A661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F5A3-AEBF-47D8-8161-CCAC64DA7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2351F-5E5B-48C1-AE44-1099AFE86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6A52-A165-4FE4-92E3-659E250A6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D4E9-AA85-43AE-8680-EED5BB476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B445-1AA2-4465-979A-8E174C8CB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22F9E-D5C1-467F-B173-8BA47A2FB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5DCD-2935-4454-B935-EC2AF2CFC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6C92-0B9F-4D07-8562-60A5DD9BC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8E1C-5A1D-48FA-8B6A-636F29493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A70B-0DF5-460E-8127-632AD59F0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4286-4DB0-421E-AF73-6BD771B76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7A2F-9FFA-4F62-A9D7-2D014B4D0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84E3-6D3D-44FA-8D72-B1933FF50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FCF3-8169-4712-80CC-C7F2A756B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855A-759C-4C3C-8A59-49490EE3B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AC4D-0D82-42FA-ABF9-C1EF4B68A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DD28-FA8B-4505-82BA-91D0076F3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E0AB-41D1-4AFA-A462-770463C22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7DD9-2336-4758-9EBE-67257F2D9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0719-31CD-4B74-BD54-DB4A58B1E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4BA0-2F4C-432F-BB1B-17FDC855F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313A-A865-4E0A-8F01-C35484CC2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68580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      TV SHOWS WITH "GOOD" IN THE 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5-2021 HALLMARK CHANNEL DRAMA ABOUT A MOTHER-DAUGHTER SUPERNATURA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9-2011 FOOD NETWORK AND 2011-2012 COOKING CHANNEL SHOW HOSTED BY ALTON BR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600200" y="762120"/>
            <a:ext cx="5943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74-1979 CBS SITCOM STARRING ESTER ROLLE, JOHN AMOS, AND JIMMY WAL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8-2021 NBC COMEDY STARRING RETTA, CHRISTINA HENDRICKS, AND MAE WHIT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TR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09800" y="762120"/>
            <a:ext cx="712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9-PRESENT SPIN-OFF OF "THE FOSTERS" THAT AIRS ON FREE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OD 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6-2020 NBC SHOW STARRING KRISTEN BELL AND TED DA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9528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BEHAV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6-2017 TNT DRAMA ABOUT A CON ARTIST WHO GETS INVOLVED WITH A HIT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B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6-PRESENT HGTV SHOW ABOUT A MOTHER-DAUGHTER TEAM CALLED "TWO CHICKS AND A HAMM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OD  DO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7-PRESENT ABC MEDICAL SHOW ABOUT AN AUTISTIC SURGE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62040" y="762120"/>
            <a:ext cx="6019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74-1979 CBS SITCOM STARRING ESTER ROLLE, JOHN AMOS, AND JIMMY WAL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OD  W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4880" y="762120"/>
            <a:ext cx="7734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09-2016 CBS LEGAL DRAMA WITH JULIANNA MARGULIES, CHRISTINE BARANSKI, AND ALAN CUM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80" y="4952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66680" y="762120"/>
            <a:ext cx="7010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5-2021 HALLMARK CHANNEL DRAMA ABOUT A MOTHER-DAUGHTER SUPERNATURA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999-2011 FOOD NETWORK AND 2011-2012 COOKING CHANNEL SHOW HOSTED BY ALTON BR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8-2021 NBC COMEDY STARRING RETTA, CHRISTINA HENDRICKS, AND MAE WHIT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9-PRESENT SPIN-OFF OF "THE FOSTERS" THAT AIRS ON FREE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6-2020 NBC SHOW STARRING KRISTEN BELL AND TED DA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6-2017 TNT DRAMA ABOUT A CON ARTIST WHO GETS INVOLVED WITH A HIT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6-PRESENT HGTV SHOW ABOUT A MOTHER-DAUGHTER TEAM CALLED "TWO CHICKS AND A HAMM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17-PRESENT ABC MEDICAL SHOW ABOUT AN AUTISTIC SURGE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009-2016 CBS LEGAL DRAMA WITH JULIANNA MARGULIES, CHRISTINE BARANSKI, AND ALAN CUM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1T17:18:17Z</dcterms:created>
  <dc:creator>Jennifer Budzinski</dc:creator>
  <dc:description/>
  <dc:language>en-US</dc:language>
  <cp:lastModifiedBy>Erich Friedman</cp:lastModifiedBy>
  <dcterms:modified xsi:type="dcterms:W3CDTF">2022-03-07T14:32:54Z</dcterms:modified>
  <cp:revision>351</cp:revision>
  <dc:subject/>
  <dc:title>Slide 1</dc:title>
</cp:coreProperties>
</file>