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07A8-D43A-47F9-807F-8C7D05BCD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5F3E-E8BD-4AF3-B7E8-D983A575C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511C-E356-4D5B-990E-3076AC401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0985-4642-4D61-BDDA-603D5D193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B129-0A69-48A6-8888-A72022A3D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89AB-0356-407B-90B4-6040A468D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5999-BAC2-460B-885F-BCD7D301C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751A-910C-4C6B-A2A4-44EEB0B17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C7EB-83AD-4D53-8B8E-DAA1DB316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5945-F1D9-437C-902C-28C83974B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2486-ED26-45AF-89B5-357CA0FD9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59CD-E477-47DF-99BD-065D3FEC1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1749-4657-4F5A-B440-AF743B693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F071-F76B-40CD-8F57-CF4412C5E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0CC5-2908-4C55-AA9B-4AE4CD75B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1804-3F23-4E05-B21E-5879DEF1C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694C-B47F-4F1C-9EAB-597E7C5DD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0F4E-4569-41ED-9DB8-21B09887C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D3FF-E509-4A22-9B76-E83C926D8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CA6D-891B-46A9-BC87-0977D6D2B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D596-282D-4207-981B-3010E1E82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BF9E-7044-4357-B26E-D0C0ABB5C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C92F-E9CA-478B-961B-AB021AE27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68580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      TV SHOWS WITH "GOOD" IN THE TIT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5-2021 HALLMARK CHANNEL DRAMA ABOUT A MOTHER-DAUGHTER SUPERNATURAL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99-2011 FOOD NETWORK AND 2011-2012 COOKING CHANNEL SHOW HOSTED BY ALTON BR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  T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600200" y="762120"/>
            <a:ext cx="5943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74-1979 CBS SITCOM STARRING ESTER ROLLE, JOHN AMOS, AND JIMMY WAL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  GIR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57160" y="762120"/>
            <a:ext cx="742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8-2021 NBC COMEDY STARRING RETTA, CHRISTINA HENDRICKS, AND MAE WHIT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  TROU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09800" y="762120"/>
            <a:ext cx="7124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9-PRESENT SPIN-OFF OF "THE FOSTERS" THAT AIRS ON FREEFO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OOD 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6-2020 NBC SHOW STARRING KRISTEN BELL AND TED DAN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19040" y="495288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 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212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6-2017 TNT DRAMA ABOUT A CON ARTIST WHO GETS INVOLVED WITH A HIT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  B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33520" y="762120"/>
            <a:ext cx="80769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6-PRESENT HGTV SHOW ABOUT A MOTHER-DAUGHTER TEAM CALLED "TWO CHICKS AND A HAMM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2280" y="495288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OOD  DO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7-PRESENT ABC MEDICAL SHOW ABOUT AN AUTISTIC SURGE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62040" y="762120"/>
            <a:ext cx="6019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74-1979 CBS SITCOM STARRING ESTER ROLLE, JOHN AMOS, AND JIMMY WAL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OOD  W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04880" y="762120"/>
            <a:ext cx="7734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09-2016 CBS LEGAL DRAMA WITH JULIANNA MARGULIES, CHRISTINE BARANSKI, AND ALAN CUMM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80" y="4952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  W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66680" y="762120"/>
            <a:ext cx="7010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5-2021 HALLMARK CHANNEL DRAMA ABOUT A MOTHER-DAUGHTER SUPERNATURA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  E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952560" y="762120"/>
            <a:ext cx="723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99-2011 FOOD NETWORK AND 2011-2012 COOKING CHANNEL SHOW HOSTED BY ALTON BR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8-2021 NBC COMEDY STARRING RETTA, CHRISTINA HENDRICKS, AND MAE WHIT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9-PRESENT SPIN-OFF OF "THE FOSTERS" THAT AIRS ON FREEFO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6-2020 NBC SHOW STARRING KRISTEN BELL AND TED DAN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6-2017 TNT DRAMA ABOUT A CON ARTIST WHO GETS INVOLVED WITH A HIT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6-PRESENT HGTV SHOW ABOUT A MOTHER-DAUGHTER TEAM CALLED "TWO CHICKS AND A HAMM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7-PRESENT ABC MEDICAL SHOW ABOUT AN AUTISTIC SURGE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09-2016 CBS LEGAL DRAMA WITH JULIANNA MARGULIES, CHRISTINE BARANSKI, AND ALAN CUMM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1T17:18:17Z</dcterms:created>
  <dc:creator>Jennifer Budzinski</dc:creator>
  <dc:description/>
  <dc:language>en-US</dc:language>
  <cp:lastModifiedBy>Erich Friedman</cp:lastModifiedBy>
  <dcterms:modified xsi:type="dcterms:W3CDTF">2022-03-07T14:32:54Z</dcterms:modified>
  <cp:revision>351</cp:revision>
  <dc:subject/>
  <dc:title>Slide 1</dc:title>
</cp:coreProperties>
</file>