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0F0F-9038-4089-A796-F1A5E094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83D3-58F6-421A-9DA2-236244D08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2E8A-9BAE-4898-8A05-D1AF8E43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91A1-448C-48E1-8CBF-E5287AF39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D0B2-ED66-41C4-9152-C2951AD6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5863-78C2-4E5C-972D-180DA27D9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B5EC-AEDF-4166-8A87-ED2F486F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2D1-F996-4736-A8C3-028FA9E1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36C2-304E-49FE-ADB6-B2A7FFF54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DD5B-28FB-4B4E-8E50-2566576F3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09A6-3907-4DCA-882D-306FC41B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AEEB-760D-47E9-91EE-244C8944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5B89-AF65-4E25-809D-F75FDAFA2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1358-5105-4DB4-8884-A0C3091C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5412-B429-4F51-9CFA-B807C595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B623-490E-4ED1-82DA-CB267F157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4A3B-D72A-4558-9E80-54695BB21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8770-8E9F-4536-9809-9A2FC5793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340E-C16B-4375-BE3D-BB200190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D529-F526-4E71-9E6F-672285FDB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CAB0-6AB0-4161-98E6-5E103BB65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894F-6893-46D0-8392-868CC3213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6798-73BF-44AF-A147-1209D7D29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4000" y="1066680"/>
            <a:ext cx="849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V SHOWS WERE FAMOUS FOR THESE LIN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3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RM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25440" y="762120"/>
            <a:ext cx="849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TER IS COM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L  STREET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9720" y="762120"/>
            <a:ext cx="7862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 CAREFUL OUT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89240" y="762120"/>
            <a:ext cx="6364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MY GOD, THEY KILLED KE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X–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8240" y="762120"/>
            <a:ext cx="88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RUTH IS OUT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33360" y="762120"/>
            <a:ext cx="667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OME AT THE KING, YOU BEST NOT M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F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520" y="762120"/>
            <a:ext cx="894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RVEY SAYS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OBY  D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53880" y="762120"/>
            <a:ext cx="8436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T ROH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05120" y="4419720"/>
            <a:ext cx="53337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 WANTS  TO  BE  A  MILLIONAI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26960" y="762120"/>
            <a:ext cx="829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S THAT YOUR FINAL ANSW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3880" y="762120"/>
            <a:ext cx="79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 CAREFUL OUT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FF'RENT  STRO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87280" y="762120"/>
            <a:ext cx="6782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 'CHU TALKIN' 'BOUT, WILL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0040" y="762120"/>
            <a:ext cx="814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RM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OF  THR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TER IS COM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47280" y="761760"/>
            <a:ext cx="6046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MY GOD, THEY KILLED KE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6440" y="762120"/>
            <a:ext cx="887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RUTH IS OUT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04400" y="762120"/>
            <a:ext cx="7132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OME AT THE KING, YOU BEST NOT MI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RVEY SAYS..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04640" y="761760"/>
            <a:ext cx="833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T ROH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7520" y="761760"/>
            <a:ext cx="8508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S THAT YOUR FINAL ANSW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84120" y="761760"/>
            <a:ext cx="6575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 'CHU TALKIN' 'BOUT, WILL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6-20T18:43:14Z</dcterms:modified>
  <cp:revision>403</cp:revision>
  <dc:subject/>
  <dc:title>Slide 1</dc:title>
</cp:coreProperties>
</file>