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12B-12E1-45CC-AA91-30FA1319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F44-3B9A-44CB-9679-2A8A71BC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05B-9AC3-43BB-86C8-3680F301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46F-6D84-4441-B1BB-7F199767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117-3DBF-4798-A2EA-7F8A809E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161-560E-466B-83F2-08E74148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A98-C033-4233-93FB-431F7C02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10F-70FD-40F6-BCEB-734A6C93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4E3-DA46-4953-8949-AD786ED5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4A9-6639-46D6-9428-2506DF7A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1D34-D0AB-4BC8-9019-2D54436C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4CD-4786-4987-A86D-EEDB0032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5C1B-F825-43F9-89D1-4547AB63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977A-9CFB-41ED-8349-3291A05F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D1B-BF25-4035-88DC-6A680E2DD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96A-9AC1-498D-9235-82488DB5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56C6-7AC6-49AC-96D9-9F7D0920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1655-A8C8-4346-B359-CCDED46F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9DB2-0891-451C-9EEE-D2D921F5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FB3-79D8-4529-A916-22C6648F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1FD-05E0-480E-8DBC-E07D4504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DA3-66A1-4290-9A47-C87664A4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3B3-1871-48B2-8258-41B4658E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066680"/>
            <a:ext cx="849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WERE FAMOUS FOR THESE LIN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RM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TER IS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  STREET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9720" y="762120"/>
            <a:ext cx="7862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 CAREFUL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89240" y="762120"/>
            <a:ext cx="6364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MY GOD, THEY KILLED KE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RUTH IS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33360" y="762120"/>
            <a:ext cx="66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OME AT THE KING, YOU BEST NOT M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F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520" y="762120"/>
            <a:ext cx="894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RVEY SAY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BY  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3880" y="762120"/>
            <a:ext cx="843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T ROH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5120" y="4419720"/>
            <a:ext cx="5333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WANTS  TO  BE  A  MILLION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 THAT YOUR FINAL ANSW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9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 CAREFUL OUT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FF'RENT  STRO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87280" y="762120"/>
            <a:ext cx="6782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'CHU TALKIN' 'BOUT, WILL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RM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TER IS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280" y="761760"/>
            <a:ext cx="604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MY GOD, THEY KILLED KE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RUTH IS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04400" y="762120"/>
            <a:ext cx="7132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OME AT THE KING, YOU BEST NOT MI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RVEY SAYS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T ROH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761760"/>
            <a:ext cx="850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 THAT YOUR FINAL ANSW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84120" y="761760"/>
            <a:ext cx="657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'CHU TALKIN' 'BOUT, WILL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6-20T18:43:14Z</dcterms:modified>
  <cp:revision>403</cp:revision>
  <dc:subject/>
  <dc:title>Slide 1</dc:title>
</cp:coreProperties>
</file>