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25B3-A155-43A9-ABB3-59810215B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EDE5-B046-4B20-91BE-6C44FD84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F71D-7B20-447B-AEBF-81BC0E636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5C11-DD3B-4B96-82CD-905D0538D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FE7F-9B49-4ECC-A945-02E769B14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B0D6-1041-4AD7-84EE-05998216A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97DA-9A5E-4920-B0C0-B04FEC177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CAEA-C22F-4A76-AE0C-1F150F629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1252F-E22B-475D-B277-D61BB2B11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9D9A-3A37-4E42-BF9A-79ECBD082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2E57-E677-4940-944D-25568614B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47C8-3C35-4409-9C73-537ADACE0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E710-1DC5-4445-BEF4-6E4167BC9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9F8C-9132-4DBC-856C-26BF2300C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03E9-056B-4EDA-A93C-3EA990337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E31E-A087-47A4-A557-4B8E6C36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C3A2-D739-4711-A1C1-AF67BA8D0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D110-EE55-4A68-9256-21E3B0DD5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3D1B-0751-43FA-A45F-CEB49C6CA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B29A-9339-43F0-804F-38255C98A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4EDE-F08B-40DA-A82D-916BC663A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36B4-F08B-4171-B638-D90DE2B93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AD98-0AE4-4839-B1FB-4F06FC38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TV TITLES    (½ CREDIT FOR ONE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9-1988 SITCOM ABOUT     AN ALL-GIRLS BOARDING SCHOOL &amp; 1989-1993 SHOW ABOUT A FAMILY WITH A DOWN SYNDROME 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2021 DRAMA ABOUT A   POOR MEXICAN WOMAN WHO BECOMES A DRUG LORD &amp;  1997-CURRENT SATIRICAL ANIMATED SHOW ABOUT 4 KI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752480" y="450216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TELL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RU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R  CON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2-1981 AND REBOOTED GAME SHOW CURRENTLY HOSTED   BY ANTHONY ANDERSON &amp;      1950-1978 GAME SHOW INVOLVING WACKY STUN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2920" y="4876920"/>
            <a:ext cx="885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OF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IL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TREET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85840" y="762120"/>
            <a:ext cx="8572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7-2009 ANIMATED SITCOM ABOUT A TEXAS FAMILY &amp; 1981-1987 POLICE SERIES THAT WON 4 CONSECUTIVE GRAMMYS FOR OUTSTANDING DR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THRE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ONS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  AN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0-1972 SITCOM STARRING FRED MACMURRAY &amp; 2008-2014 CRIME DRAMA ABOUT A MOTORCYCLE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CES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OLLYWOO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QU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0-2019 CELEBRITY GOSSIP SERIES &amp; 1966-1981, 1986-1989, AND 1998-2004 TIC-TAC-TOE THEMED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ER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QUEE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FOR  A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3200" y="762120"/>
            <a:ext cx="8877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0-1952 AND 1975-1976 DETECTIVE SERIES BASED ON FREDERIC DANNAY NOVELS &amp; 1956-1964 GAME SHOW FOR WOMEN HOSTED BY JACK BA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T  I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PAC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:  19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5-1968 AND 2018-2021 SCI-FI SERIES ABOUT THE ROBINSON FAMILY &amp; 1975-1977 SCI-FI SERIES ABOUT THE MOON LEAVING EARTH'S OR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  AND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IT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N  THE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8-2004 HBO ROMANTIC COMEDY ABOUT 4 WOMEN IN NYC &amp; CURRENT SHOWTIME SHOW SET IN 1990'S BOSTON STARRING KEVIN BA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2-1981 AND REBOOTED GAME SHOW CURRENTLY HOSTED BY ANTHONY ANDERSON &amp;      1950-1978 GAME SHOW INVOLVING WACKY STUN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7920" y="4495680"/>
            <a:ext cx="6248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  54,  WHERE  AR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YOU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ET  YOUR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1-1963 POLICE SITCOM MADE INTO A BAD 1994 FILM &amp; 1947-1961 GAME SHOW ORIGINALLY HOSTED BY GROUCHO MAR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685800" y="4876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ACTS  OF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IF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OES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9-1988 SITCOM ABOUT     AN ALL-GIRLS BOARDING SCHOOL &amp; 1989-1993 SHOW ABOUT A FAMILY WITH A DOWN SYNDROME 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OF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OU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2021 DRAMA ABOUT A   POOR MEXICAN WOMAN WHO BECOMES A DRUG LORD &amp;  1997-CURRENT SATIRICAL ANIMATED SHOW ABOUT 4 KI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7-2009 ANIMATED SITCOM ABOUT A TEXAS FAMILY &amp; 1981-1987 POLICE SERIES THAT WON 4 CONSECUTIVE GRAMMYS FOR OUTSTANDING DR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0-1972 SITCOM STARRING FRED MACMURRAY &amp; 2008-2014 CRIME DRAMA ABOUT A MOTORCYCLE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0-2019 CELEBRITY GOSSIP SERIES &amp; 1966-1981, 1986-1989, AND 1998-2004 TIC-TAC-TOE THEMED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4120" y="762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50-1952 AND 1975-1976 DETECTIVE SERIES BASED ON FREDERIC DANNAY NOVELS &amp; 1956-1964 GAME SHOW FOR WOMEN HOSTED BY JACK BA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5-1968 AND 2018-2021 SCI-FI SERIES ABOUT THE ROBINSON FAMILY &amp; 1975-1977 SCI-FI SERIES ABOUT THE MOON LEAVING EARTH'S ORB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8-2004 HBO ROMANTIC COMEDY ABOUT 4 WOMEN IN NYC &amp; CURRENT SHOWTIME SHOW SET IN 1990'S BOSTON STARRING KEVIN BAC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61-1963 POLICE SITCOM MADE INTO A BAD 1994 FILM &amp; 1947-1961 GAME SHOW ORIGINALLY HOSTED BY GROUCHO MAR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6:08:44Z</dcterms:created>
  <dc:creator>Jennifer Budzinski</dc:creator>
  <dc:description/>
  <dc:language>en-US</dc:language>
  <cp:lastModifiedBy>Erich Friedman</cp:lastModifiedBy>
  <dcterms:modified xsi:type="dcterms:W3CDTF">2022-08-21T18:40:07Z</dcterms:modified>
  <cp:revision>357</cp:revision>
  <dc:subject/>
  <dc:title>Slide 1</dc:title>
</cp:coreProperties>
</file>