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BE32A-A2CC-42EA-8B1C-36AFE24089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00334-3EB2-4452-8CB4-EECFA0A68B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3547F-325A-4900-B4A0-2A774FF593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A631B-15C2-45A5-BC5C-1EABFA3A4C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25BCD-4B5F-42C0-B1F1-DA85A8AFC1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20425-AC85-4192-BA1C-BE7C1AD0DC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2CBA2-0FFB-453B-84C1-7110A3AC96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66C86-EFBE-485F-9240-10FF4CB9C5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E0BDC-09B5-44A8-9144-596E48ACA4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47CA1-E485-4AB2-A28D-CB6EC4CE45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566EA-95E8-471F-8B5C-C82C8FCCE1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3322F-CF1D-4877-B71C-99A4C605D1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5AE1B-331E-4265-B052-562AE91D72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72A6A-B9D8-479E-94BE-EB5B8E0E31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3C063-9177-44EF-B7DD-CC4CE011DC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E127D-3707-4963-8A3D-301C9AC357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0EFD7-1BCF-4523-AC34-262496DE07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14FEB-6A31-49C9-8717-5BD8F73EAE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D5DF0-E20F-4D50-BDEB-FF47C5E693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4F0E6-0E64-40AD-945C-09842E4394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7BC48-11BE-4507-9BE9-136BF67927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16112-FB94-4849-AA55-D671CD8B48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ED094-B78C-4376-8D30-B74C87B44F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VERLAPPING TV TITLES    (½ CREDIT FOR ONE)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723960" y="761760"/>
            <a:ext cx="7696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979-1988 SITCOM ABOUT     AN ALL-GIRLS BOARDING SCHOOL &amp; 1989-1993 SHOW ABOUT A FAMILY WITH A DOWN SYNDROME S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209520" y="762120"/>
            <a:ext cx="8724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2016-2021 DRAMA ABOUT A   POOR MEXICAN WOMAN WHO BECOMES A DRUG LORD &amp;  1997-CURRENT SATIRICAL ANIMATED SHOW ABOUT 4 KI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1752480" y="4502160"/>
            <a:ext cx="56390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  TELL  THE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TRUTH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OR  CONSEQUE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304920" y="762120"/>
            <a:ext cx="85341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962-1981 AND REBOOTED GAME SHOW CURRENTLY HOSTED   BY ANTHONY ANDERSON &amp;      1950-1978 GAME SHOW INVOLVING WACKY STUNT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142920" y="4876920"/>
            <a:ext cx="88581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ING  OF  THE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HILL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STREET  BL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285840" y="762120"/>
            <a:ext cx="85723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997-2009 ANIMATED SITCOM ABOUT A TEXAS FAMILY &amp; 1981-1987 POLICE SERIES THAT WON 4 CONSECUTIVE GRAMMYS FOR OUTSTANDING DRAM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876920"/>
            <a:ext cx="83059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Y  THREE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SONS 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F  AN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838080" y="762120"/>
            <a:ext cx="7467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960-1972 SITCOM STARRING FRED MACMURRAY &amp; 2008-2014 CRIME DRAMA ABOUT A MOTORCYCLE CLUB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43080" y="4876920"/>
            <a:ext cx="84582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CCESS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HOLLYWOOD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SQUA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609480" y="762120"/>
            <a:ext cx="792504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2010-2019 CELEBRITY GOSSIP SERIES &amp; 1966-1981, 1986-1989, AND 1998-2004 TIC-TAC-TOE THEMED GAME SHOW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 marL="222840" indent="-2228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LLERY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QUEEN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FOR  A  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133200" y="762120"/>
            <a:ext cx="88776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950-1952 AND 1975-1976 DETECTIVE SERIES BASED ON FREDERIC DANNAY NOVELS &amp; 1956-1964 GAME SHOW FOR WOMEN HOSTED BY JACK BAIL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723960" y="4876920"/>
            <a:ext cx="76960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OST  IN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SPACE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:  199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419040" y="762120"/>
            <a:ext cx="83059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965-1968 AND 2018-2021 SCI-FI SERIES ABOUT THE ROBINSON FAMILY &amp; 1975-1977 SCI-FI SERIES ABOUT THE MOON LEAVING EARTH'S ORBI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343080" y="4876920"/>
            <a:ext cx="8458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EX  AND  THE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CITY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ON  THE  HI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380880" y="762120"/>
            <a:ext cx="83822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998-2004 HBO ROMANTIC COMEDY ABOUT 4 WOMEN IN NYC &amp; CURRENT SHOWTIME SHOW SET IN 1990'S BOSTON STARRING KEVIN BAC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285840" y="762120"/>
            <a:ext cx="85723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962-1981 AND REBOOTED GAME SHOW CURRENTLY HOSTED BY ANTHONY ANDERSON &amp;      1950-1978 GAME SHOW INVOLVING WACKY STUNTS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1447920" y="4495680"/>
            <a:ext cx="62481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R  54,  WHERE  ARE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YOU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BET  YOUR  LIF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228600" y="762120"/>
            <a:ext cx="86868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961-1963 POLICE SITCOM MADE INTO A BAD 1994 FILM &amp; 1947-1961 GAME SHOW ORIGINALLY HOSTED BY GROUCHO MARX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685800" y="4876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FACTS  OF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LIFE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GOES  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819000" y="762120"/>
            <a:ext cx="75060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979-1988 SITCOM ABOUT     AN ALL-GIRLS BOARDING SCHOOL &amp; 1989-1993 SHOW ABOUT A FAMILY WITH A DOWN SYNDROME S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QUEEN  OF  THE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SOUTH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PA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209520" y="762120"/>
            <a:ext cx="8724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2016-2021 DRAMA ABOUT A   POOR MEXICAN WOMAN WHO BECOMES A DRUG LORD &amp;  1997-CURRENT SATIRICAL ANIMATED SHOW ABOUT 4 KI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04920" y="76176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997-2009 ANIMATED SITCOM ABOUT A TEXAS FAMILY &amp; 1981-1987 POLICE SERIES THAT WON 4 CONSECUTIVE GRAMMYS FOR OUTSTANDING DRAM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838080" y="762120"/>
            <a:ext cx="7467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960-1972 SITCOM STARRING FRED MACMURRAY &amp; 2008-2014 CRIME DRAMA ABOUT A MOTORCYCLE CLUB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2010-2019 CELEBRITY GOSSIP SERIES &amp; 1966-1981, 1986-1989, AND 1998-2004 TIC-TAC-TOE THEMED GAME SHOW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14120" y="762120"/>
            <a:ext cx="89154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950-1952 AND 1975-1976 DETECTIVE SERIES BASED ON FREDERIC DANNAY NOVELS &amp; 1956-1964 GAME SHOW FOR WOMEN HOSTED BY JACK BAIL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80880" y="7617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965-1968 AND 2018-2021 SCI-FI SERIES ABOUT THE ROBINSON FAMILY &amp; 1975-1977 SCI-FI SERIES ABOUT THE MOON LEAVING EARTH'S ORBI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61800" y="761760"/>
            <a:ext cx="8420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998-2004 HBO ROMANTIC COMEDY ABOUT 4 WOMEN IN NYC &amp; CURRENT SHOWTIME SHOW SET IN 1990'S BOSTON STARRING KEVIN BAC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24000" y="761760"/>
            <a:ext cx="84960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961-1963 POLICE SITCOM MADE INTO A BAD 1994 FILM &amp; 1947-1961 GAME SHOW ORIGINALLY HOSTED BY GROUCHO MARX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4T16:08:44Z</dcterms:created>
  <dc:creator>Jennifer Budzinski</dc:creator>
  <dc:description/>
  <dc:language>en-US</dc:language>
  <cp:lastModifiedBy>Erich Friedman</cp:lastModifiedBy>
  <dcterms:modified xsi:type="dcterms:W3CDTF">2022-08-21T18:40:07Z</dcterms:modified>
  <cp:revision>357</cp:revision>
  <dc:subject/>
  <dc:title>Slide 1</dc:title>
</cp:coreProperties>
</file>