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2AE4-B646-4CDC-8DF4-AF45AADCD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3FCB-DD5A-416D-9F64-EE786C0F1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D577-9BF9-4B6C-B8DA-E26218777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5F45-7176-4460-A923-8FB322264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1385-1EBA-46F1-8CE1-1B0EDFAD0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92E-3AA9-4806-A76B-F4AE4ABD7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A399-D6FA-49BB-9118-DF817AF99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350E-0BFC-4BAF-B34B-C185C478F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8F4E-A3E8-4BBB-ADD6-47A4F25DA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A906-ABDC-4EAE-9CFB-E658B5902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3A68-4BEF-433E-A29D-960672D7C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08C7-BC15-4963-BA4B-93163E6B1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6E21-A6E9-4E94-9CCD-3713F5259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99DF-FA94-4FB6-B1F7-10B101B8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FF52-19E3-405D-A40F-4F893F5A2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4E9F-0A06-4250-AE1B-25D9141B2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DA9E-8BFB-4EF7-A62C-03D1CF9A1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D1A9-7408-4D02-B159-D110468C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E3FB-4F36-4F51-ACEA-7ECB0FBA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7587-332A-470F-B108-23C4D2AE6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29CD-85D5-4100-B08C-D7BEE41DD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51E2-474A-4C9C-A1FA-841470031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1D39-8816-45A9-AAC5-6089BFEB0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-LETTER TV SH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-2022 TV SERIES CREATED BY DR. PHIL WAS ABOUT HIS TIME AS A TRIAL CONSUL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9360" y="762120"/>
            <a:ext cx="858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DRAMA STARRED MATTHEW MORRISON AND JANE LYNCH AS TEAC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*A*S*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3880" y="762120"/>
            <a:ext cx="78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-20 TV PROGRAMS EVER WATCHED ARE 19  SUPER BOWLS AND THE FINALE OF WHAT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81080" y="762120"/>
            <a:ext cx="6981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PROGRAM ON PBS HAS WON 15 E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C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28800" y="771480"/>
            <a:ext cx="72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BESIDES FOOTBALL HAS BEEN IN THE TOP 3 WATCHED SHOWS SINCE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X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6720" y="762120"/>
            <a:ext cx="833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 STARRED        JUDD HIRSCH, DANNY DEVITO,  TONY DANZA, ANDY KAUFMAN, AND CHRISTOPHER LLOY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28560" y="762120"/>
            <a:ext cx="788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BILLY CRYSTAL GET HIS START, PLAYING JODIE DALLAS,  TV'S FIRST UNAMBIGUOUSLY GAY MAIN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84160" y="762120"/>
            <a:ext cx="7375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HOW DID TONY SHALHOUB STAR AS AN OBSESSIVE-COMPULSIVE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THAT TAKES PLACE ON AN ISLAND CAUSED THOUSANDS OF PEOPLE TO PICK THE NUMBERS 4, 8, 15, 16, 23, AND 42 IN LOTT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-20 TV PROGRAMS EVER WATCHED ARE 19  SUPER BOWLS AND THE FINALE OF WHAT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ITY CRIME SHOW IN ITS 3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HAS THE THEME SONG "BAD BO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46160" y="762120"/>
            <a:ext cx="7050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-2022 TV SERIES CREATED BY DR. PHIL WAS ABOUT HIS TIME AS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84040" y="762120"/>
            <a:ext cx="857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DRAMA STARRED MATTHEW MORRISON AND JANE LYNCH AS TEAC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11240" y="761760"/>
            <a:ext cx="7120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PROGRAM ON PBS HAS WON 15 E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34920" y="762120"/>
            <a:ext cx="727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BESIDES FOOTBALL HAS BEEN IN THE TOP 3 WATCHED SHOWS SINCE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09680" y="762120"/>
            <a:ext cx="832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 STARRED        JUDD HIRSCH, DANNY DEVITO,  TONY DANZA, ANDY KAUFMAN, AND CHRISTOPHER LLOY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8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BILLY CRYSTAL GET HIS START, PLAYING JODIE DALLAS,  TV'S FIRST UNAMBIGUOUSLY GAY MAIN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HOW DID TONY SHALHOUB STAR AS AN OBSESSIVE-COMPULSIVE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THAT TAKES PLACE ON AN ISLAND CAUSED THOUSANDS OF PEOPLE TO PICK THE NUMBERS 4, 8, 15, 16, 23, AND 42 IN LOTT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ITY CRIME SHOW IN ITS 3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HAS THE THEME SONG "BAD BO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3-01-07T18:37:19Z</dcterms:modified>
  <cp:revision>378</cp:revision>
  <dc:subject/>
  <dc:title>Slide 1</dc:title>
</cp:coreProperties>
</file>