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7EB4A-314D-41B3-89E7-0348E7137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DE66-7EAF-4B69-8C1B-C0585EA9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4323-B16D-4245-8113-DD2D203B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740B-2D47-4C2D-89E8-FB155C129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48D-0B58-4020-B1F5-58E51B1B6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C0BB-4164-4DEC-AC13-863200E9C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C5DC-B4CC-4804-89C3-FB023B8B3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13EB-B86A-47D3-8B6B-266270607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008E-9CE4-4D2A-9041-1B5F27586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A513-4EC0-4FC3-AFA6-1ACDFB0BA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1468-63E1-434F-9097-3F55DC900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5B8F-A3B9-4100-AF49-E373111E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D30D-E443-40EA-81D0-FD26162A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DBBC-A318-4EC3-96B4-30090FF16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9419-EB5B-4DCF-8E5C-21C9FACD9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8FF3-79BF-459B-BDF6-6CC403555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4957-5FF4-41B5-A3E7-711A48210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6A8F-4BFF-4E8C-8D35-787DB3CA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BA3-7814-4C51-95D8-9850A8C2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0D5-2F11-42A7-9965-5AA1ACDA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0345-699D-4904-B707-3C05335FC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FA57-ECE9-4A15-A97D-95A24C38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2AF4-CF27-4BD2-8EA6-30CDA719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-LETTER TV SHOW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22 TV SERIES CREATED BY DR. PHIL WAS ABOUT HIS TIME AS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9360" y="762120"/>
            <a:ext cx="8585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RAMA STARRED MATTHEW MORRISON AND JANE LYNCH AS TEAC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*A*S*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-20 TV PROGRAMS EVER WATCHED ARE 19  SUPER BOWLS AND THE FINALE OF WHAT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81080" y="762120"/>
            <a:ext cx="6981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PROGRAM ON PBS HAS WON 15 E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C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28800" y="771480"/>
            <a:ext cx="72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BESIDES FOOTBALL HAS BEEN IN THE TOP 3 WATCHED SHOWS SINCE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X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6720" y="762120"/>
            <a:ext cx="833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STARRED        JUDD HIRSCH, DANNY DEVITO,  TONY DANZA, ANDY KAUFMAN, AND CHRISTOPHER LL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BILLY CRYSTAL GET HIS START, PLAYING JODIE DALLAS,  TV'S FIRST UNAMBIGUOUSLY GAY MAIN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84160" y="762120"/>
            <a:ext cx="7375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OW DID TONY SHALHOUB STAR AS AN OBSESSIVE-COMPULSIV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THAT TAKES PLACE ON AN ISLAND CAUSED THOUSANDS OF PEOPLE TO PICK THE NUMBERS 4, 8, 15, 16, 23, AND 42 IN LOTT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-20 TV PROGRAMS EVER WATCHED ARE 19  SUPER BOWLS AND THE FINALE OF WHAT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CRIME SHOW IN ITS 3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HAS THE THEME SONG "BAD BO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46160" y="762120"/>
            <a:ext cx="7050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22 TV SERIES CREATED BY DR. PHIL WAS ABOUT HIS TIME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84040" y="762120"/>
            <a:ext cx="857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RAMA STARRED MATTHEW MORRISON AND JANE LYNCH AS TEAC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11240" y="761760"/>
            <a:ext cx="7120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PROGRAM ON PBS HAS WON 15 E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34920" y="762120"/>
            <a:ext cx="727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BESIDES FOOTBALL HAS BEEN IN THE TOP 3 WATCHED SHOWS SINCE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9680" y="762120"/>
            <a:ext cx="832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STARRED        JUDD HIRSCH, DANNY DEVITO,  TONY DANZA, ANDY KAUFMAN, AND CHRISTOPHER LLOY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42960" y="762120"/>
            <a:ext cx="7858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BILLY CRYSTAL GET HIS START, PLAYING JODIE DALLAS,  TV'S FIRST UNAMBIGUOUSLY GAY MAIN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OW DID TONY SHALHOUB STAR AS AN OBSESSIVE-COMPULSIV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THAT TAKES PLACE ON AN ISLAND CAUSED THOUSANDS OF PEOPLE TO PICK THE NUMBERS 4, 8, 15, 16, 23, AND 42 IN LOTT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ITY CRIME SHOW IN ITS 3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 HAS THE THEME SONG "BAD BO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3-01-07T18:37:19Z</dcterms:modified>
  <cp:revision>378</cp:revision>
  <dc:subject/>
  <dc:title>Slide 1</dc:title>
</cp:coreProperties>
</file>