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363-2CD4-403B-AE88-32C3DAAE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071D-C394-483D-9355-2A43E040F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EC50-AAA5-4701-B1C6-93682253B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CA37-AE01-482D-8C44-2DBC1E1A2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64CE-DDE8-4C36-A4E9-FFA9A6DEE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46FE-096A-48B1-82BE-4B7E451A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5066-A8BB-4BC3-A9AE-0700B46AF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423E-683F-4689-B3BE-68B0B114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8856-9E77-457D-B46B-8004808F2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8138-159E-403C-A480-BAF26DA86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362B-71C0-4667-926D-AE5564E1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EB8-4567-4EAD-B01D-77EFD4C9E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A81D-BDB9-4A5C-9B2F-6745B2ED7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2D3A-256F-4621-BBB9-57FC958D7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878-35A7-415C-A960-9E87BC55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1C49-4731-45BB-B928-DFD863472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B224-ADB3-48FA-99F6-F7714D81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45B8-3A9D-4A9C-8C8B-6CB33460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60B7-2C31-4BB2-8272-3509B6A32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573A-4C9E-4F4E-A048-839EC5722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6E88-02EE-433F-88D0-CD8CBA6BB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9AF8-F0B5-4F85-902B-82A34C1D2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2BCC-698E-40CA-BD93-87A8799E6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HAD THESE FICTIONAL BA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DA B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I  MET  YOUR  MO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LAUREN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MP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E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057400" y="4419720"/>
            <a:ext cx="5029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LWAYS  SUNNY  IN  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523880" y="762120"/>
            <a:ext cx="6096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DY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G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RUNKEN CL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M SA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Y  THE  VAMPIRE  S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ON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CLAUREN'S P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ERN  EXPO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9528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DA B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43280" y="4419720"/>
            <a:ext cx="5257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:  THE  NEXT 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2396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FOR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E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DY'S P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RUNKEN CL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M SAL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ON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6:46:28Z</dcterms:created>
  <dc:creator>Jennifer Budzinski</dc:creator>
  <dc:description/>
  <dc:language>en-US</dc:language>
  <cp:lastModifiedBy>Erich Friedman</cp:lastModifiedBy>
  <dcterms:modified xsi:type="dcterms:W3CDTF">2022-08-23T16:09:11Z</dcterms:modified>
  <cp:revision>336</cp:revision>
  <dc:subject/>
  <dc:title>Slide 1</dc:title>
</cp:coreProperties>
</file>