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CE88-41D9-4D1D-84F6-20C20B67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67C-2578-4AFD-96C4-B5D4F7BC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EBC-5438-4FB9-ACFD-FBAD6CC2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4102-C46A-412F-BFAC-7C37DC4F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4EB6-B40C-4B03-97CA-0CEF5CBB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444-62C1-459E-8271-81D9B2CD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B280-9BF1-4E6F-B7AD-CEF09243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091-6C28-4FB1-89FC-D900CCA0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A16-6CF1-471C-8855-C4B277E2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DE9-41EC-4897-BBD9-90407965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609-6D19-403D-B646-5B4BAF1D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14F-507A-4136-8B32-176E4915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AD10-36D0-46F8-BC23-8288D92B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2DF-A3EC-4915-BD15-A677F620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1FC-D765-40D8-8890-9167E90B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4421-DA44-4521-83AE-F72B68B6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E43F-3472-4052-BE1B-F1F30B7E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914-883B-4A75-9C3A-BFF70D3E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AA2-5E4C-4023-96D2-6C61E1DC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A62B-A228-42AB-ACE2-6A03FC78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D6D-794C-48EE-A436-155B2921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73CA-4CFF-43F6-9C04-3D5660D7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24E7-729A-433C-A21D-B1973787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HAD THESE FICTIONAL BA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DA B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I  MET  YOUR  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LAUREN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MP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E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057400" y="4419720"/>
            <a:ext cx="5029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LWAYS  SUNNY  IN  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23880" y="762120"/>
            <a:ext cx="6096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DY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G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RUNKEN C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M SA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Y  THE  VAMPIRE  S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ON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LAUREN'S P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ERN 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DA B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43280" y="44197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:  THE  NEXT 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2396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E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DY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RUNKEN C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M SAL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ON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6:46:28Z</dcterms:created>
  <dc:creator>Jennifer Budzinski</dc:creator>
  <dc:description/>
  <dc:language>en-US</dc:language>
  <cp:lastModifiedBy>Erich Friedman</cp:lastModifiedBy>
  <dcterms:modified xsi:type="dcterms:W3CDTF">2022-08-23T16:09:11Z</dcterms:modified>
  <cp:revision>336</cp:revision>
  <dc:subject/>
  <dc:title>Slide 1</dc:title>
</cp:coreProperties>
</file>